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8D17-1662-4263-8451-DA27D4122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C888-54CC-49CD-B23A-BA41D72C2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8F45-7308-4869-8362-9FDBEEB39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2F7C-5023-4642-8FC2-E2987DC40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0ADC-E705-4413-A56B-6751A6F4D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5E2F-C5D8-4D95-A55E-C31BF6B80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B251-559F-4B7F-8327-2D61D33FE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4414-0A92-4AAD-A729-68866F621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9907-3048-470D-8364-40A3688B1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059C-C321-4E23-AEB1-7120039B6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D09B-14A9-4D21-A9BC-331596828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1687-55E6-4BC5-9DA5-0ABBD9FCA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C2C36-F1C2-462B-B52F-919B292F0E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FSDETEC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6868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SSDETEC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6868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4-22T14:38:00Z</dcterms:created>
  <dc:creator>Cytometry Laboratories</dc:creator>
  <dc:description/>
  <dc:language>en-US</dc:language>
  <cp:lastModifiedBy>Cytometry Laboratories</cp:lastModifiedBy>
  <dcterms:modified xsi:type="dcterms:W3CDTF">1998-04-22T14:46:18Z</dcterms:modified>
  <cp:revision>2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>TelfordW@hss.edu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K:\htdocs\flowcyt\educate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