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977-2F22-4E12-BC78-D06D645E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F9C-9984-4579-A96C-DA81CB76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4D8-0CE4-4FA5-BF1E-5F5B5FCC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224-F01D-4EB8-8C2F-06FED9B3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EFC-5ADF-41E8-B5E9-C7FFE693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074-DE1A-4BEB-8B3C-2D43A431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8F9-C781-495C-B6D3-2449BE38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5B7-E03E-425F-B84C-B54C1E65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8D0-EFAB-49B9-91C2-33468984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A9D-614B-4F15-9D6B-07CAB44A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867-902E-4D3B-9A21-49CC565C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FB9-4D85-4FAC-B0E3-E3B27C70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618A-9D15-44C5-ACCD-2410D48B6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MCA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XRD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T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P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Y5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ECY5SP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TCPED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ITCPECY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RET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54:34Z</dcterms:created>
  <dc:creator>Cytometry Laboratories</dc:creator>
  <dc:description/>
  <dc:language>en-US</dc:language>
  <cp:lastModifiedBy>Cytometry Laboratories</cp:lastModifiedBy>
  <dcterms:modified xsi:type="dcterms:W3CDTF">1998-04-22T15:05:12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