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636F-1AD1-4309-9AD4-0EE09B31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211F-0415-4F55-981A-8E780A24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DF0E-B874-4691-AC95-5E5AB721C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F0B8-52F0-431F-B821-65A5BEAF7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9E7F-2616-402E-B414-1FC57D80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C5DB-FCD6-4AF0-B543-5533FAEA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81BC-B827-4F33-B1E3-5FC53CE4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5604-78F0-4CF1-BD79-9DE0092D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FF17-7B4F-4899-B291-8987400E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130A-2008-40B3-A57F-461C96EC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2FDF-DF7F-49F9-81F1-1C4A7EA1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8AF8-CA67-4A8E-B656-C88B4BAB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E029-EC6E-4B0E-8BAA-181C1710C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57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FSDETEC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5345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SSDETEC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5341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5COLOR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104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2T13:55:51Z</dcterms:created>
  <dc:creator>Cytometry Laboratories</dc:creator>
  <dc:description/>
  <dc:language>en-US</dc:language>
  <cp:lastModifiedBy>Cytometry Laboratories</cp:lastModifiedBy>
  <dcterms:modified xsi:type="dcterms:W3CDTF">1998-04-22T14:28:36Z</dcterms:modified>
  <cp:revision>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TelfordW@hss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K:\htdocs\flowcyt\educate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