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1.pn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8542440" y="5789520"/>
            <a:ext cx="49680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3225960" y="220680"/>
            <a:ext cx="24112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Flow C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341280" y="1440000"/>
            <a:ext cx="8225280" cy="4016160"/>
            <a:chOff x="341280" y="1440000"/>
            <a:chExt cx="8225280" cy="4016160"/>
          </a:xfrm>
        </p:grpSpPr>
        <p:sp>
          <p:nvSpPr>
            <p:cNvPr id="41" name=""/>
            <p:cNvSpPr/>
            <p:nvPr/>
          </p:nvSpPr>
          <p:spPr>
            <a:xfrm>
              <a:off x="5408640" y="1754280"/>
              <a:ext cx="3157920" cy="2343600"/>
            </a:xfrm>
            <a:custGeom>
              <a:avLst/>
              <a:gdLst/>
              <a:ahLst/>
              <a:rect l="0" t="0" r="r" b="b"/>
              <a:pathLst>
                <a:path w="8772" h="6510">
                  <a:moveTo>
                    <a:pt x="339" y="6510"/>
                  </a:moveTo>
                  <a:lnTo>
                    <a:pt x="8605" y="1857"/>
                  </a:lnTo>
                  <a:lnTo>
                    <a:pt x="8772" y="1318"/>
                  </a:lnTo>
                  <a:lnTo>
                    <a:pt x="8530" y="1071"/>
                  </a:lnTo>
                  <a:lnTo>
                    <a:pt x="8675" y="736"/>
                  </a:lnTo>
                  <a:lnTo>
                    <a:pt x="8481" y="714"/>
                  </a:lnTo>
                  <a:lnTo>
                    <a:pt x="8411" y="692"/>
                  </a:lnTo>
                  <a:lnTo>
                    <a:pt x="8433" y="423"/>
                  </a:lnTo>
                  <a:lnTo>
                    <a:pt x="8508" y="0"/>
                  </a:lnTo>
                  <a:lnTo>
                    <a:pt x="3140" y="4406"/>
                  </a:lnTo>
                  <a:lnTo>
                    <a:pt x="0" y="6329"/>
                  </a:lnTo>
                  <a:lnTo>
                    <a:pt x="339" y="6510"/>
                  </a:lnTo>
                  <a:close/>
                </a:path>
              </a:pathLst>
            </a:custGeom>
            <a:solidFill>
              <a:srgbClr val="00a9e0"/>
            </a:solidFill>
            <a:ln w="76320">
              <a:solidFill>
                <a:srgbClr val="00a9e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203640" y="1465200"/>
              <a:ext cx="3856320" cy="3957840"/>
            </a:xfrm>
            <a:custGeom>
              <a:avLst/>
              <a:gdLst/>
              <a:ahLst/>
              <a:rect l="0" t="0" r="r" b="b"/>
              <a:pathLst>
                <a:path w="10712" h="10994">
                  <a:moveTo>
                    <a:pt x="7934" y="286"/>
                  </a:moveTo>
                  <a:lnTo>
                    <a:pt x="9115" y="0"/>
                  </a:lnTo>
                  <a:lnTo>
                    <a:pt x="10641" y="687"/>
                  </a:lnTo>
                  <a:lnTo>
                    <a:pt x="10712" y="2848"/>
                  </a:lnTo>
                  <a:lnTo>
                    <a:pt x="7797" y="6430"/>
                  </a:lnTo>
                  <a:lnTo>
                    <a:pt x="7762" y="10866"/>
                  </a:lnTo>
                  <a:lnTo>
                    <a:pt x="6562" y="10760"/>
                  </a:lnTo>
                  <a:lnTo>
                    <a:pt x="6412" y="10778"/>
                  </a:lnTo>
                  <a:lnTo>
                    <a:pt x="5658" y="10994"/>
                  </a:lnTo>
                  <a:lnTo>
                    <a:pt x="4639" y="10646"/>
                  </a:lnTo>
                  <a:lnTo>
                    <a:pt x="4608" y="10544"/>
                  </a:lnTo>
                  <a:lnTo>
                    <a:pt x="4630" y="10597"/>
                  </a:lnTo>
                  <a:lnTo>
                    <a:pt x="4678" y="10659"/>
                  </a:lnTo>
                  <a:lnTo>
                    <a:pt x="3946" y="10862"/>
                  </a:lnTo>
                  <a:lnTo>
                    <a:pt x="3064" y="10716"/>
                  </a:lnTo>
                  <a:lnTo>
                    <a:pt x="3042" y="6364"/>
                  </a:lnTo>
                  <a:lnTo>
                    <a:pt x="0" y="2703"/>
                  </a:lnTo>
                  <a:lnTo>
                    <a:pt x="163" y="718"/>
                  </a:lnTo>
                  <a:lnTo>
                    <a:pt x="1142" y="110"/>
                  </a:lnTo>
                  <a:lnTo>
                    <a:pt x="1913" y="180"/>
                  </a:lnTo>
                  <a:lnTo>
                    <a:pt x="2323" y="70"/>
                  </a:lnTo>
                  <a:lnTo>
                    <a:pt x="3095" y="471"/>
                  </a:lnTo>
                  <a:lnTo>
                    <a:pt x="5238" y="687"/>
                  </a:lnTo>
                  <a:lnTo>
                    <a:pt x="7934" y="286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2990880" y="1440000"/>
              <a:ext cx="4313520" cy="3115080"/>
              <a:chOff x="2990880" y="1440000"/>
              <a:chExt cx="4313520" cy="311508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2990880" y="1440000"/>
                <a:ext cx="1313280" cy="3115080"/>
                <a:chOff x="2990880" y="1440000"/>
                <a:chExt cx="1313280" cy="311508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90880" y="1440000"/>
                  <a:ext cx="1313280" cy="3115080"/>
                </a:xfrm>
                <a:custGeom>
                  <a:avLst/>
                  <a:gdLst/>
                  <a:ahLst/>
                  <a:rect l="0" t="0" r="r" b="b"/>
                  <a:pathLst>
                    <a:path w="3648" h="8653">
                      <a:moveTo>
                        <a:pt x="913" y="683"/>
                      </a:moveTo>
                      <a:lnTo>
                        <a:pt x="913" y="2739"/>
                      </a:lnTo>
                      <a:lnTo>
                        <a:pt x="3648" y="6201"/>
                      </a:lnTo>
                      <a:lnTo>
                        <a:pt x="3648" y="8653"/>
                      </a:lnTo>
                      <a:lnTo>
                        <a:pt x="3468" y="8618"/>
                      </a:lnTo>
                      <a:lnTo>
                        <a:pt x="3146" y="8618"/>
                      </a:lnTo>
                      <a:lnTo>
                        <a:pt x="3102" y="8583"/>
                      </a:lnTo>
                      <a:lnTo>
                        <a:pt x="2872" y="8473"/>
                      </a:lnTo>
                      <a:lnTo>
                        <a:pt x="2784" y="8327"/>
                      </a:lnTo>
                      <a:lnTo>
                        <a:pt x="2690" y="8151"/>
                      </a:lnTo>
                      <a:lnTo>
                        <a:pt x="2690" y="6165"/>
                      </a:lnTo>
                      <a:lnTo>
                        <a:pt x="0" y="2739"/>
                      </a:lnTo>
                      <a:lnTo>
                        <a:pt x="0" y="0"/>
                      </a:lnTo>
                      <a:lnTo>
                        <a:pt x="229" y="110"/>
                      </a:lnTo>
                      <a:lnTo>
                        <a:pt x="913" y="68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6c6c6"/>
                    </a:gs>
                    <a:gs pos="100000">
                      <a:srgbClr val="b2b2b2"/>
                    </a:gs>
                  </a:gsLst>
                  <a:path path="rect">
                    <a:fillToRect l="0" t="0" r="100000" b="100000"/>
                  </a:path>
                </a:gradFill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071880" y="1440000"/>
                  <a:ext cx="246600" cy="221040"/>
                </a:xfrm>
                <a:custGeom>
                  <a:avLst/>
                  <a:gdLst/>
                  <a:ahLst/>
                  <a:rect l="0" t="0" r="r" b="b"/>
                  <a:pathLst>
                    <a:path w="685" h="614">
                      <a:moveTo>
                        <a:pt x="0" y="0"/>
                      </a:moveTo>
                      <a:lnTo>
                        <a:pt x="230" y="287"/>
                      </a:lnTo>
                      <a:lnTo>
                        <a:pt x="367" y="327"/>
                      </a:lnTo>
                      <a:lnTo>
                        <a:pt x="503" y="397"/>
                      </a:lnTo>
                      <a:lnTo>
                        <a:pt x="592" y="504"/>
                      </a:lnTo>
                      <a:lnTo>
                        <a:pt x="685" y="6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6c6c6"/>
                    </a:gs>
                    <a:gs pos="100000">
                      <a:srgbClr val="b2b2b2"/>
                    </a:gs>
                  </a:gsLst>
                  <a:path path="rect">
                    <a:fillToRect l="0" t="0" r="100000" b="100000"/>
                  </a:path>
                </a:gradFill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5992920" y="1440000"/>
                <a:ext cx="1311480" cy="3115080"/>
                <a:chOff x="5992920" y="1440000"/>
                <a:chExt cx="1311480" cy="31150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5992920" y="1440000"/>
                  <a:ext cx="1311480" cy="3115080"/>
                </a:xfrm>
                <a:custGeom>
                  <a:avLst/>
                  <a:gdLst/>
                  <a:ahLst/>
                  <a:rect l="0" t="0" r="r" b="b"/>
                  <a:pathLst>
                    <a:path w="3643" h="8653">
                      <a:moveTo>
                        <a:pt x="2735" y="683"/>
                      </a:moveTo>
                      <a:lnTo>
                        <a:pt x="2735" y="2739"/>
                      </a:lnTo>
                      <a:lnTo>
                        <a:pt x="0" y="6201"/>
                      </a:lnTo>
                      <a:lnTo>
                        <a:pt x="0" y="8653"/>
                      </a:lnTo>
                      <a:lnTo>
                        <a:pt x="180" y="8618"/>
                      </a:lnTo>
                      <a:lnTo>
                        <a:pt x="502" y="8618"/>
                      </a:lnTo>
                      <a:lnTo>
                        <a:pt x="546" y="8583"/>
                      </a:lnTo>
                      <a:lnTo>
                        <a:pt x="776" y="8473"/>
                      </a:lnTo>
                      <a:lnTo>
                        <a:pt x="864" y="8327"/>
                      </a:lnTo>
                      <a:lnTo>
                        <a:pt x="956" y="8151"/>
                      </a:lnTo>
                      <a:lnTo>
                        <a:pt x="956" y="6165"/>
                      </a:lnTo>
                      <a:lnTo>
                        <a:pt x="3643" y="2739"/>
                      </a:lnTo>
                      <a:lnTo>
                        <a:pt x="3643" y="0"/>
                      </a:lnTo>
                      <a:lnTo>
                        <a:pt x="3414" y="110"/>
                      </a:lnTo>
                      <a:lnTo>
                        <a:pt x="2735" y="68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6c6c6"/>
                    </a:gs>
                    <a:gs pos="100000">
                      <a:srgbClr val="b2b2b2"/>
                    </a:gs>
                  </a:gsLst>
                  <a:path path="rect">
                    <a:fillToRect l="100000" t="0" r="0" b="100000"/>
                  </a:path>
                </a:gradFill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6977160" y="1440000"/>
                  <a:ext cx="248040" cy="221040"/>
                </a:xfrm>
                <a:custGeom>
                  <a:avLst/>
                  <a:gdLst/>
                  <a:ahLst/>
                  <a:rect l="0" t="0" r="r" b="b"/>
                  <a:pathLst>
                    <a:path w="689" h="614">
                      <a:moveTo>
                        <a:pt x="689" y="0"/>
                      </a:moveTo>
                      <a:lnTo>
                        <a:pt x="459" y="287"/>
                      </a:lnTo>
                      <a:lnTo>
                        <a:pt x="322" y="327"/>
                      </a:lnTo>
                      <a:lnTo>
                        <a:pt x="186" y="397"/>
                      </a:lnTo>
                      <a:lnTo>
                        <a:pt x="92" y="504"/>
                      </a:lnTo>
                      <a:lnTo>
                        <a:pt x="0" y="614"/>
                      </a:lnTo>
                      <a:lnTo>
                        <a:pt x="68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6c6c6"/>
                    </a:gs>
                    <a:gs pos="100000">
                      <a:srgbClr val="b2b2b2"/>
                    </a:gs>
                  </a:gsLst>
                  <a:path path="rect">
                    <a:fillToRect l="100000" t="0" r="0" b="100000"/>
                  </a:path>
                </a:gradFill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4503600" y="2257560"/>
              <a:ext cx="700560" cy="3154680"/>
            </a:xfrm>
            <a:custGeom>
              <a:avLst/>
              <a:gdLst/>
              <a:ahLst/>
              <a:rect l="0" t="0" r="r" b="b"/>
              <a:pathLst>
                <a:path w="1946" h="8763">
                  <a:moveTo>
                    <a:pt x="0" y="0"/>
                  </a:moveTo>
                  <a:lnTo>
                    <a:pt x="163" y="317"/>
                  </a:lnTo>
                  <a:lnTo>
                    <a:pt x="352" y="612"/>
                  </a:lnTo>
                  <a:lnTo>
                    <a:pt x="525" y="829"/>
                  </a:lnTo>
                  <a:lnTo>
                    <a:pt x="763" y="1018"/>
                  </a:lnTo>
                  <a:lnTo>
                    <a:pt x="900" y="1137"/>
                  </a:lnTo>
                  <a:lnTo>
                    <a:pt x="1046" y="1261"/>
                  </a:lnTo>
                  <a:lnTo>
                    <a:pt x="1138" y="1367"/>
                  </a:lnTo>
                  <a:lnTo>
                    <a:pt x="1253" y="1503"/>
                  </a:lnTo>
                  <a:lnTo>
                    <a:pt x="1345" y="1719"/>
                  </a:lnTo>
                  <a:lnTo>
                    <a:pt x="1354" y="1847"/>
                  </a:lnTo>
                  <a:lnTo>
                    <a:pt x="1390" y="2099"/>
                  </a:lnTo>
                  <a:lnTo>
                    <a:pt x="1390" y="2248"/>
                  </a:lnTo>
                  <a:lnTo>
                    <a:pt x="1390" y="2359"/>
                  </a:lnTo>
                  <a:lnTo>
                    <a:pt x="1412" y="8547"/>
                  </a:lnTo>
                  <a:lnTo>
                    <a:pt x="1946" y="8763"/>
                  </a:lnTo>
                  <a:lnTo>
                    <a:pt x="1902" y="6509"/>
                  </a:lnTo>
                  <a:lnTo>
                    <a:pt x="1902" y="5261"/>
                  </a:lnTo>
                  <a:lnTo>
                    <a:pt x="1832" y="3999"/>
                  </a:lnTo>
                  <a:lnTo>
                    <a:pt x="1801" y="3602"/>
                  </a:lnTo>
                  <a:lnTo>
                    <a:pt x="1876" y="3862"/>
                  </a:lnTo>
                  <a:lnTo>
                    <a:pt x="1902" y="3395"/>
                  </a:lnTo>
                  <a:lnTo>
                    <a:pt x="1845" y="3285"/>
                  </a:lnTo>
                  <a:lnTo>
                    <a:pt x="1809" y="3214"/>
                  </a:lnTo>
                  <a:lnTo>
                    <a:pt x="1845" y="1935"/>
                  </a:lnTo>
                  <a:lnTo>
                    <a:pt x="1845" y="1697"/>
                  </a:lnTo>
                  <a:lnTo>
                    <a:pt x="1858" y="1459"/>
                  </a:lnTo>
                  <a:lnTo>
                    <a:pt x="1823" y="1027"/>
                  </a:lnTo>
                  <a:lnTo>
                    <a:pt x="1823" y="595"/>
                  </a:lnTo>
                  <a:lnTo>
                    <a:pt x="1858" y="440"/>
                  </a:lnTo>
                  <a:lnTo>
                    <a:pt x="1871" y="299"/>
                  </a:lnTo>
                  <a:lnTo>
                    <a:pt x="1871" y="127"/>
                  </a:lnTo>
                  <a:lnTo>
                    <a:pt x="1915" y="88"/>
                  </a:lnTo>
                  <a:lnTo>
                    <a:pt x="1924" y="61"/>
                  </a:lnTo>
                  <a:lnTo>
                    <a:pt x="1924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18120" y="2257560"/>
              <a:ext cx="692640" cy="3162600"/>
            </a:xfrm>
            <a:custGeom>
              <a:avLst/>
              <a:gdLst/>
              <a:ahLst/>
              <a:rect l="0" t="0" r="r" b="b"/>
              <a:pathLst>
                <a:path w="1924" h="8785">
                  <a:moveTo>
                    <a:pt x="1924" y="0"/>
                  </a:moveTo>
                  <a:lnTo>
                    <a:pt x="1765" y="317"/>
                  </a:lnTo>
                  <a:lnTo>
                    <a:pt x="1571" y="612"/>
                  </a:lnTo>
                  <a:lnTo>
                    <a:pt x="1398" y="829"/>
                  </a:lnTo>
                  <a:lnTo>
                    <a:pt x="1160" y="1018"/>
                  </a:lnTo>
                  <a:lnTo>
                    <a:pt x="1028" y="1137"/>
                  </a:lnTo>
                  <a:lnTo>
                    <a:pt x="878" y="1261"/>
                  </a:lnTo>
                  <a:lnTo>
                    <a:pt x="785" y="1367"/>
                  </a:lnTo>
                  <a:lnTo>
                    <a:pt x="671" y="1503"/>
                  </a:lnTo>
                  <a:lnTo>
                    <a:pt x="578" y="1719"/>
                  </a:lnTo>
                  <a:lnTo>
                    <a:pt x="569" y="1847"/>
                  </a:lnTo>
                  <a:lnTo>
                    <a:pt x="534" y="2099"/>
                  </a:lnTo>
                  <a:lnTo>
                    <a:pt x="534" y="2248"/>
                  </a:lnTo>
                  <a:lnTo>
                    <a:pt x="534" y="2359"/>
                  </a:lnTo>
                  <a:lnTo>
                    <a:pt x="534" y="8710"/>
                  </a:lnTo>
                  <a:lnTo>
                    <a:pt x="299" y="8785"/>
                  </a:lnTo>
                  <a:lnTo>
                    <a:pt x="35" y="8714"/>
                  </a:lnTo>
                  <a:lnTo>
                    <a:pt x="44" y="5513"/>
                  </a:lnTo>
                  <a:lnTo>
                    <a:pt x="158" y="4776"/>
                  </a:lnTo>
                  <a:lnTo>
                    <a:pt x="167" y="5098"/>
                  </a:lnTo>
                  <a:lnTo>
                    <a:pt x="207" y="4785"/>
                  </a:lnTo>
                  <a:lnTo>
                    <a:pt x="66" y="8330"/>
                  </a:lnTo>
                  <a:lnTo>
                    <a:pt x="123" y="4750"/>
                  </a:lnTo>
                  <a:lnTo>
                    <a:pt x="22" y="4983"/>
                  </a:lnTo>
                  <a:lnTo>
                    <a:pt x="79" y="1935"/>
                  </a:lnTo>
                  <a:lnTo>
                    <a:pt x="79" y="1693"/>
                  </a:lnTo>
                  <a:lnTo>
                    <a:pt x="70" y="1459"/>
                  </a:lnTo>
                  <a:lnTo>
                    <a:pt x="101" y="1027"/>
                  </a:lnTo>
                  <a:lnTo>
                    <a:pt x="101" y="595"/>
                  </a:lnTo>
                  <a:lnTo>
                    <a:pt x="70" y="440"/>
                  </a:lnTo>
                  <a:lnTo>
                    <a:pt x="57" y="299"/>
                  </a:lnTo>
                  <a:lnTo>
                    <a:pt x="57" y="127"/>
                  </a:lnTo>
                  <a:lnTo>
                    <a:pt x="13" y="88"/>
                  </a:lnTo>
                  <a:lnTo>
                    <a:pt x="0" y="61"/>
                  </a:lnTo>
                  <a:lnTo>
                    <a:pt x="0" y="8"/>
                  </a:lnTo>
                  <a:lnTo>
                    <a:pt x="1924" y="0"/>
                  </a:lnTo>
                  <a:close/>
                </a:path>
              </a:pathLst>
            </a:custGeom>
            <a:blipFill rotWithShape="0">
              <a:blip r:embed="rId3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5060880" y="3745080"/>
              <a:ext cx="224280" cy="181440"/>
              <a:chOff x="5060880" y="3745080"/>
              <a:chExt cx="224280" cy="181440"/>
            </a:xfrm>
          </p:grpSpPr>
          <p:sp>
            <p:nvSpPr>
              <p:cNvPr id="53" name=""/>
              <p:cNvSpPr/>
              <p:nvPr/>
            </p:nvSpPr>
            <p:spPr>
              <a:xfrm>
                <a:off x="5060880" y="3745080"/>
                <a:ext cx="224280" cy="181440"/>
              </a:xfrm>
              <a:custGeom>
                <a:avLst/>
                <a:gdLst/>
                <a:ahLst/>
                <a:rect l="0" t="0" r="r" b="b"/>
                <a:pathLst>
                  <a:path w="623" h="504">
                    <a:moveTo>
                      <a:pt x="623" y="283"/>
                    </a:moveTo>
                    <a:lnTo>
                      <a:pt x="592" y="101"/>
                    </a:lnTo>
                    <a:lnTo>
                      <a:pt x="428" y="0"/>
                    </a:lnTo>
                    <a:lnTo>
                      <a:pt x="256" y="0"/>
                    </a:lnTo>
                    <a:lnTo>
                      <a:pt x="97" y="48"/>
                    </a:lnTo>
                    <a:lnTo>
                      <a:pt x="0" y="168"/>
                    </a:lnTo>
                    <a:lnTo>
                      <a:pt x="0" y="318"/>
                    </a:lnTo>
                    <a:lnTo>
                      <a:pt x="79" y="451"/>
                    </a:lnTo>
                    <a:lnTo>
                      <a:pt x="256" y="504"/>
                    </a:lnTo>
                    <a:lnTo>
                      <a:pt x="557" y="434"/>
                    </a:lnTo>
                    <a:lnTo>
                      <a:pt x="623" y="300"/>
                    </a:lnTo>
                    <a:lnTo>
                      <a:pt x="623" y="283"/>
                    </a:lnTo>
                    <a:close/>
                  </a:path>
                </a:pathLst>
              </a:custGeom>
              <a:blipFill rotWithShape="0">
                <a:blip r:embed="rId4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91120" y="3807000"/>
                <a:ext cx="149760" cy="98640"/>
              </a:xfrm>
              <a:custGeom>
                <a:avLst/>
                <a:gdLst/>
                <a:ahLst/>
                <a:rect l="0" t="0" r="r" b="b"/>
                <a:pathLst>
                  <a:path w="416" h="274">
                    <a:moveTo>
                      <a:pt x="168" y="274"/>
                    </a:moveTo>
                    <a:lnTo>
                      <a:pt x="230" y="256"/>
                    </a:lnTo>
                    <a:lnTo>
                      <a:pt x="292" y="208"/>
                    </a:lnTo>
                    <a:lnTo>
                      <a:pt x="416" y="208"/>
                    </a:lnTo>
                    <a:lnTo>
                      <a:pt x="416" y="136"/>
                    </a:lnTo>
                    <a:lnTo>
                      <a:pt x="416" y="70"/>
                    </a:lnTo>
                    <a:lnTo>
                      <a:pt x="416" y="0"/>
                    </a:lnTo>
                    <a:lnTo>
                      <a:pt x="292" y="0"/>
                    </a:lnTo>
                    <a:lnTo>
                      <a:pt x="168" y="70"/>
                    </a:lnTo>
                    <a:lnTo>
                      <a:pt x="292" y="92"/>
                    </a:lnTo>
                    <a:lnTo>
                      <a:pt x="416" y="136"/>
                    </a:lnTo>
                    <a:lnTo>
                      <a:pt x="292" y="208"/>
                    </a:lnTo>
                    <a:lnTo>
                      <a:pt x="168" y="208"/>
                    </a:lnTo>
                    <a:lnTo>
                      <a:pt x="44" y="208"/>
                    </a:lnTo>
                    <a:lnTo>
                      <a:pt x="0" y="239"/>
                    </a:lnTo>
                    <a:lnTo>
                      <a:pt x="30" y="265"/>
                    </a:lnTo>
                    <a:lnTo>
                      <a:pt x="168" y="274"/>
                    </a:lnTo>
                    <a:close/>
                  </a:path>
                </a:pathLst>
              </a:custGeom>
              <a:solidFill>
                <a:srgbClr val="7144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079960" y="4656240"/>
              <a:ext cx="200520" cy="200520"/>
              <a:chOff x="5079960" y="4656240"/>
              <a:chExt cx="200520" cy="200520"/>
            </a:xfrm>
          </p:grpSpPr>
          <p:sp>
            <p:nvSpPr>
              <p:cNvPr id="56" name=""/>
              <p:cNvSpPr/>
              <p:nvPr/>
            </p:nvSpPr>
            <p:spPr>
              <a:xfrm>
                <a:off x="5079960" y="4656240"/>
                <a:ext cx="200520" cy="200520"/>
              </a:xfrm>
              <a:custGeom>
                <a:avLst/>
                <a:gdLst/>
                <a:ahLst/>
                <a:rect l="0" t="0" r="r" b="b"/>
                <a:pathLst>
                  <a:path w="557" h="557">
                    <a:moveTo>
                      <a:pt x="557" y="314"/>
                    </a:moveTo>
                    <a:lnTo>
                      <a:pt x="526" y="110"/>
                    </a:lnTo>
                    <a:lnTo>
                      <a:pt x="384" y="0"/>
                    </a:lnTo>
                    <a:lnTo>
                      <a:pt x="230" y="0"/>
                    </a:lnTo>
                    <a:lnTo>
                      <a:pt x="83" y="57"/>
                    </a:lnTo>
                    <a:lnTo>
                      <a:pt x="0" y="186"/>
                    </a:lnTo>
                    <a:lnTo>
                      <a:pt x="0" y="353"/>
                    </a:lnTo>
                    <a:lnTo>
                      <a:pt x="70" y="500"/>
                    </a:lnTo>
                    <a:lnTo>
                      <a:pt x="230" y="557"/>
                    </a:lnTo>
                    <a:lnTo>
                      <a:pt x="500" y="482"/>
                    </a:lnTo>
                    <a:lnTo>
                      <a:pt x="557" y="336"/>
                    </a:lnTo>
                    <a:lnTo>
                      <a:pt x="557" y="314"/>
                    </a:lnTo>
                    <a:close/>
                  </a:path>
                </a:pathLst>
              </a:custGeom>
              <a:blipFill rotWithShape="0">
                <a:blip r:embed="rId5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165640" y="4660920"/>
                <a:ext cx="76680" cy="184680"/>
              </a:xfrm>
              <a:custGeom>
                <a:avLst/>
                <a:gdLst/>
                <a:ahLst/>
                <a:rect l="0" t="0" r="r" b="b"/>
                <a:pathLst>
                  <a:path w="213" h="513">
                    <a:moveTo>
                      <a:pt x="106" y="0"/>
                    </a:moveTo>
                    <a:lnTo>
                      <a:pt x="213" y="127"/>
                    </a:lnTo>
                    <a:lnTo>
                      <a:pt x="213" y="256"/>
                    </a:lnTo>
                    <a:lnTo>
                      <a:pt x="213" y="384"/>
                    </a:lnTo>
                    <a:lnTo>
                      <a:pt x="106" y="513"/>
                    </a:lnTo>
                    <a:lnTo>
                      <a:pt x="0" y="513"/>
                    </a:lnTo>
                    <a:lnTo>
                      <a:pt x="0" y="384"/>
                    </a:lnTo>
                    <a:lnTo>
                      <a:pt x="106" y="256"/>
                    </a:lnTo>
                    <a:lnTo>
                      <a:pt x="0" y="256"/>
                    </a:lnTo>
                    <a:lnTo>
                      <a:pt x="0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7144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5165640" y="2360520"/>
              <a:ext cx="222480" cy="179640"/>
              <a:chOff x="5165640" y="2360520"/>
              <a:chExt cx="222480" cy="179640"/>
            </a:xfrm>
          </p:grpSpPr>
          <p:sp>
            <p:nvSpPr>
              <p:cNvPr id="59" name=""/>
              <p:cNvSpPr/>
              <p:nvPr/>
            </p:nvSpPr>
            <p:spPr>
              <a:xfrm>
                <a:off x="5165640" y="2360520"/>
                <a:ext cx="222480" cy="179640"/>
              </a:xfrm>
              <a:custGeom>
                <a:avLst/>
                <a:gdLst/>
                <a:ahLst/>
                <a:rect l="0" t="0" r="r" b="b"/>
                <a:pathLst>
                  <a:path w="618" h="499">
                    <a:moveTo>
                      <a:pt x="618" y="283"/>
                    </a:moveTo>
                    <a:lnTo>
                      <a:pt x="587" y="101"/>
                    </a:lnTo>
                    <a:lnTo>
                      <a:pt x="428" y="0"/>
                    </a:lnTo>
                    <a:lnTo>
                      <a:pt x="251" y="0"/>
                    </a:lnTo>
                    <a:lnTo>
                      <a:pt x="92" y="48"/>
                    </a:lnTo>
                    <a:lnTo>
                      <a:pt x="0" y="167"/>
                    </a:lnTo>
                    <a:lnTo>
                      <a:pt x="0" y="314"/>
                    </a:lnTo>
                    <a:lnTo>
                      <a:pt x="79" y="446"/>
                    </a:lnTo>
                    <a:lnTo>
                      <a:pt x="251" y="499"/>
                    </a:lnTo>
                    <a:lnTo>
                      <a:pt x="556" y="433"/>
                    </a:lnTo>
                    <a:lnTo>
                      <a:pt x="618" y="300"/>
                    </a:lnTo>
                    <a:lnTo>
                      <a:pt x="618" y="283"/>
                    </a:lnTo>
                    <a:close/>
                  </a:path>
                </a:pathLst>
              </a:custGeom>
              <a:blipFill rotWithShape="0">
                <a:blip r:embed="rId6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194440" y="2422440"/>
                <a:ext cx="151200" cy="97200"/>
              </a:xfrm>
              <a:custGeom>
                <a:avLst/>
                <a:gdLst/>
                <a:ahLst/>
                <a:rect l="0" t="0" r="r" b="b"/>
                <a:pathLst>
                  <a:path w="420" h="270">
                    <a:moveTo>
                      <a:pt x="172" y="270"/>
                    </a:moveTo>
                    <a:lnTo>
                      <a:pt x="234" y="253"/>
                    </a:lnTo>
                    <a:lnTo>
                      <a:pt x="296" y="204"/>
                    </a:lnTo>
                    <a:lnTo>
                      <a:pt x="420" y="204"/>
                    </a:lnTo>
                    <a:lnTo>
                      <a:pt x="420" y="137"/>
                    </a:lnTo>
                    <a:lnTo>
                      <a:pt x="420" y="66"/>
                    </a:lnTo>
                    <a:lnTo>
                      <a:pt x="420" y="0"/>
                    </a:lnTo>
                    <a:lnTo>
                      <a:pt x="296" y="0"/>
                    </a:lnTo>
                    <a:lnTo>
                      <a:pt x="172" y="66"/>
                    </a:lnTo>
                    <a:lnTo>
                      <a:pt x="296" y="89"/>
                    </a:lnTo>
                    <a:lnTo>
                      <a:pt x="420" y="137"/>
                    </a:lnTo>
                    <a:lnTo>
                      <a:pt x="296" y="204"/>
                    </a:lnTo>
                    <a:lnTo>
                      <a:pt x="172" y="204"/>
                    </a:lnTo>
                    <a:lnTo>
                      <a:pt x="48" y="204"/>
                    </a:lnTo>
                    <a:lnTo>
                      <a:pt x="0" y="235"/>
                    </a:lnTo>
                    <a:lnTo>
                      <a:pt x="30" y="262"/>
                    </a:lnTo>
                    <a:lnTo>
                      <a:pt x="172" y="270"/>
                    </a:lnTo>
                    <a:close/>
                  </a:path>
                </a:pathLst>
              </a:custGeom>
              <a:solidFill>
                <a:srgbClr val="7144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5075280" y="3349800"/>
              <a:ext cx="178200" cy="127440"/>
              <a:chOff x="5075280" y="3349800"/>
              <a:chExt cx="178200" cy="127440"/>
            </a:xfrm>
          </p:grpSpPr>
          <p:sp>
            <p:nvSpPr>
              <p:cNvPr id="62" name=""/>
              <p:cNvSpPr/>
              <p:nvPr/>
            </p:nvSpPr>
            <p:spPr>
              <a:xfrm>
                <a:off x="5075280" y="3349800"/>
                <a:ext cx="178200" cy="127440"/>
              </a:xfrm>
              <a:custGeom>
                <a:avLst/>
                <a:gdLst/>
                <a:ahLst/>
                <a:rect l="0" t="0" r="r" b="b"/>
                <a:pathLst>
                  <a:path w="495" h="354">
                    <a:moveTo>
                      <a:pt x="495" y="199"/>
                    </a:moveTo>
                    <a:lnTo>
                      <a:pt x="469" y="70"/>
                    </a:lnTo>
                    <a:lnTo>
                      <a:pt x="344" y="0"/>
                    </a:lnTo>
                    <a:lnTo>
                      <a:pt x="203" y="0"/>
                    </a:lnTo>
                    <a:lnTo>
                      <a:pt x="79" y="35"/>
                    </a:lnTo>
                    <a:lnTo>
                      <a:pt x="0" y="120"/>
                    </a:lnTo>
                    <a:lnTo>
                      <a:pt x="0" y="225"/>
                    </a:lnTo>
                    <a:lnTo>
                      <a:pt x="61" y="319"/>
                    </a:lnTo>
                    <a:lnTo>
                      <a:pt x="203" y="354"/>
                    </a:lnTo>
                    <a:lnTo>
                      <a:pt x="447" y="306"/>
                    </a:lnTo>
                    <a:lnTo>
                      <a:pt x="495" y="212"/>
                    </a:lnTo>
                    <a:lnTo>
                      <a:pt x="495" y="199"/>
                    </a:lnTo>
                    <a:close/>
                  </a:path>
                </a:pathLst>
              </a:custGeom>
              <a:blipFill rotWithShape="0">
                <a:blip r:embed="rId7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29280" y="3381480"/>
                <a:ext cx="123840" cy="9540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052960" y="3044880"/>
              <a:ext cx="222480" cy="179640"/>
              <a:chOff x="5052960" y="3044880"/>
              <a:chExt cx="222480" cy="179640"/>
            </a:xfrm>
          </p:grpSpPr>
          <p:sp>
            <p:nvSpPr>
              <p:cNvPr id="65" name=""/>
              <p:cNvSpPr/>
              <p:nvPr/>
            </p:nvSpPr>
            <p:spPr>
              <a:xfrm>
                <a:off x="5052960" y="3044880"/>
                <a:ext cx="222480" cy="179640"/>
              </a:xfrm>
              <a:custGeom>
                <a:avLst/>
                <a:gdLst/>
                <a:ahLst/>
                <a:rect l="0" t="0" r="r" b="b"/>
                <a:pathLst>
                  <a:path w="618" h="499">
                    <a:moveTo>
                      <a:pt x="618" y="283"/>
                    </a:moveTo>
                    <a:lnTo>
                      <a:pt x="587" y="101"/>
                    </a:lnTo>
                    <a:lnTo>
                      <a:pt x="428" y="0"/>
                    </a:lnTo>
                    <a:lnTo>
                      <a:pt x="251" y="0"/>
                    </a:lnTo>
                    <a:lnTo>
                      <a:pt x="92" y="48"/>
                    </a:lnTo>
                    <a:lnTo>
                      <a:pt x="0" y="167"/>
                    </a:lnTo>
                    <a:lnTo>
                      <a:pt x="0" y="314"/>
                    </a:lnTo>
                    <a:lnTo>
                      <a:pt x="79" y="446"/>
                    </a:lnTo>
                    <a:lnTo>
                      <a:pt x="251" y="499"/>
                    </a:lnTo>
                    <a:lnTo>
                      <a:pt x="556" y="433"/>
                    </a:lnTo>
                    <a:lnTo>
                      <a:pt x="618" y="300"/>
                    </a:lnTo>
                    <a:lnTo>
                      <a:pt x="618" y="283"/>
                    </a:lnTo>
                    <a:close/>
                  </a:path>
                </a:pathLst>
              </a:custGeom>
              <a:blipFill rotWithShape="0">
                <a:blip r:embed="rId8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081760" y="3106800"/>
                <a:ext cx="149760" cy="97200"/>
              </a:xfrm>
              <a:custGeom>
                <a:avLst/>
                <a:gdLst/>
                <a:ahLst/>
                <a:rect l="0" t="0" r="r" b="b"/>
                <a:pathLst>
                  <a:path w="416" h="270">
                    <a:moveTo>
                      <a:pt x="168" y="270"/>
                    </a:moveTo>
                    <a:lnTo>
                      <a:pt x="230" y="253"/>
                    </a:lnTo>
                    <a:lnTo>
                      <a:pt x="292" y="204"/>
                    </a:lnTo>
                    <a:lnTo>
                      <a:pt x="416" y="204"/>
                    </a:lnTo>
                    <a:lnTo>
                      <a:pt x="416" y="137"/>
                    </a:lnTo>
                    <a:lnTo>
                      <a:pt x="416" y="66"/>
                    </a:lnTo>
                    <a:lnTo>
                      <a:pt x="416" y="0"/>
                    </a:lnTo>
                    <a:lnTo>
                      <a:pt x="292" y="0"/>
                    </a:lnTo>
                    <a:lnTo>
                      <a:pt x="168" y="66"/>
                    </a:lnTo>
                    <a:lnTo>
                      <a:pt x="292" y="89"/>
                    </a:lnTo>
                    <a:lnTo>
                      <a:pt x="416" y="137"/>
                    </a:lnTo>
                    <a:lnTo>
                      <a:pt x="292" y="204"/>
                    </a:lnTo>
                    <a:lnTo>
                      <a:pt x="168" y="204"/>
                    </a:lnTo>
                    <a:lnTo>
                      <a:pt x="44" y="204"/>
                    </a:lnTo>
                    <a:lnTo>
                      <a:pt x="0" y="235"/>
                    </a:lnTo>
                    <a:lnTo>
                      <a:pt x="30" y="262"/>
                    </a:lnTo>
                    <a:lnTo>
                      <a:pt x="168" y="270"/>
                    </a:lnTo>
                    <a:close/>
                  </a:path>
                </a:pathLst>
              </a:custGeom>
              <a:solidFill>
                <a:srgbClr val="7144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5091120" y="5008680"/>
              <a:ext cx="178200" cy="127440"/>
              <a:chOff x="5091120" y="5008680"/>
              <a:chExt cx="178200" cy="127440"/>
            </a:xfrm>
          </p:grpSpPr>
          <p:sp>
            <p:nvSpPr>
              <p:cNvPr id="68" name=""/>
              <p:cNvSpPr/>
              <p:nvPr/>
            </p:nvSpPr>
            <p:spPr>
              <a:xfrm>
                <a:off x="5091120" y="5008680"/>
                <a:ext cx="178200" cy="127440"/>
              </a:xfrm>
              <a:custGeom>
                <a:avLst/>
                <a:gdLst/>
                <a:ahLst/>
                <a:rect l="0" t="0" r="r" b="b"/>
                <a:pathLst>
                  <a:path w="495" h="354">
                    <a:moveTo>
                      <a:pt x="495" y="199"/>
                    </a:moveTo>
                    <a:lnTo>
                      <a:pt x="469" y="70"/>
                    </a:lnTo>
                    <a:lnTo>
                      <a:pt x="344" y="0"/>
                    </a:lnTo>
                    <a:lnTo>
                      <a:pt x="203" y="0"/>
                    </a:lnTo>
                    <a:lnTo>
                      <a:pt x="79" y="35"/>
                    </a:lnTo>
                    <a:lnTo>
                      <a:pt x="0" y="120"/>
                    </a:lnTo>
                    <a:lnTo>
                      <a:pt x="0" y="225"/>
                    </a:lnTo>
                    <a:lnTo>
                      <a:pt x="61" y="319"/>
                    </a:lnTo>
                    <a:lnTo>
                      <a:pt x="203" y="354"/>
                    </a:lnTo>
                    <a:lnTo>
                      <a:pt x="447" y="306"/>
                    </a:lnTo>
                    <a:lnTo>
                      <a:pt x="495" y="212"/>
                    </a:lnTo>
                    <a:lnTo>
                      <a:pt x="495" y="199"/>
                    </a:lnTo>
                    <a:close/>
                  </a:path>
                </a:pathLst>
              </a:custGeom>
              <a:blipFill rotWithShape="0">
                <a:blip r:embed="rId9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46560" y="5040360"/>
                <a:ext cx="122400" cy="9540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075280" y="2624040"/>
              <a:ext cx="178200" cy="128880"/>
              <a:chOff x="5075280" y="2624040"/>
              <a:chExt cx="178200" cy="128880"/>
            </a:xfrm>
          </p:grpSpPr>
          <p:sp>
            <p:nvSpPr>
              <p:cNvPr id="71" name=""/>
              <p:cNvSpPr/>
              <p:nvPr/>
            </p:nvSpPr>
            <p:spPr>
              <a:xfrm>
                <a:off x="5075280" y="2624040"/>
                <a:ext cx="178200" cy="128880"/>
              </a:xfrm>
              <a:custGeom>
                <a:avLst/>
                <a:gdLst/>
                <a:ahLst/>
                <a:rect l="0" t="0" r="r" b="b"/>
                <a:pathLst>
                  <a:path w="495" h="358">
                    <a:moveTo>
                      <a:pt x="495" y="203"/>
                    </a:moveTo>
                    <a:lnTo>
                      <a:pt x="469" y="70"/>
                    </a:lnTo>
                    <a:lnTo>
                      <a:pt x="344" y="0"/>
                    </a:lnTo>
                    <a:lnTo>
                      <a:pt x="203" y="0"/>
                    </a:lnTo>
                    <a:lnTo>
                      <a:pt x="79" y="35"/>
                    </a:lnTo>
                    <a:lnTo>
                      <a:pt x="0" y="119"/>
                    </a:lnTo>
                    <a:lnTo>
                      <a:pt x="0" y="225"/>
                    </a:lnTo>
                    <a:lnTo>
                      <a:pt x="61" y="322"/>
                    </a:lnTo>
                    <a:lnTo>
                      <a:pt x="203" y="358"/>
                    </a:lnTo>
                    <a:lnTo>
                      <a:pt x="447" y="309"/>
                    </a:lnTo>
                    <a:lnTo>
                      <a:pt x="495" y="212"/>
                    </a:lnTo>
                    <a:lnTo>
                      <a:pt x="495" y="203"/>
                    </a:lnTo>
                    <a:close/>
                  </a:path>
                </a:pathLst>
              </a:custGeom>
              <a:blipFill rotWithShape="0">
                <a:blip r:embed="rId10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29280" y="2657520"/>
                <a:ext cx="123840" cy="9540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430960" y="2270160"/>
              <a:ext cx="178200" cy="128880"/>
              <a:chOff x="5430960" y="2270160"/>
              <a:chExt cx="178200" cy="128880"/>
            </a:xfrm>
          </p:grpSpPr>
          <p:sp>
            <p:nvSpPr>
              <p:cNvPr id="74" name=""/>
              <p:cNvSpPr/>
              <p:nvPr/>
            </p:nvSpPr>
            <p:spPr>
              <a:xfrm>
                <a:off x="5430960" y="2270160"/>
                <a:ext cx="178200" cy="128880"/>
              </a:xfrm>
              <a:custGeom>
                <a:avLst/>
                <a:gdLst/>
                <a:ahLst/>
                <a:rect l="0" t="0" r="r" b="b"/>
                <a:pathLst>
                  <a:path w="495" h="358">
                    <a:moveTo>
                      <a:pt x="495" y="203"/>
                    </a:moveTo>
                    <a:lnTo>
                      <a:pt x="469" y="70"/>
                    </a:lnTo>
                    <a:lnTo>
                      <a:pt x="344" y="0"/>
                    </a:lnTo>
                    <a:lnTo>
                      <a:pt x="203" y="0"/>
                    </a:lnTo>
                    <a:lnTo>
                      <a:pt x="79" y="35"/>
                    </a:lnTo>
                    <a:lnTo>
                      <a:pt x="0" y="119"/>
                    </a:lnTo>
                    <a:lnTo>
                      <a:pt x="0" y="225"/>
                    </a:lnTo>
                    <a:lnTo>
                      <a:pt x="61" y="322"/>
                    </a:lnTo>
                    <a:lnTo>
                      <a:pt x="203" y="358"/>
                    </a:lnTo>
                    <a:lnTo>
                      <a:pt x="447" y="309"/>
                    </a:lnTo>
                    <a:lnTo>
                      <a:pt x="495" y="212"/>
                    </a:lnTo>
                    <a:lnTo>
                      <a:pt x="495" y="203"/>
                    </a:lnTo>
                    <a:close/>
                  </a:path>
                </a:pathLst>
              </a:custGeom>
              <a:blipFill rotWithShape="0">
                <a:blip r:embed="rId11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486400" y="2303640"/>
                <a:ext cx="122400" cy="9540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4838760" y="2278080"/>
              <a:ext cx="179640" cy="127440"/>
              <a:chOff x="4838760" y="2278080"/>
              <a:chExt cx="179640" cy="127440"/>
            </a:xfrm>
          </p:grpSpPr>
          <p:sp>
            <p:nvSpPr>
              <p:cNvPr id="77" name=""/>
              <p:cNvSpPr/>
              <p:nvPr/>
            </p:nvSpPr>
            <p:spPr>
              <a:xfrm>
                <a:off x="4838760" y="2278080"/>
                <a:ext cx="179640" cy="127440"/>
              </a:xfrm>
              <a:custGeom>
                <a:avLst/>
                <a:gdLst/>
                <a:ahLst/>
                <a:rect l="0" t="0" r="r" b="b"/>
                <a:pathLst>
                  <a:path w="499" h="354">
                    <a:moveTo>
                      <a:pt x="499" y="199"/>
                    </a:moveTo>
                    <a:lnTo>
                      <a:pt x="472" y="70"/>
                    </a:lnTo>
                    <a:lnTo>
                      <a:pt x="344" y="0"/>
                    </a:lnTo>
                    <a:lnTo>
                      <a:pt x="202" y="0"/>
                    </a:lnTo>
                    <a:lnTo>
                      <a:pt x="79" y="35"/>
                    </a:lnTo>
                    <a:lnTo>
                      <a:pt x="0" y="120"/>
                    </a:lnTo>
                    <a:lnTo>
                      <a:pt x="0" y="225"/>
                    </a:lnTo>
                    <a:lnTo>
                      <a:pt x="61" y="319"/>
                    </a:lnTo>
                    <a:lnTo>
                      <a:pt x="202" y="354"/>
                    </a:lnTo>
                    <a:lnTo>
                      <a:pt x="450" y="306"/>
                    </a:lnTo>
                    <a:lnTo>
                      <a:pt x="499" y="212"/>
                    </a:lnTo>
                    <a:lnTo>
                      <a:pt x="499" y="199"/>
                    </a:lnTo>
                    <a:close/>
                  </a:path>
                </a:pathLst>
              </a:custGeom>
              <a:blipFill rotWithShape="0">
                <a:blip r:embed="rId12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894200" y="2311560"/>
                <a:ext cx="123840" cy="9360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075280" y="5257800"/>
              <a:ext cx="178200" cy="128880"/>
              <a:chOff x="5075280" y="5257800"/>
              <a:chExt cx="178200" cy="128880"/>
            </a:xfrm>
          </p:grpSpPr>
          <p:sp>
            <p:nvSpPr>
              <p:cNvPr id="80" name=""/>
              <p:cNvSpPr/>
              <p:nvPr/>
            </p:nvSpPr>
            <p:spPr>
              <a:xfrm>
                <a:off x="5075280" y="5257800"/>
                <a:ext cx="178200" cy="128880"/>
              </a:xfrm>
              <a:custGeom>
                <a:avLst/>
                <a:gdLst/>
                <a:ahLst/>
                <a:rect l="0" t="0" r="r" b="b"/>
                <a:pathLst>
                  <a:path w="495" h="358">
                    <a:moveTo>
                      <a:pt x="495" y="203"/>
                    </a:moveTo>
                    <a:lnTo>
                      <a:pt x="469" y="70"/>
                    </a:lnTo>
                    <a:lnTo>
                      <a:pt x="344" y="0"/>
                    </a:lnTo>
                    <a:lnTo>
                      <a:pt x="203" y="0"/>
                    </a:lnTo>
                    <a:lnTo>
                      <a:pt x="79" y="35"/>
                    </a:lnTo>
                    <a:lnTo>
                      <a:pt x="0" y="119"/>
                    </a:lnTo>
                    <a:lnTo>
                      <a:pt x="0" y="225"/>
                    </a:lnTo>
                    <a:lnTo>
                      <a:pt x="61" y="322"/>
                    </a:lnTo>
                    <a:lnTo>
                      <a:pt x="203" y="358"/>
                    </a:lnTo>
                    <a:lnTo>
                      <a:pt x="447" y="309"/>
                    </a:lnTo>
                    <a:lnTo>
                      <a:pt x="495" y="212"/>
                    </a:lnTo>
                    <a:lnTo>
                      <a:pt x="495" y="203"/>
                    </a:lnTo>
                    <a:close/>
                  </a:path>
                </a:pathLst>
              </a:custGeom>
              <a:blipFill rotWithShape="0">
                <a:blip r:embed="rId13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29280" y="5289480"/>
                <a:ext cx="123840" cy="9684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2519280" y="4186080"/>
              <a:ext cx="2750040" cy="1135440"/>
            </a:xfrm>
            <a:custGeom>
              <a:avLst/>
              <a:gdLst/>
              <a:ahLst/>
              <a:rect l="0" t="0" r="r" b="b"/>
              <a:pathLst>
                <a:path w="7639" h="3154">
                  <a:moveTo>
                    <a:pt x="0" y="2819"/>
                  </a:moveTo>
                  <a:lnTo>
                    <a:pt x="7084" y="0"/>
                  </a:lnTo>
                  <a:lnTo>
                    <a:pt x="7132" y="154"/>
                  </a:lnTo>
                  <a:lnTo>
                    <a:pt x="7397" y="224"/>
                  </a:lnTo>
                  <a:lnTo>
                    <a:pt x="7569" y="180"/>
                  </a:lnTo>
                  <a:lnTo>
                    <a:pt x="7639" y="180"/>
                  </a:lnTo>
                  <a:lnTo>
                    <a:pt x="3431" y="2775"/>
                  </a:lnTo>
                  <a:lnTo>
                    <a:pt x="2902" y="2952"/>
                  </a:lnTo>
                  <a:lnTo>
                    <a:pt x="2924" y="2594"/>
                  </a:lnTo>
                  <a:lnTo>
                    <a:pt x="2007" y="3154"/>
                  </a:lnTo>
                  <a:lnTo>
                    <a:pt x="2249" y="2594"/>
                  </a:lnTo>
                  <a:lnTo>
                    <a:pt x="1666" y="2731"/>
                  </a:lnTo>
                  <a:lnTo>
                    <a:pt x="1741" y="2639"/>
                  </a:lnTo>
                  <a:lnTo>
                    <a:pt x="0" y="2819"/>
                  </a:lnTo>
                  <a:close/>
                </a:path>
              </a:pathLst>
            </a:custGeom>
            <a:solidFill>
              <a:srgbClr val="00a9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5075280" y="4130640"/>
              <a:ext cx="178200" cy="128880"/>
              <a:chOff x="5075280" y="4130640"/>
              <a:chExt cx="178200" cy="128880"/>
            </a:xfrm>
          </p:grpSpPr>
          <p:sp>
            <p:nvSpPr>
              <p:cNvPr id="84" name=""/>
              <p:cNvSpPr/>
              <p:nvPr/>
            </p:nvSpPr>
            <p:spPr>
              <a:xfrm>
                <a:off x="5075280" y="4130640"/>
                <a:ext cx="178200" cy="128880"/>
              </a:xfrm>
              <a:custGeom>
                <a:avLst/>
                <a:gdLst/>
                <a:ahLst/>
                <a:rect l="0" t="0" r="r" b="b"/>
                <a:pathLst>
                  <a:path w="495" h="358">
                    <a:moveTo>
                      <a:pt x="495" y="203"/>
                    </a:moveTo>
                    <a:lnTo>
                      <a:pt x="469" y="70"/>
                    </a:lnTo>
                    <a:lnTo>
                      <a:pt x="344" y="0"/>
                    </a:lnTo>
                    <a:lnTo>
                      <a:pt x="203" y="0"/>
                    </a:lnTo>
                    <a:lnTo>
                      <a:pt x="79" y="35"/>
                    </a:lnTo>
                    <a:lnTo>
                      <a:pt x="0" y="119"/>
                    </a:lnTo>
                    <a:lnTo>
                      <a:pt x="0" y="225"/>
                    </a:lnTo>
                    <a:lnTo>
                      <a:pt x="61" y="322"/>
                    </a:lnTo>
                    <a:lnTo>
                      <a:pt x="203" y="358"/>
                    </a:lnTo>
                    <a:lnTo>
                      <a:pt x="447" y="309"/>
                    </a:lnTo>
                    <a:lnTo>
                      <a:pt x="495" y="212"/>
                    </a:lnTo>
                    <a:lnTo>
                      <a:pt x="495" y="203"/>
                    </a:lnTo>
                    <a:close/>
                  </a:path>
                </a:pathLst>
              </a:custGeom>
              <a:blipFill rotWithShape="0">
                <a:blip r:embed="rId14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129280" y="4162320"/>
                <a:ext cx="123840" cy="9684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4054320" y="1460520"/>
              <a:ext cx="2126160" cy="810000"/>
            </a:xfrm>
            <a:custGeom>
              <a:avLst/>
              <a:gdLst/>
              <a:ahLst/>
              <a:rect l="0" t="0" r="r" b="b"/>
              <a:pathLst>
                <a:path w="5906" h="2250">
                  <a:moveTo>
                    <a:pt x="0" y="105"/>
                  </a:moveTo>
                  <a:lnTo>
                    <a:pt x="0" y="1178"/>
                  </a:lnTo>
                  <a:lnTo>
                    <a:pt x="1049" y="2250"/>
                  </a:lnTo>
                  <a:lnTo>
                    <a:pt x="5015" y="2242"/>
                  </a:lnTo>
                  <a:lnTo>
                    <a:pt x="5906" y="1099"/>
                  </a:lnTo>
                  <a:lnTo>
                    <a:pt x="5906" y="163"/>
                  </a:lnTo>
                  <a:lnTo>
                    <a:pt x="4614" y="0"/>
                  </a:lnTo>
                  <a:lnTo>
                    <a:pt x="3497" y="418"/>
                  </a:lnTo>
                  <a:lnTo>
                    <a:pt x="2117" y="211"/>
                  </a:lnTo>
                  <a:lnTo>
                    <a:pt x="1111" y="357"/>
                  </a:lnTo>
                  <a:lnTo>
                    <a:pt x="0" y="105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cecec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4529160" y="1565280"/>
              <a:ext cx="1252440" cy="75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jector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17880" y="4078440"/>
              <a:ext cx="1060560" cy="0"/>
            </a:xfrm>
            <a:prstGeom prst="line">
              <a:avLst/>
            </a:prstGeom>
            <a:ln w="38160">
              <a:solidFill>
                <a:srgbClr val="618ff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98800" y="4245120"/>
              <a:ext cx="106200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1280" y="3772080"/>
              <a:ext cx="2506680" cy="590400"/>
            </a:xfrm>
            <a:prstGeom prst="round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349200" y="3749760"/>
              <a:ext cx="1967040" cy="41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  <a:ea typeface="Arial"/>
                </a:rPr>
                <a:t>Fluorescen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1322280" y="4010040"/>
              <a:ext cx="1127160" cy="41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  <a:ea typeface="Arial"/>
                </a:rPr>
                <a:t>signal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1280" y="4800600"/>
              <a:ext cx="2506680" cy="590400"/>
            </a:xfrm>
            <a:prstGeom prst="roundRect">
              <a:avLst/>
            </a:pr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695160" y="4795920"/>
              <a:ext cx="2044800" cy="41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  <a:ea typeface="Arial"/>
                </a:rPr>
                <a:t>Focused las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1881360" y="5038560"/>
              <a:ext cx="895320" cy="41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  <a:ea typeface="Arial"/>
                </a:rPr>
                <a:t>bea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948280" y="1981080"/>
              <a:ext cx="927000" cy="63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hea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19600" y="2637000"/>
              <a:ext cx="527760" cy="1357920"/>
            </a:xfrm>
            <a:custGeom>
              <a:avLst/>
              <a:gdLst/>
              <a:ahLst/>
              <a:rect l="0" t="0" r="r" b="b"/>
              <a:pathLst>
                <a:path fill="none" w="1466" h="3772">
                  <a:moveTo>
                    <a:pt x="1466" y="0"/>
                  </a:moveTo>
                  <a:lnTo>
                    <a:pt x="1466" y="0"/>
                  </a:lnTo>
                  <a:cubicBezTo>
                    <a:pt x="1209" y="1"/>
                    <a:pt x="957" y="176"/>
                    <a:pt x="735" y="506"/>
                  </a:cubicBezTo>
                  <a:cubicBezTo>
                    <a:pt x="511" y="837"/>
                    <a:pt x="326" y="1314"/>
                    <a:pt x="197" y="1888"/>
                  </a:cubicBezTo>
                  <a:cubicBezTo>
                    <a:pt x="68" y="2461"/>
                    <a:pt x="0" y="3111"/>
                    <a:pt x="0" y="3772"/>
                  </a:cubicBezTo>
                </a:path>
              </a:pathLst>
            </a:custGeom>
            <a:ln w="25560">
              <a:solidFill>
                <a:srgbClr val="919191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07320" y="2619360"/>
              <a:ext cx="490320" cy="1359360"/>
            </a:xfrm>
            <a:custGeom>
              <a:avLst/>
              <a:gdLst/>
              <a:ahLst/>
              <a:rect l="0" t="0" r="r" b="b"/>
              <a:pathLst>
                <a:path fill="none" w="1362" h="3776">
                  <a:moveTo>
                    <a:pt x="1362" y="3776"/>
                  </a:moveTo>
                  <a:lnTo>
                    <a:pt x="1362" y="3776"/>
                  </a:lnTo>
                  <a:lnTo>
                    <a:pt x="1362" y="3776"/>
                  </a:lnTo>
                  <a:cubicBezTo>
                    <a:pt x="1362" y="3113"/>
                    <a:pt x="1299" y="2462"/>
                    <a:pt x="1180" y="1888"/>
                  </a:cubicBezTo>
                  <a:cubicBezTo>
                    <a:pt x="1061" y="1314"/>
                    <a:pt x="889" y="837"/>
                    <a:pt x="683" y="506"/>
                  </a:cubicBezTo>
                  <a:cubicBezTo>
                    <a:pt x="476" y="174"/>
                    <a:pt x="242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ln w="25560">
              <a:solidFill>
                <a:srgbClr val="919191"/>
              </a:solidFill>
              <a:round/>
              <a:head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509840" y="1509840"/>
            <a:ext cx="642636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720800" y="3006720"/>
            <a:ext cx="4272480" cy="697320"/>
          </a:xfrm>
          <a:custGeom>
            <a:avLst/>
            <a:gdLst/>
            <a:ahLst/>
            <a:rect l="0" t="0" r="r" b="b"/>
            <a:pathLst>
              <a:path w="11868" h="1937">
                <a:moveTo>
                  <a:pt x="0" y="0"/>
                </a:moveTo>
                <a:lnTo>
                  <a:pt x="11868" y="0"/>
                </a:lnTo>
                <a:lnTo>
                  <a:pt x="11868" y="1937"/>
                </a:lnTo>
                <a:lnTo>
                  <a:pt x="0" y="1937"/>
                </a:lnTo>
                <a:lnTo>
                  <a:pt x="0" y="0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673360" y="30211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683160" y="3016080"/>
            <a:ext cx="0" cy="8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694400" y="3016080"/>
            <a:ext cx="0" cy="8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05640" y="301320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79800" y="30160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187800" y="301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95800" y="301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05240" y="301320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944720" y="30160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954160" y="301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301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970520" y="301320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436840" y="301932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46640" y="30160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456080" y="30160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464080" y="301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73360" y="368460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83160" y="36831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94400" y="36831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05640" y="3679920"/>
            <a:ext cx="0" cy="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84560" y="3112920"/>
            <a:ext cx="1846800" cy="574920"/>
          </a:xfrm>
          <a:custGeom>
            <a:avLst/>
            <a:gdLst/>
            <a:ahLst/>
            <a:rect l="0" t="0" r="r" b="b"/>
            <a:pathLst>
              <a:path w="5130" h="1597">
                <a:moveTo>
                  <a:pt x="0" y="1575"/>
                </a:moveTo>
                <a:lnTo>
                  <a:pt x="388" y="1487"/>
                </a:lnTo>
                <a:lnTo>
                  <a:pt x="454" y="1447"/>
                </a:lnTo>
                <a:lnTo>
                  <a:pt x="555" y="1407"/>
                </a:lnTo>
                <a:lnTo>
                  <a:pt x="683" y="1332"/>
                </a:lnTo>
                <a:lnTo>
                  <a:pt x="780" y="1218"/>
                </a:lnTo>
                <a:lnTo>
                  <a:pt x="881" y="1121"/>
                </a:lnTo>
                <a:lnTo>
                  <a:pt x="978" y="962"/>
                </a:lnTo>
                <a:lnTo>
                  <a:pt x="1075" y="852"/>
                </a:lnTo>
                <a:lnTo>
                  <a:pt x="1142" y="577"/>
                </a:lnTo>
                <a:lnTo>
                  <a:pt x="1208" y="405"/>
                </a:lnTo>
                <a:lnTo>
                  <a:pt x="1261" y="339"/>
                </a:lnTo>
                <a:lnTo>
                  <a:pt x="1323" y="242"/>
                </a:lnTo>
                <a:lnTo>
                  <a:pt x="1456" y="119"/>
                </a:lnTo>
                <a:lnTo>
                  <a:pt x="1729" y="105"/>
                </a:lnTo>
                <a:lnTo>
                  <a:pt x="1954" y="66"/>
                </a:lnTo>
                <a:lnTo>
                  <a:pt x="2346" y="22"/>
                </a:lnTo>
                <a:lnTo>
                  <a:pt x="2474" y="0"/>
                </a:lnTo>
                <a:lnTo>
                  <a:pt x="2673" y="22"/>
                </a:lnTo>
                <a:lnTo>
                  <a:pt x="2770" y="57"/>
                </a:lnTo>
                <a:lnTo>
                  <a:pt x="2999" y="127"/>
                </a:lnTo>
                <a:lnTo>
                  <a:pt x="3224" y="255"/>
                </a:lnTo>
                <a:lnTo>
                  <a:pt x="3422" y="489"/>
                </a:lnTo>
                <a:lnTo>
                  <a:pt x="3616" y="891"/>
                </a:lnTo>
                <a:lnTo>
                  <a:pt x="3749" y="1103"/>
                </a:lnTo>
                <a:lnTo>
                  <a:pt x="3815" y="1218"/>
                </a:lnTo>
                <a:lnTo>
                  <a:pt x="3909" y="1262"/>
                </a:lnTo>
                <a:lnTo>
                  <a:pt x="4076" y="1345"/>
                </a:lnTo>
                <a:lnTo>
                  <a:pt x="4367" y="1407"/>
                </a:lnTo>
                <a:lnTo>
                  <a:pt x="4596" y="1465"/>
                </a:lnTo>
                <a:lnTo>
                  <a:pt x="5130" y="1579"/>
                </a:lnTo>
                <a:lnTo>
                  <a:pt x="2011" y="1588"/>
                </a:lnTo>
                <a:lnTo>
                  <a:pt x="13" y="1597"/>
                </a:lnTo>
                <a:lnTo>
                  <a:pt x="0" y="1575"/>
                </a:lnTo>
                <a:close/>
              </a:path>
            </a:pathLst>
          </a:custGeom>
          <a:gradFill rotWithShape="0">
            <a:gsLst>
              <a:gs pos="0">
                <a:srgbClr val="618ffd"/>
              </a:gs>
              <a:gs pos="100000">
                <a:srgbClr val="5780e3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402000" y="3141720"/>
            <a:ext cx="2580120" cy="551160"/>
          </a:xfrm>
          <a:custGeom>
            <a:avLst/>
            <a:gdLst/>
            <a:ahLst/>
            <a:rect l="0" t="0" r="r" b="b"/>
            <a:pathLst>
              <a:path w="7167" h="1531">
                <a:moveTo>
                  <a:pt x="0" y="1531"/>
                </a:moveTo>
                <a:lnTo>
                  <a:pt x="612" y="1301"/>
                </a:lnTo>
                <a:lnTo>
                  <a:pt x="934" y="1169"/>
                </a:lnTo>
                <a:lnTo>
                  <a:pt x="1230" y="1010"/>
                </a:lnTo>
                <a:lnTo>
                  <a:pt x="1490" y="882"/>
                </a:lnTo>
                <a:lnTo>
                  <a:pt x="1684" y="736"/>
                </a:lnTo>
                <a:lnTo>
                  <a:pt x="1950" y="590"/>
                </a:lnTo>
                <a:lnTo>
                  <a:pt x="2272" y="392"/>
                </a:lnTo>
                <a:lnTo>
                  <a:pt x="2536" y="220"/>
                </a:lnTo>
                <a:lnTo>
                  <a:pt x="2827" y="66"/>
                </a:lnTo>
                <a:lnTo>
                  <a:pt x="2955" y="17"/>
                </a:lnTo>
                <a:lnTo>
                  <a:pt x="3087" y="0"/>
                </a:lnTo>
                <a:lnTo>
                  <a:pt x="3149" y="0"/>
                </a:lnTo>
                <a:lnTo>
                  <a:pt x="3250" y="8"/>
                </a:lnTo>
                <a:lnTo>
                  <a:pt x="3347" y="26"/>
                </a:lnTo>
                <a:lnTo>
                  <a:pt x="3480" y="66"/>
                </a:lnTo>
                <a:lnTo>
                  <a:pt x="3674" y="207"/>
                </a:lnTo>
                <a:lnTo>
                  <a:pt x="3806" y="304"/>
                </a:lnTo>
                <a:lnTo>
                  <a:pt x="4031" y="440"/>
                </a:lnTo>
                <a:lnTo>
                  <a:pt x="4229" y="590"/>
                </a:lnTo>
                <a:lnTo>
                  <a:pt x="4423" y="745"/>
                </a:lnTo>
                <a:lnTo>
                  <a:pt x="5045" y="1129"/>
                </a:lnTo>
                <a:lnTo>
                  <a:pt x="5367" y="1253"/>
                </a:lnTo>
                <a:lnTo>
                  <a:pt x="5633" y="1350"/>
                </a:lnTo>
                <a:lnTo>
                  <a:pt x="5796" y="1368"/>
                </a:lnTo>
                <a:lnTo>
                  <a:pt x="6021" y="1407"/>
                </a:lnTo>
                <a:lnTo>
                  <a:pt x="6413" y="1451"/>
                </a:lnTo>
                <a:lnTo>
                  <a:pt x="6770" y="1482"/>
                </a:lnTo>
                <a:lnTo>
                  <a:pt x="7167" y="1513"/>
                </a:lnTo>
                <a:lnTo>
                  <a:pt x="4" y="1526"/>
                </a:lnTo>
                <a:lnTo>
                  <a:pt x="0" y="15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95ab7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720800" y="3740040"/>
            <a:ext cx="4258080" cy="671760"/>
          </a:xfrm>
          <a:custGeom>
            <a:avLst/>
            <a:gdLst/>
            <a:ahLst/>
            <a:rect l="0" t="0" r="r" b="b"/>
            <a:pathLst>
              <a:path w="11828" h="1866">
                <a:moveTo>
                  <a:pt x="0" y="0"/>
                </a:moveTo>
                <a:lnTo>
                  <a:pt x="11828" y="0"/>
                </a:lnTo>
                <a:lnTo>
                  <a:pt x="11828" y="1866"/>
                </a:lnTo>
                <a:lnTo>
                  <a:pt x="0" y="1866"/>
                </a:lnTo>
                <a:lnTo>
                  <a:pt x="0" y="0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668680" y="3753000"/>
            <a:ext cx="0" cy="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76680" y="37497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686480" y="37497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692680" y="374652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176560" y="374976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184560" y="37465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189320" y="37465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194440" y="374652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943280" y="374976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948040" y="37465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956040" y="37465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960800" y="374652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35400" y="375120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440160" y="374976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444920" y="374976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451480" y="37465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692680" y="441180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065400" y="3841920"/>
            <a:ext cx="1627560" cy="555840"/>
          </a:xfrm>
          <a:custGeom>
            <a:avLst/>
            <a:gdLst/>
            <a:ahLst/>
            <a:rect l="0" t="0" r="r" b="b"/>
            <a:pathLst>
              <a:path w="4521" h="1544">
                <a:moveTo>
                  <a:pt x="0" y="1535"/>
                </a:moveTo>
                <a:lnTo>
                  <a:pt x="158" y="1526"/>
                </a:lnTo>
                <a:lnTo>
                  <a:pt x="388" y="1478"/>
                </a:lnTo>
                <a:lnTo>
                  <a:pt x="551" y="1420"/>
                </a:lnTo>
                <a:lnTo>
                  <a:pt x="648" y="1345"/>
                </a:lnTo>
                <a:lnTo>
                  <a:pt x="811" y="1187"/>
                </a:lnTo>
                <a:lnTo>
                  <a:pt x="912" y="1059"/>
                </a:lnTo>
                <a:lnTo>
                  <a:pt x="1005" y="882"/>
                </a:lnTo>
                <a:lnTo>
                  <a:pt x="1204" y="555"/>
                </a:lnTo>
                <a:lnTo>
                  <a:pt x="1363" y="405"/>
                </a:lnTo>
                <a:lnTo>
                  <a:pt x="1592" y="348"/>
                </a:lnTo>
                <a:lnTo>
                  <a:pt x="1786" y="299"/>
                </a:lnTo>
                <a:lnTo>
                  <a:pt x="2113" y="339"/>
                </a:lnTo>
                <a:lnTo>
                  <a:pt x="2342" y="357"/>
                </a:lnTo>
                <a:lnTo>
                  <a:pt x="2598" y="339"/>
                </a:lnTo>
                <a:lnTo>
                  <a:pt x="2893" y="260"/>
                </a:lnTo>
                <a:lnTo>
                  <a:pt x="3021" y="154"/>
                </a:lnTo>
                <a:lnTo>
                  <a:pt x="3153" y="79"/>
                </a:lnTo>
                <a:lnTo>
                  <a:pt x="3378" y="26"/>
                </a:lnTo>
                <a:lnTo>
                  <a:pt x="3543" y="0"/>
                </a:lnTo>
                <a:lnTo>
                  <a:pt x="3644" y="61"/>
                </a:lnTo>
                <a:lnTo>
                  <a:pt x="3578" y="339"/>
                </a:lnTo>
                <a:lnTo>
                  <a:pt x="3644" y="577"/>
                </a:lnTo>
                <a:lnTo>
                  <a:pt x="3675" y="807"/>
                </a:lnTo>
                <a:lnTo>
                  <a:pt x="3706" y="1059"/>
                </a:lnTo>
                <a:lnTo>
                  <a:pt x="3772" y="1213"/>
                </a:lnTo>
                <a:lnTo>
                  <a:pt x="3869" y="1315"/>
                </a:lnTo>
                <a:lnTo>
                  <a:pt x="3966" y="1394"/>
                </a:lnTo>
                <a:lnTo>
                  <a:pt x="4098" y="1469"/>
                </a:lnTo>
                <a:lnTo>
                  <a:pt x="4226" y="1509"/>
                </a:lnTo>
                <a:lnTo>
                  <a:pt x="4521" y="1544"/>
                </a:lnTo>
                <a:lnTo>
                  <a:pt x="0" y="153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18ffd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005360" y="3838680"/>
            <a:ext cx="1259280" cy="563760"/>
          </a:xfrm>
          <a:custGeom>
            <a:avLst/>
            <a:gdLst/>
            <a:ahLst/>
            <a:rect l="0" t="0" r="r" b="b"/>
            <a:pathLst>
              <a:path w="3498" h="1566">
                <a:moveTo>
                  <a:pt x="0" y="1566"/>
                </a:moveTo>
                <a:lnTo>
                  <a:pt x="251" y="1513"/>
                </a:lnTo>
                <a:lnTo>
                  <a:pt x="511" y="1473"/>
                </a:lnTo>
                <a:lnTo>
                  <a:pt x="639" y="1425"/>
                </a:lnTo>
                <a:lnTo>
                  <a:pt x="740" y="1350"/>
                </a:lnTo>
                <a:lnTo>
                  <a:pt x="868" y="1187"/>
                </a:lnTo>
                <a:lnTo>
                  <a:pt x="966" y="843"/>
                </a:lnTo>
                <a:lnTo>
                  <a:pt x="1094" y="485"/>
                </a:lnTo>
                <a:lnTo>
                  <a:pt x="1196" y="268"/>
                </a:lnTo>
                <a:lnTo>
                  <a:pt x="1257" y="92"/>
                </a:lnTo>
                <a:lnTo>
                  <a:pt x="1257" y="22"/>
                </a:lnTo>
                <a:lnTo>
                  <a:pt x="1390" y="0"/>
                </a:lnTo>
                <a:lnTo>
                  <a:pt x="1420" y="17"/>
                </a:lnTo>
                <a:lnTo>
                  <a:pt x="1517" y="352"/>
                </a:lnTo>
                <a:lnTo>
                  <a:pt x="1645" y="718"/>
                </a:lnTo>
                <a:lnTo>
                  <a:pt x="1875" y="1143"/>
                </a:lnTo>
                <a:lnTo>
                  <a:pt x="2201" y="1279"/>
                </a:lnTo>
                <a:lnTo>
                  <a:pt x="2523" y="1359"/>
                </a:lnTo>
                <a:lnTo>
                  <a:pt x="2819" y="1434"/>
                </a:lnTo>
                <a:lnTo>
                  <a:pt x="3146" y="1513"/>
                </a:lnTo>
                <a:lnTo>
                  <a:pt x="3498" y="1539"/>
                </a:lnTo>
                <a:lnTo>
                  <a:pt x="0" y="156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6bf69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292800" y="3166920"/>
            <a:ext cx="146844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thi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369120" y="3841920"/>
            <a:ext cx="57168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664000" y="516420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672000" y="516240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81440" y="516240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716120" y="5191200"/>
            <a:ext cx="4272480" cy="713160"/>
          </a:xfrm>
          <a:custGeom>
            <a:avLst/>
            <a:gdLst/>
            <a:ahLst/>
            <a:rect l="0" t="0" r="r" b="b"/>
            <a:pathLst>
              <a:path w="11868" h="1981">
                <a:moveTo>
                  <a:pt x="0" y="0"/>
                </a:moveTo>
                <a:lnTo>
                  <a:pt x="11868" y="0"/>
                </a:lnTo>
                <a:lnTo>
                  <a:pt x="11868" y="1981"/>
                </a:lnTo>
                <a:lnTo>
                  <a:pt x="0" y="1981"/>
                </a:lnTo>
                <a:lnTo>
                  <a:pt x="0" y="0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68680" y="52038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679920" y="5202360"/>
            <a:ext cx="0" cy="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691160" y="5202360"/>
            <a:ext cx="0" cy="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702400" y="5199120"/>
            <a:ext cx="0" cy="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476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18456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9256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02360" y="519732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4004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4804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95928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68720" y="519732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33600" y="52023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44160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45140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460840" y="5200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668680" y="589284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679920" y="589104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691160" y="589104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702400" y="5888160"/>
            <a:ext cx="0" cy="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16120" y="5292720"/>
            <a:ext cx="559080" cy="592560"/>
          </a:xfrm>
          <a:custGeom>
            <a:avLst/>
            <a:gdLst/>
            <a:ahLst/>
            <a:rect l="0" t="0" r="r" b="b"/>
            <a:pathLst>
              <a:path w="1553" h="1646">
                <a:moveTo>
                  <a:pt x="0" y="1629"/>
                </a:moveTo>
                <a:lnTo>
                  <a:pt x="22" y="1041"/>
                </a:lnTo>
                <a:lnTo>
                  <a:pt x="70" y="847"/>
                </a:lnTo>
                <a:lnTo>
                  <a:pt x="92" y="631"/>
                </a:lnTo>
                <a:lnTo>
                  <a:pt x="158" y="494"/>
                </a:lnTo>
                <a:lnTo>
                  <a:pt x="207" y="352"/>
                </a:lnTo>
                <a:lnTo>
                  <a:pt x="251" y="229"/>
                </a:lnTo>
                <a:lnTo>
                  <a:pt x="295" y="145"/>
                </a:lnTo>
                <a:lnTo>
                  <a:pt x="366" y="74"/>
                </a:lnTo>
                <a:lnTo>
                  <a:pt x="458" y="26"/>
                </a:lnTo>
                <a:lnTo>
                  <a:pt x="551" y="0"/>
                </a:lnTo>
                <a:lnTo>
                  <a:pt x="617" y="52"/>
                </a:lnTo>
                <a:lnTo>
                  <a:pt x="665" y="127"/>
                </a:lnTo>
                <a:lnTo>
                  <a:pt x="732" y="308"/>
                </a:lnTo>
                <a:lnTo>
                  <a:pt x="799" y="565"/>
                </a:lnTo>
                <a:lnTo>
                  <a:pt x="856" y="856"/>
                </a:lnTo>
                <a:lnTo>
                  <a:pt x="922" y="1046"/>
                </a:lnTo>
                <a:lnTo>
                  <a:pt x="1041" y="1452"/>
                </a:lnTo>
                <a:lnTo>
                  <a:pt x="1553" y="1646"/>
                </a:lnTo>
                <a:lnTo>
                  <a:pt x="0" y="162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49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247840" y="5302080"/>
            <a:ext cx="1206720" cy="584640"/>
          </a:xfrm>
          <a:custGeom>
            <a:avLst/>
            <a:gdLst/>
            <a:ahLst/>
            <a:rect l="0" t="0" r="r" b="b"/>
            <a:pathLst>
              <a:path w="3352" h="1624">
                <a:moveTo>
                  <a:pt x="0" y="1624"/>
                </a:moveTo>
                <a:lnTo>
                  <a:pt x="260" y="1536"/>
                </a:lnTo>
                <a:lnTo>
                  <a:pt x="388" y="1496"/>
                </a:lnTo>
                <a:lnTo>
                  <a:pt x="551" y="1448"/>
                </a:lnTo>
                <a:lnTo>
                  <a:pt x="679" y="1360"/>
                </a:lnTo>
                <a:lnTo>
                  <a:pt x="811" y="1213"/>
                </a:lnTo>
                <a:lnTo>
                  <a:pt x="943" y="860"/>
                </a:lnTo>
                <a:lnTo>
                  <a:pt x="1005" y="715"/>
                </a:lnTo>
                <a:lnTo>
                  <a:pt x="1040" y="464"/>
                </a:lnTo>
                <a:lnTo>
                  <a:pt x="1071" y="286"/>
                </a:lnTo>
                <a:lnTo>
                  <a:pt x="1071" y="180"/>
                </a:lnTo>
                <a:lnTo>
                  <a:pt x="1106" y="79"/>
                </a:lnTo>
                <a:lnTo>
                  <a:pt x="1133" y="26"/>
                </a:lnTo>
                <a:lnTo>
                  <a:pt x="1239" y="0"/>
                </a:lnTo>
                <a:lnTo>
                  <a:pt x="1331" y="22"/>
                </a:lnTo>
                <a:lnTo>
                  <a:pt x="1428" y="61"/>
                </a:lnTo>
                <a:lnTo>
                  <a:pt x="1530" y="119"/>
                </a:lnTo>
                <a:lnTo>
                  <a:pt x="1627" y="242"/>
                </a:lnTo>
                <a:lnTo>
                  <a:pt x="1760" y="388"/>
                </a:lnTo>
                <a:lnTo>
                  <a:pt x="1883" y="547"/>
                </a:lnTo>
                <a:lnTo>
                  <a:pt x="2051" y="755"/>
                </a:lnTo>
                <a:lnTo>
                  <a:pt x="2214" y="1002"/>
                </a:lnTo>
                <a:lnTo>
                  <a:pt x="2377" y="1219"/>
                </a:lnTo>
                <a:lnTo>
                  <a:pt x="2536" y="1369"/>
                </a:lnTo>
                <a:lnTo>
                  <a:pt x="2699" y="1457"/>
                </a:lnTo>
                <a:lnTo>
                  <a:pt x="2832" y="1536"/>
                </a:lnTo>
                <a:lnTo>
                  <a:pt x="2995" y="1576"/>
                </a:lnTo>
                <a:lnTo>
                  <a:pt x="3127" y="1585"/>
                </a:lnTo>
                <a:lnTo>
                  <a:pt x="3352" y="1615"/>
                </a:lnTo>
                <a:lnTo>
                  <a:pt x="0" y="1624"/>
                </a:lnTo>
                <a:close/>
              </a:path>
            </a:pathLst>
          </a:custGeom>
          <a:gradFill rotWithShape="0">
            <a:gsLst>
              <a:gs pos="0">
                <a:srgbClr val="cc8ffa"/>
              </a:gs>
              <a:gs pos="100000">
                <a:srgbClr val="b760f9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127920" y="5408640"/>
            <a:ext cx="268920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is-Parina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245280" y="1673280"/>
            <a:ext cx="16891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exas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197760" y="950760"/>
            <a:ext cx="192564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E-TR Con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480000" y="2363760"/>
            <a:ext cx="4525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20800" y="2309760"/>
            <a:ext cx="4272480" cy="673560"/>
          </a:xfrm>
          <a:custGeom>
            <a:avLst/>
            <a:gdLst/>
            <a:ahLst/>
            <a:rect l="0" t="0" r="r" b="b"/>
            <a:pathLst>
              <a:path w="11868" h="1871">
                <a:moveTo>
                  <a:pt x="0" y="0"/>
                </a:moveTo>
                <a:lnTo>
                  <a:pt x="11868" y="0"/>
                </a:lnTo>
                <a:lnTo>
                  <a:pt x="11868" y="1871"/>
                </a:lnTo>
                <a:lnTo>
                  <a:pt x="0" y="1871"/>
                </a:lnTo>
                <a:lnTo>
                  <a:pt x="0" y="0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673360" y="232236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683160" y="2320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694400" y="2320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705640" y="2317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179800" y="231948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187800" y="231948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195800" y="231948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205240" y="23162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944720" y="231948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952720" y="231948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62520" y="231948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970520" y="23162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436840" y="232092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46640" y="231948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456080" y="231948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464080" y="231948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673360" y="297180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83160" y="296856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694400" y="296856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05640" y="2967120"/>
            <a:ext cx="0" cy="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584440" y="2421000"/>
            <a:ext cx="2297520" cy="552960"/>
          </a:xfrm>
          <a:custGeom>
            <a:avLst/>
            <a:gdLst/>
            <a:ahLst/>
            <a:rect l="0" t="0" r="r" b="b"/>
            <a:pathLst>
              <a:path w="6382" h="1536">
                <a:moveTo>
                  <a:pt x="13" y="1510"/>
                </a:moveTo>
                <a:lnTo>
                  <a:pt x="436" y="1413"/>
                </a:lnTo>
                <a:lnTo>
                  <a:pt x="930" y="1311"/>
                </a:lnTo>
                <a:lnTo>
                  <a:pt x="1186" y="1263"/>
                </a:lnTo>
                <a:lnTo>
                  <a:pt x="1481" y="1179"/>
                </a:lnTo>
                <a:lnTo>
                  <a:pt x="1641" y="1125"/>
                </a:lnTo>
                <a:lnTo>
                  <a:pt x="1839" y="1028"/>
                </a:lnTo>
                <a:lnTo>
                  <a:pt x="2069" y="904"/>
                </a:lnTo>
                <a:lnTo>
                  <a:pt x="2201" y="816"/>
                </a:lnTo>
                <a:lnTo>
                  <a:pt x="2360" y="684"/>
                </a:lnTo>
                <a:lnTo>
                  <a:pt x="2523" y="543"/>
                </a:lnTo>
                <a:lnTo>
                  <a:pt x="2690" y="411"/>
                </a:lnTo>
                <a:lnTo>
                  <a:pt x="2854" y="326"/>
                </a:lnTo>
                <a:lnTo>
                  <a:pt x="2915" y="282"/>
                </a:lnTo>
                <a:lnTo>
                  <a:pt x="3017" y="216"/>
                </a:lnTo>
                <a:lnTo>
                  <a:pt x="3242" y="92"/>
                </a:lnTo>
                <a:lnTo>
                  <a:pt x="3533" y="22"/>
                </a:lnTo>
                <a:lnTo>
                  <a:pt x="3665" y="0"/>
                </a:lnTo>
                <a:lnTo>
                  <a:pt x="3859" y="22"/>
                </a:lnTo>
                <a:lnTo>
                  <a:pt x="3960" y="57"/>
                </a:lnTo>
                <a:lnTo>
                  <a:pt x="4185" y="123"/>
                </a:lnTo>
                <a:lnTo>
                  <a:pt x="4419" y="251"/>
                </a:lnTo>
                <a:lnTo>
                  <a:pt x="4613" y="477"/>
                </a:lnTo>
                <a:lnTo>
                  <a:pt x="4808" y="869"/>
                </a:lnTo>
                <a:lnTo>
                  <a:pt x="4940" y="1076"/>
                </a:lnTo>
                <a:lnTo>
                  <a:pt x="5002" y="1188"/>
                </a:lnTo>
                <a:lnTo>
                  <a:pt x="5099" y="1236"/>
                </a:lnTo>
                <a:lnTo>
                  <a:pt x="5262" y="1311"/>
                </a:lnTo>
                <a:lnTo>
                  <a:pt x="5558" y="1377"/>
                </a:lnTo>
                <a:lnTo>
                  <a:pt x="5787" y="1430"/>
                </a:lnTo>
                <a:lnTo>
                  <a:pt x="6078" y="1501"/>
                </a:lnTo>
                <a:lnTo>
                  <a:pt x="6206" y="1461"/>
                </a:lnTo>
                <a:lnTo>
                  <a:pt x="6382" y="1536"/>
                </a:lnTo>
                <a:lnTo>
                  <a:pt x="0" y="1536"/>
                </a:lnTo>
                <a:lnTo>
                  <a:pt x="13" y="151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18ffd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94120" y="2427120"/>
            <a:ext cx="1922760" cy="546480"/>
          </a:xfrm>
          <a:custGeom>
            <a:avLst/>
            <a:gdLst/>
            <a:ahLst/>
            <a:rect l="0" t="0" r="r" b="b"/>
            <a:pathLst>
              <a:path w="5341" h="1518">
                <a:moveTo>
                  <a:pt x="0" y="1518"/>
                </a:moveTo>
                <a:lnTo>
                  <a:pt x="348" y="1329"/>
                </a:lnTo>
                <a:lnTo>
                  <a:pt x="740" y="1148"/>
                </a:lnTo>
                <a:lnTo>
                  <a:pt x="1067" y="962"/>
                </a:lnTo>
                <a:lnTo>
                  <a:pt x="1296" y="838"/>
                </a:lnTo>
                <a:lnTo>
                  <a:pt x="1490" y="719"/>
                </a:lnTo>
                <a:lnTo>
                  <a:pt x="1755" y="578"/>
                </a:lnTo>
                <a:lnTo>
                  <a:pt x="2076" y="384"/>
                </a:lnTo>
                <a:lnTo>
                  <a:pt x="2341" y="216"/>
                </a:lnTo>
                <a:lnTo>
                  <a:pt x="2632" y="66"/>
                </a:lnTo>
                <a:lnTo>
                  <a:pt x="2765" y="22"/>
                </a:lnTo>
                <a:lnTo>
                  <a:pt x="2893" y="0"/>
                </a:lnTo>
                <a:lnTo>
                  <a:pt x="2959" y="0"/>
                </a:lnTo>
                <a:lnTo>
                  <a:pt x="3061" y="8"/>
                </a:lnTo>
                <a:lnTo>
                  <a:pt x="3158" y="26"/>
                </a:lnTo>
                <a:lnTo>
                  <a:pt x="3290" y="66"/>
                </a:lnTo>
                <a:lnTo>
                  <a:pt x="3480" y="207"/>
                </a:lnTo>
                <a:lnTo>
                  <a:pt x="3612" y="299"/>
                </a:lnTo>
                <a:lnTo>
                  <a:pt x="3841" y="433"/>
                </a:lnTo>
                <a:lnTo>
                  <a:pt x="4035" y="578"/>
                </a:lnTo>
                <a:lnTo>
                  <a:pt x="4234" y="728"/>
                </a:lnTo>
                <a:lnTo>
                  <a:pt x="4362" y="865"/>
                </a:lnTo>
                <a:lnTo>
                  <a:pt x="4591" y="1032"/>
                </a:lnTo>
                <a:lnTo>
                  <a:pt x="4820" y="1161"/>
                </a:lnTo>
                <a:lnTo>
                  <a:pt x="4983" y="1307"/>
                </a:lnTo>
                <a:lnTo>
                  <a:pt x="5116" y="1382"/>
                </a:lnTo>
                <a:lnTo>
                  <a:pt x="5341" y="1492"/>
                </a:lnTo>
                <a:lnTo>
                  <a:pt x="0" y="151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95ab7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719360" y="1563840"/>
            <a:ext cx="4273920" cy="700560"/>
          </a:xfrm>
          <a:custGeom>
            <a:avLst/>
            <a:gdLst/>
            <a:ahLst/>
            <a:rect l="0" t="0" r="r" b="b"/>
            <a:pathLst>
              <a:path w="11872" h="1946">
                <a:moveTo>
                  <a:pt x="0" y="0"/>
                </a:moveTo>
                <a:lnTo>
                  <a:pt x="11872" y="0"/>
                </a:lnTo>
                <a:lnTo>
                  <a:pt x="11872" y="1946"/>
                </a:lnTo>
                <a:lnTo>
                  <a:pt x="0" y="1946"/>
                </a:lnTo>
                <a:lnTo>
                  <a:pt x="0" y="0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58960" y="157464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75240" y="157320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89360" y="157320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03840" y="15699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165400" y="157320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178080" y="15699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191120" y="15699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02360" y="15699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30320" y="157320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941560" y="15699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956040" y="15699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968720" y="15699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424240" y="15746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35480" y="157320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449600" y="157320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462640" y="15699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658960" y="225252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675240" y="2249640"/>
            <a:ext cx="0" cy="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89360" y="2249640"/>
            <a:ext cx="0" cy="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03840" y="224784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683160" y="1665360"/>
            <a:ext cx="1462320" cy="584640"/>
          </a:xfrm>
          <a:custGeom>
            <a:avLst/>
            <a:gdLst/>
            <a:ahLst/>
            <a:rect l="0" t="0" r="r" b="b"/>
            <a:pathLst>
              <a:path w="4062" h="1624">
                <a:moveTo>
                  <a:pt x="0" y="1615"/>
                </a:moveTo>
                <a:lnTo>
                  <a:pt x="163" y="1589"/>
                </a:lnTo>
                <a:lnTo>
                  <a:pt x="229" y="1567"/>
                </a:lnTo>
                <a:lnTo>
                  <a:pt x="326" y="1518"/>
                </a:lnTo>
                <a:lnTo>
                  <a:pt x="427" y="1483"/>
                </a:lnTo>
                <a:lnTo>
                  <a:pt x="555" y="1426"/>
                </a:lnTo>
                <a:lnTo>
                  <a:pt x="657" y="1355"/>
                </a:lnTo>
                <a:lnTo>
                  <a:pt x="820" y="1276"/>
                </a:lnTo>
                <a:lnTo>
                  <a:pt x="983" y="1209"/>
                </a:lnTo>
                <a:lnTo>
                  <a:pt x="1243" y="1099"/>
                </a:lnTo>
                <a:lnTo>
                  <a:pt x="1569" y="962"/>
                </a:lnTo>
                <a:lnTo>
                  <a:pt x="1865" y="816"/>
                </a:lnTo>
                <a:lnTo>
                  <a:pt x="2064" y="675"/>
                </a:lnTo>
                <a:lnTo>
                  <a:pt x="2197" y="477"/>
                </a:lnTo>
                <a:lnTo>
                  <a:pt x="2294" y="330"/>
                </a:lnTo>
                <a:lnTo>
                  <a:pt x="2421" y="127"/>
                </a:lnTo>
                <a:lnTo>
                  <a:pt x="2492" y="39"/>
                </a:lnTo>
                <a:lnTo>
                  <a:pt x="2523" y="0"/>
                </a:lnTo>
                <a:lnTo>
                  <a:pt x="2655" y="13"/>
                </a:lnTo>
                <a:lnTo>
                  <a:pt x="2748" y="61"/>
                </a:lnTo>
                <a:lnTo>
                  <a:pt x="2814" y="154"/>
                </a:lnTo>
                <a:lnTo>
                  <a:pt x="2977" y="468"/>
                </a:lnTo>
                <a:lnTo>
                  <a:pt x="3078" y="790"/>
                </a:lnTo>
                <a:lnTo>
                  <a:pt x="3145" y="1054"/>
                </a:lnTo>
                <a:lnTo>
                  <a:pt x="3242" y="1267"/>
                </a:lnTo>
                <a:lnTo>
                  <a:pt x="3374" y="1364"/>
                </a:lnTo>
                <a:lnTo>
                  <a:pt x="3568" y="1448"/>
                </a:lnTo>
                <a:lnTo>
                  <a:pt x="3669" y="1496"/>
                </a:lnTo>
                <a:lnTo>
                  <a:pt x="3797" y="1540"/>
                </a:lnTo>
                <a:lnTo>
                  <a:pt x="3930" y="1589"/>
                </a:lnTo>
                <a:lnTo>
                  <a:pt x="4062" y="1624"/>
                </a:lnTo>
                <a:lnTo>
                  <a:pt x="0" y="1615"/>
                </a:lnTo>
                <a:close/>
              </a:path>
            </a:pathLst>
          </a:custGeom>
          <a:gradFill rotWithShape="0">
            <a:gsLst>
              <a:gs pos="0">
                <a:srgbClr val="f68c5f"/>
              </a:gs>
              <a:gs pos="100000">
                <a:srgbClr val="f35b1b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437000" y="1693800"/>
            <a:ext cx="1533960" cy="560880"/>
          </a:xfrm>
          <a:custGeom>
            <a:avLst/>
            <a:gdLst/>
            <a:ahLst/>
            <a:rect l="0" t="0" r="r" b="b"/>
            <a:pathLst>
              <a:path w="4261" h="1558">
                <a:moveTo>
                  <a:pt x="0" y="1554"/>
                </a:moveTo>
                <a:lnTo>
                  <a:pt x="70" y="1523"/>
                </a:lnTo>
                <a:lnTo>
                  <a:pt x="268" y="1435"/>
                </a:lnTo>
                <a:lnTo>
                  <a:pt x="366" y="1338"/>
                </a:lnTo>
                <a:lnTo>
                  <a:pt x="427" y="1241"/>
                </a:lnTo>
                <a:lnTo>
                  <a:pt x="524" y="1085"/>
                </a:lnTo>
                <a:lnTo>
                  <a:pt x="657" y="882"/>
                </a:lnTo>
                <a:lnTo>
                  <a:pt x="824" y="635"/>
                </a:lnTo>
                <a:lnTo>
                  <a:pt x="1049" y="379"/>
                </a:lnTo>
                <a:lnTo>
                  <a:pt x="1182" y="264"/>
                </a:lnTo>
                <a:lnTo>
                  <a:pt x="1310" y="145"/>
                </a:lnTo>
                <a:lnTo>
                  <a:pt x="1407" y="74"/>
                </a:lnTo>
                <a:lnTo>
                  <a:pt x="1539" y="22"/>
                </a:lnTo>
                <a:lnTo>
                  <a:pt x="1703" y="0"/>
                </a:lnTo>
                <a:lnTo>
                  <a:pt x="1901" y="61"/>
                </a:lnTo>
                <a:lnTo>
                  <a:pt x="1998" y="176"/>
                </a:lnTo>
                <a:lnTo>
                  <a:pt x="2100" y="304"/>
                </a:lnTo>
                <a:lnTo>
                  <a:pt x="2227" y="534"/>
                </a:lnTo>
                <a:lnTo>
                  <a:pt x="2289" y="680"/>
                </a:lnTo>
                <a:lnTo>
                  <a:pt x="2395" y="799"/>
                </a:lnTo>
                <a:lnTo>
                  <a:pt x="2554" y="957"/>
                </a:lnTo>
                <a:lnTo>
                  <a:pt x="2752" y="1201"/>
                </a:lnTo>
                <a:lnTo>
                  <a:pt x="2951" y="1316"/>
                </a:lnTo>
                <a:lnTo>
                  <a:pt x="3109" y="1355"/>
                </a:lnTo>
                <a:lnTo>
                  <a:pt x="3344" y="1413"/>
                </a:lnTo>
                <a:lnTo>
                  <a:pt x="3604" y="1470"/>
                </a:lnTo>
                <a:lnTo>
                  <a:pt x="3798" y="1492"/>
                </a:lnTo>
                <a:lnTo>
                  <a:pt x="4063" y="1523"/>
                </a:lnTo>
                <a:lnTo>
                  <a:pt x="4261" y="1558"/>
                </a:lnTo>
                <a:lnTo>
                  <a:pt x="0" y="1554"/>
                </a:lnTo>
                <a:close/>
              </a:path>
            </a:pathLst>
          </a:custGeom>
          <a:gradFill rotWithShape="0">
            <a:gsLst>
              <a:gs pos="0">
                <a:srgbClr val="d32644"/>
              </a:gs>
              <a:gs pos="100000">
                <a:srgbClr val="cf0e30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717560" y="825480"/>
            <a:ext cx="4259520" cy="705240"/>
          </a:xfrm>
          <a:custGeom>
            <a:avLst/>
            <a:gdLst/>
            <a:ahLst/>
            <a:rect l="0" t="0" r="r" b="b"/>
            <a:pathLst>
              <a:path w="11832" h="1959">
                <a:moveTo>
                  <a:pt x="0" y="0"/>
                </a:moveTo>
                <a:lnTo>
                  <a:pt x="11832" y="0"/>
                </a:lnTo>
                <a:lnTo>
                  <a:pt x="11832" y="1959"/>
                </a:lnTo>
                <a:lnTo>
                  <a:pt x="0" y="1959"/>
                </a:lnTo>
                <a:lnTo>
                  <a:pt x="0" y="0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664000" y="8380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673440" y="83664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83240" y="83664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691240" y="83340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174760" y="83664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179880" y="83520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186080" y="83520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192640" y="8319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38240" y="83664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946240" y="83520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952800" y="83520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957920" y="8319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430360" y="836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36920" y="83664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443480" y="83664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0040" y="83520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664000" y="151776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673440" y="151452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683240" y="151452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691240" y="1512720"/>
            <a:ext cx="0" cy="8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133800" y="925560"/>
            <a:ext cx="2375280" cy="597240"/>
          </a:xfrm>
          <a:custGeom>
            <a:avLst/>
            <a:gdLst/>
            <a:ahLst/>
            <a:rect l="0" t="0" r="r" b="b"/>
            <a:pathLst>
              <a:path w="6598" h="1659">
                <a:moveTo>
                  <a:pt x="0" y="1659"/>
                </a:moveTo>
                <a:lnTo>
                  <a:pt x="321" y="1601"/>
                </a:lnTo>
                <a:lnTo>
                  <a:pt x="551" y="1531"/>
                </a:lnTo>
                <a:lnTo>
                  <a:pt x="780" y="1456"/>
                </a:lnTo>
                <a:lnTo>
                  <a:pt x="1005" y="1376"/>
                </a:lnTo>
                <a:lnTo>
                  <a:pt x="1102" y="1279"/>
                </a:lnTo>
                <a:lnTo>
                  <a:pt x="1234" y="1143"/>
                </a:lnTo>
                <a:lnTo>
                  <a:pt x="1397" y="1072"/>
                </a:lnTo>
                <a:lnTo>
                  <a:pt x="1622" y="1015"/>
                </a:lnTo>
                <a:lnTo>
                  <a:pt x="1848" y="993"/>
                </a:lnTo>
                <a:lnTo>
                  <a:pt x="2077" y="944"/>
                </a:lnTo>
                <a:lnTo>
                  <a:pt x="2144" y="887"/>
                </a:lnTo>
                <a:lnTo>
                  <a:pt x="2338" y="683"/>
                </a:lnTo>
                <a:lnTo>
                  <a:pt x="2470" y="515"/>
                </a:lnTo>
                <a:lnTo>
                  <a:pt x="2567" y="379"/>
                </a:lnTo>
                <a:lnTo>
                  <a:pt x="2664" y="224"/>
                </a:lnTo>
                <a:lnTo>
                  <a:pt x="2761" y="92"/>
                </a:lnTo>
                <a:lnTo>
                  <a:pt x="2827" y="17"/>
                </a:lnTo>
                <a:lnTo>
                  <a:pt x="2990" y="0"/>
                </a:lnTo>
                <a:lnTo>
                  <a:pt x="3123" y="26"/>
                </a:lnTo>
                <a:lnTo>
                  <a:pt x="3281" y="127"/>
                </a:lnTo>
                <a:lnTo>
                  <a:pt x="3414" y="330"/>
                </a:lnTo>
                <a:lnTo>
                  <a:pt x="3511" y="860"/>
                </a:lnTo>
                <a:lnTo>
                  <a:pt x="3833" y="1407"/>
                </a:lnTo>
                <a:lnTo>
                  <a:pt x="3934" y="1495"/>
                </a:lnTo>
                <a:lnTo>
                  <a:pt x="4225" y="1513"/>
                </a:lnTo>
                <a:lnTo>
                  <a:pt x="4582" y="1526"/>
                </a:lnTo>
                <a:lnTo>
                  <a:pt x="4812" y="1526"/>
                </a:lnTo>
                <a:lnTo>
                  <a:pt x="5068" y="1482"/>
                </a:lnTo>
                <a:lnTo>
                  <a:pt x="5231" y="1407"/>
                </a:lnTo>
                <a:lnTo>
                  <a:pt x="5558" y="1319"/>
                </a:lnTo>
                <a:lnTo>
                  <a:pt x="5946" y="1337"/>
                </a:lnTo>
                <a:lnTo>
                  <a:pt x="6210" y="1469"/>
                </a:lnTo>
                <a:lnTo>
                  <a:pt x="6369" y="1579"/>
                </a:lnTo>
                <a:lnTo>
                  <a:pt x="6598" y="1659"/>
                </a:lnTo>
                <a:lnTo>
                  <a:pt x="0" y="165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18ffd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260960" y="932040"/>
            <a:ext cx="1708560" cy="594000"/>
          </a:xfrm>
          <a:custGeom>
            <a:avLst/>
            <a:gdLst/>
            <a:ahLst/>
            <a:rect l="0" t="0" r="r" b="b"/>
            <a:pathLst>
              <a:path w="4746" h="1650">
                <a:moveTo>
                  <a:pt x="0" y="1614"/>
                </a:moveTo>
                <a:lnTo>
                  <a:pt x="149" y="1606"/>
                </a:lnTo>
                <a:lnTo>
                  <a:pt x="410" y="1548"/>
                </a:lnTo>
                <a:lnTo>
                  <a:pt x="802" y="1526"/>
                </a:lnTo>
                <a:lnTo>
                  <a:pt x="1093" y="1570"/>
                </a:lnTo>
                <a:lnTo>
                  <a:pt x="1416" y="1641"/>
                </a:lnTo>
                <a:lnTo>
                  <a:pt x="1711" y="1632"/>
                </a:lnTo>
                <a:lnTo>
                  <a:pt x="1972" y="1597"/>
                </a:lnTo>
                <a:lnTo>
                  <a:pt x="2197" y="1535"/>
                </a:lnTo>
                <a:lnTo>
                  <a:pt x="2360" y="1460"/>
                </a:lnTo>
                <a:lnTo>
                  <a:pt x="2457" y="1319"/>
                </a:lnTo>
                <a:lnTo>
                  <a:pt x="2523" y="1125"/>
                </a:lnTo>
                <a:lnTo>
                  <a:pt x="2686" y="852"/>
                </a:lnTo>
                <a:lnTo>
                  <a:pt x="2783" y="568"/>
                </a:lnTo>
                <a:lnTo>
                  <a:pt x="2849" y="374"/>
                </a:lnTo>
                <a:lnTo>
                  <a:pt x="2946" y="216"/>
                </a:lnTo>
                <a:lnTo>
                  <a:pt x="2977" y="97"/>
                </a:lnTo>
                <a:lnTo>
                  <a:pt x="3078" y="0"/>
                </a:lnTo>
                <a:lnTo>
                  <a:pt x="3334" y="158"/>
                </a:lnTo>
                <a:lnTo>
                  <a:pt x="3467" y="321"/>
                </a:lnTo>
                <a:lnTo>
                  <a:pt x="3600" y="467"/>
                </a:lnTo>
                <a:lnTo>
                  <a:pt x="3662" y="657"/>
                </a:lnTo>
                <a:lnTo>
                  <a:pt x="3728" y="762"/>
                </a:lnTo>
                <a:lnTo>
                  <a:pt x="3794" y="860"/>
                </a:lnTo>
                <a:lnTo>
                  <a:pt x="3891" y="1006"/>
                </a:lnTo>
                <a:lnTo>
                  <a:pt x="3988" y="1165"/>
                </a:lnTo>
                <a:lnTo>
                  <a:pt x="4085" y="1253"/>
                </a:lnTo>
                <a:lnTo>
                  <a:pt x="4213" y="1319"/>
                </a:lnTo>
                <a:lnTo>
                  <a:pt x="4380" y="1381"/>
                </a:lnTo>
                <a:lnTo>
                  <a:pt x="4442" y="1425"/>
                </a:lnTo>
                <a:lnTo>
                  <a:pt x="4746" y="1451"/>
                </a:lnTo>
                <a:lnTo>
                  <a:pt x="4738" y="1632"/>
                </a:lnTo>
                <a:lnTo>
                  <a:pt x="48" y="1650"/>
                </a:lnTo>
                <a:lnTo>
                  <a:pt x="0" y="16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e0043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46600" y="857160"/>
            <a:ext cx="0" cy="13827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086440" y="858960"/>
            <a:ext cx="0" cy="6458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668680" y="4417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676680" y="441468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86480" y="441468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720800" y="4441680"/>
            <a:ext cx="4258080" cy="713160"/>
          </a:xfrm>
          <a:custGeom>
            <a:avLst/>
            <a:gdLst/>
            <a:ahLst/>
            <a:rect l="0" t="0" r="r" b="b"/>
            <a:pathLst>
              <a:path w="11828" h="1981">
                <a:moveTo>
                  <a:pt x="0" y="0"/>
                </a:moveTo>
                <a:lnTo>
                  <a:pt x="11828" y="0"/>
                </a:lnTo>
                <a:lnTo>
                  <a:pt x="11828" y="1981"/>
                </a:lnTo>
                <a:lnTo>
                  <a:pt x="0" y="1981"/>
                </a:lnTo>
                <a:lnTo>
                  <a:pt x="0" y="0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673360" y="4457880"/>
            <a:ext cx="0" cy="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683160" y="4454640"/>
            <a:ext cx="0" cy="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94400" y="4454640"/>
            <a:ext cx="0" cy="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05640" y="44496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179800" y="445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87800" y="44528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195800" y="44528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205240" y="444960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944720" y="445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952720" y="44528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962520" y="44528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70520" y="444960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436840" y="44560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446640" y="445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456080" y="44546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464080" y="44528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673360" y="514512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683160" y="514188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694400" y="5141880"/>
            <a:ext cx="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705640" y="513864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00440" y="4551480"/>
            <a:ext cx="1360800" cy="594000"/>
          </a:xfrm>
          <a:custGeom>
            <a:avLst/>
            <a:gdLst/>
            <a:ahLst/>
            <a:rect l="0" t="0" r="r" b="b"/>
            <a:pathLst>
              <a:path w="3780" h="1650">
                <a:moveTo>
                  <a:pt x="0" y="1650"/>
                </a:moveTo>
                <a:lnTo>
                  <a:pt x="260" y="1601"/>
                </a:lnTo>
                <a:lnTo>
                  <a:pt x="388" y="1553"/>
                </a:lnTo>
                <a:lnTo>
                  <a:pt x="586" y="1495"/>
                </a:lnTo>
                <a:lnTo>
                  <a:pt x="652" y="1434"/>
                </a:lnTo>
                <a:lnTo>
                  <a:pt x="846" y="1354"/>
                </a:lnTo>
                <a:lnTo>
                  <a:pt x="1040" y="1275"/>
                </a:lnTo>
                <a:lnTo>
                  <a:pt x="1203" y="1187"/>
                </a:lnTo>
                <a:lnTo>
                  <a:pt x="1239" y="1107"/>
                </a:lnTo>
                <a:lnTo>
                  <a:pt x="1305" y="900"/>
                </a:lnTo>
                <a:lnTo>
                  <a:pt x="1336" y="670"/>
                </a:lnTo>
                <a:lnTo>
                  <a:pt x="1433" y="524"/>
                </a:lnTo>
                <a:lnTo>
                  <a:pt x="1499" y="374"/>
                </a:lnTo>
                <a:lnTo>
                  <a:pt x="1565" y="242"/>
                </a:lnTo>
                <a:lnTo>
                  <a:pt x="1627" y="154"/>
                </a:lnTo>
                <a:lnTo>
                  <a:pt x="1728" y="79"/>
                </a:lnTo>
                <a:lnTo>
                  <a:pt x="1860" y="26"/>
                </a:lnTo>
                <a:lnTo>
                  <a:pt x="1989" y="0"/>
                </a:lnTo>
                <a:lnTo>
                  <a:pt x="2086" y="57"/>
                </a:lnTo>
                <a:lnTo>
                  <a:pt x="2219" y="185"/>
                </a:lnTo>
                <a:lnTo>
                  <a:pt x="2285" y="277"/>
                </a:lnTo>
                <a:lnTo>
                  <a:pt x="2346" y="366"/>
                </a:lnTo>
                <a:lnTo>
                  <a:pt x="2474" y="551"/>
                </a:lnTo>
                <a:lnTo>
                  <a:pt x="2739" y="830"/>
                </a:lnTo>
                <a:lnTo>
                  <a:pt x="2867" y="1010"/>
                </a:lnTo>
                <a:lnTo>
                  <a:pt x="3061" y="1178"/>
                </a:lnTo>
                <a:lnTo>
                  <a:pt x="3228" y="1337"/>
                </a:lnTo>
                <a:lnTo>
                  <a:pt x="3290" y="1394"/>
                </a:lnTo>
                <a:lnTo>
                  <a:pt x="3325" y="1434"/>
                </a:lnTo>
                <a:lnTo>
                  <a:pt x="3392" y="1473"/>
                </a:lnTo>
                <a:lnTo>
                  <a:pt x="3581" y="1553"/>
                </a:lnTo>
                <a:lnTo>
                  <a:pt x="3780" y="1632"/>
                </a:lnTo>
                <a:lnTo>
                  <a:pt x="0" y="165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18ffd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70400" y="4524480"/>
            <a:ext cx="1208520" cy="594000"/>
          </a:xfrm>
          <a:custGeom>
            <a:avLst/>
            <a:gdLst/>
            <a:ahLst/>
            <a:rect l="0" t="0" r="r" b="b"/>
            <a:pathLst>
              <a:path w="3357" h="1650">
                <a:moveTo>
                  <a:pt x="0" y="1650"/>
                </a:moveTo>
                <a:lnTo>
                  <a:pt x="260" y="1535"/>
                </a:lnTo>
                <a:lnTo>
                  <a:pt x="388" y="1500"/>
                </a:lnTo>
                <a:lnTo>
                  <a:pt x="555" y="1451"/>
                </a:lnTo>
                <a:lnTo>
                  <a:pt x="683" y="1359"/>
                </a:lnTo>
                <a:lnTo>
                  <a:pt x="811" y="1213"/>
                </a:lnTo>
                <a:lnTo>
                  <a:pt x="944" y="860"/>
                </a:lnTo>
                <a:lnTo>
                  <a:pt x="1006" y="714"/>
                </a:lnTo>
                <a:lnTo>
                  <a:pt x="1041" y="467"/>
                </a:lnTo>
                <a:lnTo>
                  <a:pt x="1072" y="286"/>
                </a:lnTo>
                <a:lnTo>
                  <a:pt x="1072" y="180"/>
                </a:lnTo>
                <a:lnTo>
                  <a:pt x="1107" y="79"/>
                </a:lnTo>
                <a:lnTo>
                  <a:pt x="1138" y="26"/>
                </a:lnTo>
                <a:lnTo>
                  <a:pt x="1240" y="0"/>
                </a:lnTo>
                <a:lnTo>
                  <a:pt x="1332" y="22"/>
                </a:lnTo>
                <a:lnTo>
                  <a:pt x="1434" y="61"/>
                </a:lnTo>
                <a:lnTo>
                  <a:pt x="1531" y="119"/>
                </a:lnTo>
                <a:lnTo>
                  <a:pt x="1628" y="242"/>
                </a:lnTo>
                <a:lnTo>
                  <a:pt x="1760" y="388"/>
                </a:lnTo>
                <a:lnTo>
                  <a:pt x="1888" y="546"/>
                </a:lnTo>
                <a:lnTo>
                  <a:pt x="2051" y="754"/>
                </a:lnTo>
                <a:lnTo>
                  <a:pt x="2214" y="1002"/>
                </a:lnTo>
                <a:lnTo>
                  <a:pt x="2382" y="1222"/>
                </a:lnTo>
                <a:lnTo>
                  <a:pt x="2542" y="1368"/>
                </a:lnTo>
                <a:lnTo>
                  <a:pt x="2705" y="1456"/>
                </a:lnTo>
                <a:lnTo>
                  <a:pt x="2837" y="1535"/>
                </a:lnTo>
                <a:lnTo>
                  <a:pt x="3000" y="1575"/>
                </a:lnTo>
                <a:lnTo>
                  <a:pt x="3132" y="1584"/>
                </a:lnTo>
                <a:lnTo>
                  <a:pt x="3357" y="1619"/>
                </a:lnTo>
                <a:lnTo>
                  <a:pt x="0" y="1650"/>
                </a:lnTo>
                <a:close/>
              </a:path>
            </a:pathLst>
          </a:custGeom>
          <a:gradFill rotWithShape="0">
            <a:gsLst>
              <a:gs pos="0">
                <a:srgbClr val="96ea66"/>
              </a:gs>
              <a:gs pos="100000">
                <a:srgbClr val="51dc00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245280" y="4614840"/>
            <a:ext cx="8431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I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98960" y="860400"/>
            <a:ext cx="0" cy="4979880"/>
          </a:xfrm>
          <a:prstGeom prst="line">
            <a:avLst/>
          </a:prstGeom>
          <a:ln w="38160">
            <a:solidFill>
              <a:srgbClr val="af7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551400" y="855720"/>
            <a:ext cx="10800" cy="4998960"/>
          </a:xfrm>
          <a:prstGeom prst="line">
            <a:avLst/>
          </a:prstGeom>
          <a:ln w="381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832200" y="860400"/>
            <a:ext cx="3240" cy="4276800"/>
          </a:xfrm>
          <a:prstGeom prst="line">
            <a:avLst/>
          </a:prstGeom>
          <a:ln w="38160">
            <a:solidFill>
              <a:srgbClr val="86ffd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31920" y="866880"/>
            <a:ext cx="0" cy="4983120"/>
          </a:xfrm>
          <a:prstGeom prst="line">
            <a:avLst/>
          </a:prstGeom>
          <a:ln w="38160">
            <a:solidFill>
              <a:srgbClr val="dec4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949400" y="5221440"/>
            <a:ext cx="0" cy="637920"/>
          </a:xfrm>
          <a:prstGeom prst="line">
            <a:avLst/>
          </a:prstGeom>
          <a:ln w="38160">
            <a:solidFill>
              <a:srgbClr val="d49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521000" y="311040"/>
            <a:ext cx="4505040" cy="544680"/>
            <a:chOff x="1521000" y="311040"/>
            <a:chExt cx="4505040" cy="544680"/>
          </a:xfrm>
        </p:grpSpPr>
        <p:sp>
          <p:nvSpPr>
            <p:cNvPr id="600" name=""/>
            <p:cNvSpPr txBox="1"/>
            <p:nvPr/>
          </p:nvSpPr>
          <p:spPr>
            <a:xfrm>
              <a:off x="4309920" y="574560"/>
              <a:ext cx="733320" cy="28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afd00"/>
                  </a:solidFill>
                  <a:latin typeface="Arial"/>
                  <a:ea typeface="Arial"/>
                </a:rPr>
                <a:t>600 n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1521000" y="311040"/>
              <a:ext cx="4505040" cy="544680"/>
              <a:chOff x="1521000" y="311040"/>
              <a:chExt cx="4505040" cy="544680"/>
            </a:xfrm>
          </p:grpSpPr>
          <p:sp>
            <p:nvSpPr>
              <p:cNvPr id="602" name=""/>
              <p:cNvSpPr txBox="1"/>
              <p:nvPr/>
            </p:nvSpPr>
            <p:spPr>
              <a:xfrm>
                <a:off x="1521000" y="574560"/>
                <a:ext cx="790560" cy="28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300 nm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>
                <a:off x="3327480" y="574560"/>
                <a:ext cx="790560" cy="28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500 nm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 txBox="1"/>
              <p:nvPr/>
            </p:nvSpPr>
            <p:spPr>
              <a:xfrm>
                <a:off x="5292720" y="574560"/>
                <a:ext cx="733320" cy="28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700 nm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 txBox="1"/>
              <p:nvPr/>
            </p:nvSpPr>
            <p:spPr>
              <a:xfrm>
                <a:off x="2338560" y="574560"/>
                <a:ext cx="790560" cy="28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400 nm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 txBox="1"/>
              <p:nvPr/>
            </p:nvSpPr>
            <p:spPr>
              <a:xfrm>
                <a:off x="2890800" y="311040"/>
                <a:ext cx="56196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45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 txBox="1"/>
              <p:nvPr/>
            </p:nvSpPr>
            <p:spPr>
              <a:xfrm>
                <a:off x="1855800" y="311040"/>
                <a:ext cx="56196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3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 txBox="1"/>
              <p:nvPr/>
            </p:nvSpPr>
            <p:spPr>
              <a:xfrm>
                <a:off x="3716280" y="311040"/>
                <a:ext cx="56196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51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 txBox="1"/>
              <p:nvPr/>
            </p:nvSpPr>
            <p:spPr>
              <a:xfrm>
                <a:off x="4451400" y="311040"/>
                <a:ext cx="56196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6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 txBox="1"/>
              <p:nvPr/>
            </p:nvSpPr>
            <p:spPr>
              <a:xfrm>
                <a:off x="4923000" y="311040"/>
                <a:ext cx="56196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63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 txBox="1"/>
              <p:nvPr/>
            </p:nvSpPr>
            <p:spPr>
              <a:xfrm>
                <a:off x="3271680" y="311040"/>
                <a:ext cx="56196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48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2" name=""/>
          <p:cNvSpPr txBox="1"/>
          <p:nvPr/>
        </p:nvSpPr>
        <p:spPr>
          <a:xfrm>
            <a:off x="304920" y="287280"/>
            <a:ext cx="135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Comm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La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257480" y="2019240"/>
            <a:ext cx="6838920" cy="3486240"/>
          </a:xfrm>
          <a:prstGeom prst="roundRect">
            <a:avLst/>
          </a:prstGeom>
          <a:solidFill>
            <a:srgbClr val="cecece"/>
          </a:solidFill>
          <a:ln w="38160">
            <a:solidFill>
              <a:srgbClr val="cecece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pidium Iod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739960" y="207972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373640" y="206532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05520" y="206532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639200" y="2050920"/>
            <a:ext cx="0" cy="5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944720" y="205884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573360" y="204948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202360" y="204948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31000" y="204156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566720" y="205884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193920" y="204948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822920" y="204948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451560" y="204156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362320" y="2068560"/>
            <a:ext cx="0" cy="41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89520" y="205884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618160" y="205884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246800" y="204948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2271600" y="2382840"/>
            <a:ext cx="223920" cy="1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00" spc="-1" strike="noStrike">
                <a:solidFill>
                  <a:srgbClr val="000000"/>
                </a:solidFill>
                <a:latin typeface="Arial"/>
                <a:ea typeface="Arial"/>
              </a:rPr>
              <a:t>400 n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956040" y="2382840"/>
            <a:ext cx="223920" cy="1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00" spc="-1" strike="noStrike">
                <a:solidFill>
                  <a:srgbClr val="000000"/>
                </a:solidFill>
                <a:latin typeface="Arial"/>
                <a:ea typeface="Arial"/>
              </a:rPr>
              <a:t>500 n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546880" y="2382840"/>
            <a:ext cx="223920" cy="1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00" spc="-1" strike="noStrike">
                <a:solidFill>
                  <a:srgbClr val="000000"/>
                </a:solidFill>
                <a:latin typeface="Arial"/>
                <a:ea typeface="Arial"/>
              </a:rPr>
              <a:t>600 n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7137360" y="2382840"/>
            <a:ext cx="223920" cy="1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00" spc="-1" strike="noStrike">
                <a:solidFill>
                  <a:srgbClr val="000000"/>
                </a:solidFill>
                <a:latin typeface="Arial"/>
                <a:ea typeface="Arial"/>
              </a:rPr>
              <a:t>700 n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739960" y="543096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373640" y="541656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05520" y="541656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639200" y="5402160"/>
            <a:ext cx="0" cy="57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089000" y="4921200"/>
            <a:ext cx="19080" cy="39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 txBox="1"/>
          <p:nvPr/>
        </p:nvSpPr>
        <p:spPr>
          <a:xfrm>
            <a:off x="8350200" y="5983200"/>
            <a:ext cx="26496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527200" y="2600280"/>
            <a:ext cx="3805560" cy="2886480"/>
          </a:xfrm>
          <a:custGeom>
            <a:avLst/>
            <a:gdLst/>
            <a:ahLst/>
            <a:rect l="0" t="0" r="r" b="b"/>
            <a:pathLst>
              <a:path w="10571" h="8018">
                <a:moveTo>
                  <a:pt x="0" y="8018"/>
                </a:moveTo>
                <a:lnTo>
                  <a:pt x="846" y="7383"/>
                </a:lnTo>
                <a:lnTo>
                  <a:pt x="1733" y="6753"/>
                </a:lnTo>
                <a:lnTo>
                  <a:pt x="2151" y="6515"/>
                </a:lnTo>
                <a:lnTo>
                  <a:pt x="2628" y="6078"/>
                </a:lnTo>
                <a:lnTo>
                  <a:pt x="2888" y="5786"/>
                </a:lnTo>
                <a:lnTo>
                  <a:pt x="3205" y="5305"/>
                </a:lnTo>
                <a:lnTo>
                  <a:pt x="3571" y="4679"/>
                </a:lnTo>
                <a:lnTo>
                  <a:pt x="3783" y="4199"/>
                </a:lnTo>
                <a:lnTo>
                  <a:pt x="4043" y="3519"/>
                </a:lnTo>
                <a:lnTo>
                  <a:pt x="4308" y="2801"/>
                </a:lnTo>
                <a:lnTo>
                  <a:pt x="4572" y="2122"/>
                </a:lnTo>
                <a:lnTo>
                  <a:pt x="4837" y="1688"/>
                </a:lnTo>
                <a:lnTo>
                  <a:pt x="4938" y="1446"/>
                </a:lnTo>
                <a:lnTo>
                  <a:pt x="5097" y="1111"/>
                </a:lnTo>
                <a:lnTo>
                  <a:pt x="5469" y="480"/>
                </a:lnTo>
                <a:lnTo>
                  <a:pt x="5940" y="97"/>
                </a:lnTo>
                <a:lnTo>
                  <a:pt x="6152" y="0"/>
                </a:lnTo>
                <a:lnTo>
                  <a:pt x="6465" y="97"/>
                </a:lnTo>
                <a:lnTo>
                  <a:pt x="6624" y="291"/>
                </a:lnTo>
                <a:lnTo>
                  <a:pt x="6990" y="626"/>
                </a:lnTo>
                <a:lnTo>
                  <a:pt x="7360" y="1300"/>
                </a:lnTo>
                <a:lnTo>
                  <a:pt x="7678" y="2461"/>
                </a:lnTo>
                <a:lnTo>
                  <a:pt x="7991" y="4485"/>
                </a:lnTo>
                <a:lnTo>
                  <a:pt x="8203" y="5548"/>
                </a:lnTo>
                <a:lnTo>
                  <a:pt x="8308" y="6127"/>
                </a:lnTo>
                <a:lnTo>
                  <a:pt x="8463" y="6369"/>
                </a:lnTo>
                <a:lnTo>
                  <a:pt x="8727" y="6753"/>
                </a:lnTo>
                <a:lnTo>
                  <a:pt x="9199" y="7092"/>
                </a:lnTo>
                <a:lnTo>
                  <a:pt x="9570" y="7379"/>
                </a:lnTo>
                <a:lnTo>
                  <a:pt x="10041" y="7719"/>
                </a:lnTo>
                <a:lnTo>
                  <a:pt x="10571" y="7913"/>
                </a:lnTo>
                <a:lnTo>
                  <a:pt x="0" y="8018"/>
                </a:lnTo>
                <a:close/>
              </a:path>
            </a:pathLst>
          </a:custGeom>
          <a:gradFill rotWithShape="0">
            <a:gsLst>
              <a:gs pos="0">
                <a:srgbClr val="4774fb"/>
              </a:gs>
              <a:gs pos="100000">
                <a:srgbClr val="3365fb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729320" y="2682720"/>
            <a:ext cx="3086280" cy="2779920"/>
          </a:xfrm>
          <a:custGeom>
            <a:avLst/>
            <a:gdLst/>
            <a:ahLst/>
            <a:rect l="0" t="0" r="r" b="b"/>
            <a:pathLst>
              <a:path w="8573" h="7722">
                <a:moveTo>
                  <a:pt x="0" y="7722"/>
                </a:moveTo>
                <a:lnTo>
                  <a:pt x="524" y="6853"/>
                </a:lnTo>
                <a:lnTo>
                  <a:pt x="1155" y="5936"/>
                </a:lnTo>
                <a:lnTo>
                  <a:pt x="1680" y="4970"/>
                </a:lnTo>
                <a:lnTo>
                  <a:pt x="2050" y="4344"/>
                </a:lnTo>
                <a:lnTo>
                  <a:pt x="2368" y="3717"/>
                </a:lnTo>
                <a:lnTo>
                  <a:pt x="2786" y="2994"/>
                </a:lnTo>
                <a:lnTo>
                  <a:pt x="3311" y="1979"/>
                </a:lnTo>
                <a:lnTo>
                  <a:pt x="3735" y="1111"/>
                </a:lnTo>
                <a:lnTo>
                  <a:pt x="4206" y="339"/>
                </a:lnTo>
                <a:lnTo>
                  <a:pt x="4419" y="97"/>
                </a:lnTo>
                <a:lnTo>
                  <a:pt x="4631" y="0"/>
                </a:lnTo>
                <a:lnTo>
                  <a:pt x="4732" y="0"/>
                </a:lnTo>
                <a:lnTo>
                  <a:pt x="4891" y="48"/>
                </a:lnTo>
                <a:lnTo>
                  <a:pt x="5050" y="145"/>
                </a:lnTo>
                <a:lnTo>
                  <a:pt x="5261" y="339"/>
                </a:lnTo>
                <a:lnTo>
                  <a:pt x="5574" y="1062"/>
                </a:lnTo>
                <a:lnTo>
                  <a:pt x="5786" y="1547"/>
                </a:lnTo>
                <a:lnTo>
                  <a:pt x="6156" y="2222"/>
                </a:lnTo>
                <a:lnTo>
                  <a:pt x="6470" y="2994"/>
                </a:lnTo>
                <a:lnTo>
                  <a:pt x="6787" y="3765"/>
                </a:lnTo>
                <a:lnTo>
                  <a:pt x="6994" y="4490"/>
                </a:lnTo>
                <a:lnTo>
                  <a:pt x="7365" y="5354"/>
                </a:lnTo>
                <a:lnTo>
                  <a:pt x="7731" y="5984"/>
                </a:lnTo>
                <a:lnTo>
                  <a:pt x="7995" y="6756"/>
                </a:lnTo>
                <a:lnTo>
                  <a:pt x="8207" y="7140"/>
                </a:lnTo>
                <a:lnTo>
                  <a:pt x="8573" y="7722"/>
                </a:lnTo>
                <a:lnTo>
                  <a:pt x="0" y="7722"/>
                </a:lnTo>
                <a:close/>
              </a:path>
            </a:pathLst>
          </a:custGeom>
          <a:gradFill rotWithShape="0">
            <a:gsLst>
              <a:gs pos="0">
                <a:srgbClr val="efacd3"/>
              </a:gs>
              <a:gs pos="100000">
                <a:srgbClr val="d93192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192560" y="2084400"/>
            <a:ext cx="0" cy="3343320"/>
          </a:xfrm>
          <a:prstGeom prst="line">
            <a:avLst/>
          </a:prstGeom>
          <a:ln w="7632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648320" y="2084400"/>
            <a:ext cx="0" cy="3335400"/>
          </a:xfrm>
          <a:prstGeom prst="line">
            <a:avLst/>
          </a:prstGeom>
          <a:ln w="76320">
            <a:solidFill>
              <a:srgbClr val="86ffd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957320" y="2084400"/>
            <a:ext cx="0" cy="3343320"/>
          </a:xfrm>
          <a:prstGeom prst="line">
            <a:avLst/>
          </a:prstGeom>
          <a:ln w="76320">
            <a:solidFill>
              <a:srgbClr val="e3b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645000" y="2084400"/>
            <a:ext cx="0" cy="3343320"/>
          </a:xfrm>
          <a:prstGeom prst="line">
            <a:avLst/>
          </a:prstGeom>
          <a:ln w="76320">
            <a:solidFill>
              <a:srgbClr val="af7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084560" y="5511960"/>
            <a:ext cx="1062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462480" y="1308240"/>
            <a:ext cx="1519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c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5824440" y="1281240"/>
            <a:ext cx="1282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mi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5040360" y="2058840"/>
            <a:ext cx="77760" cy="3408480"/>
          </a:xfrm>
          <a:prstGeom prst="line">
            <a:avLst/>
          </a:prstGeom>
          <a:ln w="7632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631880" y="1677960"/>
            <a:ext cx="68515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300 nm      400 nm            500 nm             600 nm            70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1257480" y="2019240"/>
            <a:ext cx="6838920" cy="3486240"/>
          </a:xfrm>
          <a:prstGeom prst="roundRect">
            <a:avLst/>
          </a:prstGeom>
          <a:solidFill>
            <a:srgbClr val="cecece"/>
          </a:solidFill>
          <a:ln w="38160">
            <a:solidFill>
              <a:srgbClr val="cecece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171360" y="193680"/>
            <a:ext cx="86630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luorescein (FIT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739960" y="207972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373640" y="206532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005520" y="206532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639200" y="2050920"/>
            <a:ext cx="0" cy="5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944720" y="205884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573360" y="204948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202360" y="204948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831000" y="204156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566720" y="205884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193920" y="204948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822920" y="204948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451560" y="204156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362320" y="2068560"/>
            <a:ext cx="0" cy="41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989520" y="205884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618160" y="205884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246800" y="204948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2271600" y="2382840"/>
            <a:ext cx="223920" cy="1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00" spc="-1" strike="noStrike">
                <a:solidFill>
                  <a:srgbClr val="000000"/>
                </a:solidFill>
                <a:latin typeface="Arial"/>
                <a:ea typeface="Arial"/>
              </a:rPr>
              <a:t>400 n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956040" y="2382840"/>
            <a:ext cx="223920" cy="1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00" spc="-1" strike="noStrike">
                <a:solidFill>
                  <a:srgbClr val="000000"/>
                </a:solidFill>
                <a:latin typeface="Arial"/>
                <a:ea typeface="Arial"/>
              </a:rPr>
              <a:t>500 n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5546880" y="2382840"/>
            <a:ext cx="223920" cy="1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00" spc="-1" strike="noStrike">
                <a:solidFill>
                  <a:srgbClr val="000000"/>
                </a:solidFill>
                <a:latin typeface="Arial"/>
                <a:ea typeface="Arial"/>
              </a:rPr>
              <a:t>600 n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7137360" y="2382840"/>
            <a:ext cx="223920" cy="1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00" spc="-1" strike="noStrike">
                <a:solidFill>
                  <a:srgbClr val="000000"/>
                </a:solidFill>
                <a:latin typeface="Arial"/>
                <a:ea typeface="Arial"/>
              </a:rPr>
              <a:t>700 n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739960" y="543096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373640" y="541656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005520" y="541656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639200" y="5402160"/>
            <a:ext cx="0" cy="57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1089000" y="4921200"/>
            <a:ext cx="19080" cy="3960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 txBox="1"/>
          <p:nvPr/>
        </p:nvSpPr>
        <p:spPr>
          <a:xfrm>
            <a:off x="3652920" y="1878120"/>
            <a:ext cx="247680" cy="1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avelength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948040" y="2584440"/>
            <a:ext cx="2197440" cy="2902320"/>
          </a:xfrm>
          <a:custGeom>
            <a:avLst/>
            <a:gdLst/>
            <a:ahLst/>
            <a:rect l="0" t="0" r="r" b="b"/>
            <a:pathLst>
              <a:path w="6104" h="8062">
                <a:moveTo>
                  <a:pt x="0" y="8062"/>
                </a:moveTo>
                <a:lnTo>
                  <a:pt x="423" y="7820"/>
                </a:lnTo>
                <a:lnTo>
                  <a:pt x="630" y="7577"/>
                </a:lnTo>
                <a:lnTo>
                  <a:pt x="948" y="7291"/>
                </a:lnTo>
                <a:lnTo>
                  <a:pt x="1053" y="7000"/>
                </a:lnTo>
                <a:lnTo>
                  <a:pt x="1371" y="6612"/>
                </a:lnTo>
                <a:lnTo>
                  <a:pt x="1684" y="6228"/>
                </a:lnTo>
                <a:lnTo>
                  <a:pt x="1949" y="5790"/>
                </a:lnTo>
                <a:lnTo>
                  <a:pt x="2002" y="5407"/>
                </a:lnTo>
                <a:lnTo>
                  <a:pt x="2107" y="4393"/>
                </a:lnTo>
                <a:lnTo>
                  <a:pt x="2156" y="3281"/>
                </a:lnTo>
                <a:lnTo>
                  <a:pt x="2315" y="2558"/>
                </a:lnTo>
                <a:lnTo>
                  <a:pt x="2420" y="1834"/>
                </a:lnTo>
                <a:lnTo>
                  <a:pt x="2526" y="1203"/>
                </a:lnTo>
                <a:lnTo>
                  <a:pt x="2632" y="771"/>
                </a:lnTo>
                <a:lnTo>
                  <a:pt x="2791" y="383"/>
                </a:lnTo>
                <a:lnTo>
                  <a:pt x="2998" y="145"/>
                </a:lnTo>
                <a:lnTo>
                  <a:pt x="3211" y="0"/>
                </a:lnTo>
                <a:lnTo>
                  <a:pt x="3370" y="291"/>
                </a:lnTo>
                <a:lnTo>
                  <a:pt x="3581" y="917"/>
                </a:lnTo>
                <a:lnTo>
                  <a:pt x="3683" y="1349"/>
                </a:lnTo>
                <a:lnTo>
                  <a:pt x="3788" y="1785"/>
                </a:lnTo>
                <a:lnTo>
                  <a:pt x="4000" y="2704"/>
                </a:lnTo>
                <a:lnTo>
                  <a:pt x="4419" y="4057"/>
                </a:lnTo>
                <a:lnTo>
                  <a:pt x="4631" y="4926"/>
                </a:lnTo>
                <a:lnTo>
                  <a:pt x="4948" y="5746"/>
                </a:lnTo>
                <a:lnTo>
                  <a:pt x="5208" y="6519"/>
                </a:lnTo>
                <a:lnTo>
                  <a:pt x="5314" y="6806"/>
                </a:lnTo>
                <a:lnTo>
                  <a:pt x="5367" y="7000"/>
                </a:lnTo>
                <a:lnTo>
                  <a:pt x="5473" y="7194"/>
                </a:lnTo>
                <a:lnTo>
                  <a:pt x="5790" y="7577"/>
                </a:lnTo>
                <a:lnTo>
                  <a:pt x="6104" y="7965"/>
                </a:lnTo>
                <a:lnTo>
                  <a:pt x="0" y="8062"/>
                </a:lnTo>
                <a:close/>
              </a:path>
            </a:pathLst>
          </a:custGeom>
          <a:gradFill rotWithShape="0">
            <a:gsLst>
              <a:gs pos="0">
                <a:srgbClr val="4072fb"/>
              </a:gs>
              <a:gs pos="100000">
                <a:srgbClr val="114ffb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027320" y="2610000"/>
            <a:ext cx="1951560" cy="2848320"/>
          </a:xfrm>
          <a:custGeom>
            <a:avLst/>
            <a:gdLst/>
            <a:ahLst/>
            <a:rect l="0" t="0" r="r" b="b"/>
            <a:pathLst>
              <a:path w="5421" h="7912">
                <a:moveTo>
                  <a:pt x="0" y="7912"/>
                </a:moveTo>
                <a:lnTo>
                  <a:pt x="423" y="7475"/>
                </a:lnTo>
                <a:lnTo>
                  <a:pt x="635" y="7285"/>
                </a:lnTo>
                <a:lnTo>
                  <a:pt x="895" y="7043"/>
                </a:lnTo>
                <a:lnTo>
                  <a:pt x="1106" y="6606"/>
                </a:lnTo>
                <a:lnTo>
                  <a:pt x="1318" y="5883"/>
                </a:lnTo>
                <a:lnTo>
                  <a:pt x="1526" y="4199"/>
                </a:lnTo>
                <a:lnTo>
                  <a:pt x="1632" y="3470"/>
                </a:lnTo>
                <a:lnTo>
                  <a:pt x="1685" y="2266"/>
                </a:lnTo>
                <a:lnTo>
                  <a:pt x="1738" y="1397"/>
                </a:lnTo>
                <a:lnTo>
                  <a:pt x="1738" y="868"/>
                </a:lnTo>
                <a:lnTo>
                  <a:pt x="1791" y="383"/>
                </a:lnTo>
                <a:lnTo>
                  <a:pt x="1844" y="145"/>
                </a:lnTo>
                <a:lnTo>
                  <a:pt x="2003" y="0"/>
                </a:lnTo>
                <a:lnTo>
                  <a:pt x="2161" y="92"/>
                </a:lnTo>
                <a:lnTo>
                  <a:pt x="2316" y="286"/>
                </a:lnTo>
                <a:lnTo>
                  <a:pt x="2474" y="577"/>
                </a:lnTo>
                <a:lnTo>
                  <a:pt x="2633" y="1155"/>
                </a:lnTo>
                <a:lnTo>
                  <a:pt x="2845" y="1878"/>
                </a:lnTo>
                <a:lnTo>
                  <a:pt x="3052" y="2654"/>
                </a:lnTo>
                <a:lnTo>
                  <a:pt x="3317" y="3664"/>
                </a:lnTo>
                <a:lnTo>
                  <a:pt x="3577" y="4869"/>
                </a:lnTo>
                <a:lnTo>
                  <a:pt x="3841" y="5932"/>
                </a:lnTo>
                <a:lnTo>
                  <a:pt x="4107" y="6655"/>
                </a:lnTo>
                <a:lnTo>
                  <a:pt x="4372" y="7091"/>
                </a:lnTo>
                <a:lnTo>
                  <a:pt x="4579" y="7475"/>
                </a:lnTo>
                <a:lnTo>
                  <a:pt x="4843" y="7669"/>
                </a:lnTo>
                <a:lnTo>
                  <a:pt x="5055" y="7718"/>
                </a:lnTo>
                <a:lnTo>
                  <a:pt x="5421" y="7863"/>
                </a:lnTo>
                <a:lnTo>
                  <a:pt x="0" y="7912"/>
                </a:lnTo>
                <a:close/>
              </a:path>
            </a:pathLst>
          </a:custGeom>
          <a:gradFill rotWithShape="0">
            <a:gsLst>
              <a:gs pos="0">
                <a:srgbClr val="85e64c"/>
              </a:gs>
              <a:gs pos="100000">
                <a:srgbClr val="51dc00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179960" y="2084400"/>
            <a:ext cx="0" cy="3343320"/>
          </a:xfrm>
          <a:prstGeom prst="line">
            <a:avLst/>
          </a:prstGeom>
          <a:ln w="7632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633920" y="2084400"/>
            <a:ext cx="0" cy="3335400"/>
          </a:xfrm>
          <a:prstGeom prst="line">
            <a:avLst/>
          </a:prstGeom>
          <a:ln w="76320">
            <a:solidFill>
              <a:srgbClr val="86ffd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944720" y="2084400"/>
            <a:ext cx="0" cy="3343320"/>
          </a:xfrm>
          <a:prstGeom prst="line">
            <a:avLst/>
          </a:prstGeom>
          <a:ln w="76320">
            <a:solidFill>
              <a:srgbClr val="dec4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630600" y="2084400"/>
            <a:ext cx="0" cy="3343320"/>
          </a:xfrm>
          <a:prstGeom prst="line">
            <a:avLst/>
          </a:prstGeom>
          <a:ln w="76320">
            <a:solidFill>
              <a:srgbClr val="af7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949560" y="5562720"/>
            <a:ext cx="1467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252960" y="1193760"/>
            <a:ext cx="1519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c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719600" y="1185840"/>
            <a:ext cx="1282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mi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5027760" y="2058840"/>
            <a:ext cx="77760" cy="3408480"/>
          </a:xfrm>
          <a:prstGeom prst="line">
            <a:avLst/>
          </a:prstGeom>
          <a:ln w="7632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204920" y="1654200"/>
            <a:ext cx="68515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300 nm      400 nm            500 nm             600 nm            70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257480" y="2019240"/>
            <a:ext cx="6838920" cy="3486240"/>
          </a:xfrm>
          <a:prstGeom prst="roundRect">
            <a:avLst/>
          </a:prstGeom>
          <a:solidFill>
            <a:srgbClr val="cecece"/>
          </a:solidFill>
          <a:ln w="38160">
            <a:solidFill>
              <a:srgbClr val="cecece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527280" y="1252440"/>
            <a:ext cx="1519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c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967280" y="1244520"/>
            <a:ext cx="1282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mi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204920" y="1654200"/>
            <a:ext cx="68515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300 nm      400 nm            500 nm             600 nm            70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9320" y="309600"/>
            <a:ext cx="86644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hycoerytherin (P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739960" y="207972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373640" y="206532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005520" y="206532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639200" y="2050920"/>
            <a:ext cx="0" cy="5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944720" y="205884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573360" y="204948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202360" y="204948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831000" y="204156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566720" y="205884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193920" y="204948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822920" y="204948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451560" y="204156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362320" y="2068560"/>
            <a:ext cx="0" cy="41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989520" y="205884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618160" y="205884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246800" y="204948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739960" y="543096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373640" y="541656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005520" y="541656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639200" y="5402160"/>
            <a:ext cx="0" cy="57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384720" y="2647800"/>
            <a:ext cx="2632320" cy="2797560"/>
          </a:xfrm>
          <a:custGeom>
            <a:avLst/>
            <a:gdLst/>
            <a:ahLst/>
            <a:rect l="0" t="0" r="r" b="b"/>
            <a:pathLst>
              <a:path w="7312" h="7771">
                <a:moveTo>
                  <a:pt x="0" y="7723"/>
                </a:moveTo>
                <a:lnTo>
                  <a:pt x="260" y="7674"/>
                </a:lnTo>
                <a:lnTo>
                  <a:pt x="630" y="7432"/>
                </a:lnTo>
                <a:lnTo>
                  <a:pt x="895" y="7141"/>
                </a:lnTo>
                <a:lnTo>
                  <a:pt x="1049" y="6757"/>
                </a:lnTo>
                <a:lnTo>
                  <a:pt x="1314" y="5985"/>
                </a:lnTo>
                <a:lnTo>
                  <a:pt x="1472" y="5310"/>
                </a:lnTo>
                <a:lnTo>
                  <a:pt x="1627" y="4441"/>
                </a:lnTo>
                <a:lnTo>
                  <a:pt x="1944" y="2801"/>
                </a:lnTo>
                <a:lnTo>
                  <a:pt x="2209" y="2029"/>
                </a:lnTo>
                <a:lnTo>
                  <a:pt x="2575" y="1741"/>
                </a:lnTo>
                <a:lnTo>
                  <a:pt x="2892" y="1499"/>
                </a:lnTo>
                <a:lnTo>
                  <a:pt x="3417" y="1688"/>
                </a:lnTo>
                <a:lnTo>
                  <a:pt x="3788" y="1785"/>
                </a:lnTo>
                <a:lnTo>
                  <a:pt x="4207" y="1688"/>
                </a:lnTo>
                <a:lnTo>
                  <a:pt x="4679" y="1305"/>
                </a:lnTo>
                <a:lnTo>
                  <a:pt x="4891" y="776"/>
                </a:lnTo>
                <a:lnTo>
                  <a:pt x="5103" y="388"/>
                </a:lnTo>
                <a:lnTo>
                  <a:pt x="5469" y="145"/>
                </a:lnTo>
                <a:lnTo>
                  <a:pt x="5733" y="0"/>
                </a:lnTo>
                <a:lnTo>
                  <a:pt x="5892" y="291"/>
                </a:lnTo>
                <a:lnTo>
                  <a:pt x="5786" y="1688"/>
                </a:lnTo>
                <a:lnTo>
                  <a:pt x="5892" y="2898"/>
                </a:lnTo>
                <a:lnTo>
                  <a:pt x="5945" y="4053"/>
                </a:lnTo>
                <a:lnTo>
                  <a:pt x="5998" y="5310"/>
                </a:lnTo>
                <a:lnTo>
                  <a:pt x="6099" y="6083"/>
                </a:lnTo>
                <a:lnTo>
                  <a:pt x="6258" y="6612"/>
                </a:lnTo>
                <a:lnTo>
                  <a:pt x="6417" y="7000"/>
                </a:lnTo>
                <a:lnTo>
                  <a:pt x="6628" y="7383"/>
                </a:lnTo>
                <a:lnTo>
                  <a:pt x="6840" y="7577"/>
                </a:lnTo>
                <a:lnTo>
                  <a:pt x="7312" y="7771"/>
                </a:lnTo>
                <a:lnTo>
                  <a:pt x="0" y="7723"/>
                </a:lnTo>
                <a:close/>
              </a:path>
            </a:pathLst>
          </a:custGeom>
          <a:gradFill rotWithShape="0">
            <a:gsLst>
              <a:gs pos="0">
                <a:srgbClr val="698af1"/>
              </a:gs>
              <a:gs pos="100000">
                <a:srgbClr val="063de8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898880" y="2666880"/>
            <a:ext cx="2026080" cy="2796120"/>
          </a:xfrm>
          <a:custGeom>
            <a:avLst/>
            <a:gdLst/>
            <a:ahLst/>
            <a:rect l="0" t="0" r="r" b="b"/>
            <a:pathLst>
              <a:path w="5628" h="7767">
                <a:moveTo>
                  <a:pt x="0" y="7767"/>
                </a:moveTo>
                <a:lnTo>
                  <a:pt x="370" y="7622"/>
                </a:lnTo>
                <a:lnTo>
                  <a:pt x="789" y="7427"/>
                </a:lnTo>
                <a:lnTo>
                  <a:pt x="1001" y="7185"/>
                </a:lnTo>
                <a:lnTo>
                  <a:pt x="1155" y="6801"/>
                </a:lnTo>
                <a:lnTo>
                  <a:pt x="1367" y="5981"/>
                </a:lnTo>
                <a:lnTo>
                  <a:pt x="1526" y="4243"/>
                </a:lnTo>
                <a:lnTo>
                  <a:pt x="1738" y="2461"/>
                </a:lnTo>
                <a:lnTo>
                  <a:pt x="1897" y="1349"/>
                </a:lnTo>
                <a:lnTo>
                  <a:pt x="1998" y="480"/>
                </a:lnTo>
                <a:lnTo>
                  <a:pt x="1998" y="97"/>
                </a:lnTo>
                <a:lnTo>
                  <a:pt x="2210" y="0"/>
                </a:lnTo>
                <a:lnTo>
                  <a:pt x="2263" y="92"/>
                </a:lnTo>
                <a:lnTo>
                  <a:pt x="2421" y="1781"/>
                </a:lnTo>
                <a:lnTo>
                  <a:pt x="2629" y="3616"/>
                </a:lnTo>
                <a:lnTo>
                  <a:pt x="2999" y="5738"/>
                </a:lnTo>
                <a:lnTo>
                  <a:pt x="3524" y="6462"/>
                </a:lnTo>
                <a:lnTo>
                  <a:pt x="4049" y="6850"/>
                </a:lnTo>
                <a:lnTo>
                  <a:pt x="4526" y="7233"/>
                </a:lnTo>
                <a:lnTo>
                  <a:pt x="5051" y="7622"/>
                </a:lnTo>
                <a:lnTo>
                  <a:pt x="5628" y="7767"/>
                </a:lnTo>
                <a:lnTo>
                  <a:pt x="0" y="7767"/>
                </a:lnTo>
                <a:close/>
              </a:path>
            </a:pathLst>
          </a:custGeom>
          <a:gradFill rotWithShape="0">
            <a:gsLst>
              <a:gs pos="0">
                <a:srgbClr val="f8a27f"/>
              </a:gs>
              <a:gs pos="100000">
                <a:srgbClr val="f57b49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79960" y="2084400"/>
            <a:ext cx="0" cy="3343320"/>
          </a:xfrm>
          <a:prstGeom prst="line">
            <a:avLst/>
          </a:prstGeom>
          <a:ln w="7632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33920" y="2084400"/>
            <a:ext cx="0" cy="3335400"/>
          </a:xfrm>
          <a:prstGeom prst="line">
            <a:avLst/>
          </a:prstGeom>
          <a:ln w="76320">
            <a:solidFill>
              <a:srgbClr val="86ffd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4720" y="2084400"/>
            <a:ext cx="0" cy="3343320"/>
          </a:xfrm>
          <a:prstGeom prst="line">
            <a:avLst/>
          </a:prstGeom>
          <a:ln w="76320">
            <a:solidFill>
              <a:srgbClr val="dec4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630600" y="2084400"/>
            <a:ext cx="0" cy="3343320"/>
          </a:xfrm>
          <a:prstGeom prst="line">
            <a:avLst/>
          </a:prstGeom>
          <a:ln w="76320">
            <a:solidFill>
              <a:srgbClr val="af7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3979800" y="5527800"/>
            <a:ext cx="13064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1257480" y="2019240"/>
            <a:ext cx="6838920" cy="3486240"/>
          </a:xfrm>
          <a:prstGeom prst="roundRect">
            <a:avLst/>
          </a:prstGeom>
          <a:solidFill>
            <a:srgbClr val="cecece"/>
          </a:solidFill>
          <a:ln w="38160">
            <a:solidFill>
              <a:srgbClr val="cecece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219240" y="438120"/>
            <a:ext cx="86788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lophycocyanin (AP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739960" y="207972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373640" y="206532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005520" y="206532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639200" y="2050920"/>
            <a:ext cx="0" cy="5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944720" y="205884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573360" y="204948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202360" y="204948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831000" y="204156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566720" y="205884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193920" y="204948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22920" y="204948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451560" y="204156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362320" y="2068560"/>
            <a:ext cx="0" cy="41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89520" y="205884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618160" y="205884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246800" y="204948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739960" y="543096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373640" y="541656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005520" y="5416560"/>
            <a:ext cx="0" cy="55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639200" y="5402160"/>
            <a:ext cx="0" cy="57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10240" y="2548080"/>
            <a:ext cx="2632320" cy="2918160"/>
          </a:xfrm>
          <a:custGeom>
            <a:avLst/>
            <a:gdLst/>
            <a:ahLst/>
            <a:rect l="0" t="0" r="r" b="b"/>
            <a:pathLst>
              <a:path w="7312" h="8106">
                <a:moveTo>
                  <a:pt x="0" y="8106"/>
                </a:moveTo>
                <a:lnTo>
                  <a:pt x="264" y="8057"/>
                </a:lnTo>
                <a:lnTo>
                  <a:pt x="471" y="7912"/>
                </a:lnTo>
                <a:lnTo>
                  <a:pt x="683" y="7815"/>
                </a:lnTo>
                <a:lnTo>
                  <a:pt x="1049" y="7718"/>
                </a:lnTo>
                <a:lnTo>
                  <a:pt x="1472" y="7431"/>
                </a:lnTo>
                <a:lnTo>
                  <a:pt x="1838" y="7043"/>
                </a:lnTo>
                <a:lnTo>
                  <a:pt x="2156" y="6659"/>
                </a:lnTo>
                <a:lnTo>
                  <a:pt x="2473" y="6174"/>
                </a:lnTo>
                <a:lnTo>
                  <a:pt x="2839" y="5596"/>
                </a:lnTo>
                <a:lnTo>
                  <a:pt x="3205" y="4873"/>
                </a:lnTo>
                <a:lnTo>
                  <a:pt x="3943" y="3426"/>
                </a:lnTo>
                <a:lnTo>
                  <a:pt x="4419" y="2509"/>
                </a:lnTo>
                <a:lnTo>
                  <a:pt x="4732" y="1591"/>
                </a:lnTo>
                <a:lnTo>
                  <a:pt x="4891" y="917"/>
                </a:lnTo>
                <a:lnTo>
                  <a:pt x="5103" y="480"/>
                </a:lnTo>
                <a:lnTo>
                  <a:pt x="5416" y="145"/>
                </a:lnTo>
                <a:lnTo>
                  <a:pt x="5627" y="0"/>
                </a:lnTo>
                <a:lnTo>
                  <a:pt x="5892" y="97"/>
                </a:lnTo>
                <a:lnTo>
                  <a:pt x="6051" y="820"/>
                </a:lnTo>
                <a:lnTo>
                  <a:pt x="6099" y="1494"/>
                </a:lnTo>
                <a:lnTo>
                  <a:pt x="6205" y="2412"/>
                </a:lnTo>
                <a:lnTo>
                  <a:pt x="6364" y="3426"/>
                </a:lnTo>
                <a:lnTo>
                  <a:pt x="6522" y="4922"/>
                </a:lnTo>
                <a:lnTo>
                  <a:pt x="6734" y="6174"/>
                </a:lnTo>
                <a:lnTo>
                  <a:pt x="6893" y="6849"/>
                </a:lnTo>
                <a:lnTo>
                  <a:pt x="6994" y="7140"/>
                </a:lnTo>
                <a:lnTo>
                  <a:pt x="7047" y="7479"/>
                </a:lnTo>
                <a:lnTo>
                  <a:pt x="7100" y="7766"/>
                </a:lnTo>
                <a:lnTo>
                  <a:pt x="7153" y="7863"/>
                </a:lnTo>
                <a:lnTo>
                  <a:pt x="7312" y="8106"/>
                </a:lnTo>
                <a:lnTo>
                  <a:pt x="0" y="8106"/>
                </a:lnTo>
                <a:close/>
              </a:path>
            </a:pathLst>
          </a:custGeom>
          <a:gradFill rotWithShape="0">
            <a:gsLst>
              <a:gs pos="0">
                <a:srgbClr val="fd99a9"/>
              </a:gs>
              <a:gs pos="100000">
                <a:srgbClr val="fc0128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262560" y="2583000"/>
            <a:ext cx="1781640" cy="2878560"/>
          </a:xfrm>
          <a:custGeom>
            <a:avLst/>
            <a:gdLst/>
            <a:ahLst/>
            <a:rect l="0" t="0" r="r" b="b"/>
            <a:pathLst>
              <a:path w="4949" h="7996">
                <a:moveTo>
                  <a:pt x="3864" y="7996"/>
                </a:moveTo>
                <a:lnTo>
                  <a:pt x="0" y="7992"/>
                </a:lnTo>
                <a:lnTo>
                  <a:pt x="370" y="7864"/>
                </a:lnTo>
                <a:lnTo>
                  <a:pt x="789" y="7719"/>
                </a:lnTo>
                <a:lnTo>
                  <a:pt x="1053" y="7480"/>
                </a:lnTo>
                <a:lnTo>
                  <a:pt x="1315" y="6850"/>
                </a:lnTo>
                <a:lnTo>
                  <a:pt x="1632" y="6369"/>
                </a:lnTo>
                <a:lnTo>
                  <a:pt x="1839" y="5213"/>
                </a:lnTo>
                <a:lnTo>
                  <a:pt x="1998" y="4005"/>
                </a:lnTo>
                <a:lnTo>
                  <a:pt x="2210" y="2267"/>
                </a:lnTo>
                <a:lnTo>
                  <a:pt x="2369" y="1349"/>
                </a:lnTo>
                <a:lnTo>
                  <a:pt x="2470" y="771"/>
                </a:lnTo>
                <a:lnTo>
                  <a:pt x="2629" y="286"/>
                </a:lnTo>
                <a:lnTo>
                  <a:pt x="2787" y="0"/>
                </a:lnTo>
                <a:lnTo>
                  <a:pt x="2999" y="529"/>
                </a:lnTo>
                <a:lnTo>
                  <a:pt x="3052" y="1252"/>
                </a:lnTo>
                <a:lnTo>
                  <a:pt x="3211" y="1785"/>
                </a:lnTo>
                <a:lnTo>
                  <a:pt x="3312" y="3136"/>
                </a:lnTo>
                <a:lnTo>
                  <a:pt x="3418" y="3665"/>
                </a:lnTo>
                <a:lnTo>
                  <a:pt x="3524" y="4150"/>
                </a:lnTo>
                <a:lnTo>
                  <a:pt x="3683" y="4873"/>
                </a:lnTo>
                <a:lnTo>
                  <a:pt x="3842" y="5645"/>
                </a:lnTo>
                <a:lnTo>
                  <a:pt x="4107" y="6237"/>
                </a:lnTo>
                <a:lnTo>
                  <a:pt x="4420" y="6788"/>
                </a:lnTo>
                <a:lnTo>
                  <a:pt x="4949" y="7286"/>
                </a:lnTo>
                <a:lnTo>
                  <a:pt x="4738" y="7661"/>
                </a:lnTo>
                <a:lnTo>
                  <a:pt x="4261" y="7943"/>
                </a:lnTo>
                <a:lnTo>
                  <a:pt x="3886" y="7983"/>
                </a:lnTo>
                <a:lnTo>
                  <a:pt x="3864" y="7996"/>
                </a:lnTo>
                <a:close/>
              </a:path>
            </a:pathLst>
          </a:custGeom>
          <a:gradFill rotWithShape="0">
            <a:gsLst>
              <a:gs pos="0">
                <a:srgbClr val="86192c"/>
              </a:gs>
              <a:gs pos="100000">
                <a:srgbClr val="790015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179960" y="2084400"/>
            <a:ext cx="0" cy="3343320"/>
          </a:xfrm>
          <a:prstGeom prst="line">
            <a:avLst/>
          </a:prstGeom>
          <a:ln w="76320">
            <a:solidFill>
              <a:srgbClr val="32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633920" y="2084400"/>
            <a:ext cx="0" cy="3335400"/>
          </a:xfrm>
          <a:prstGeom prst="line">
            <a:avLst/>
          </a:prstGeom>
          <a:ln w="76320">
            <a:solidFill>
              <a:srgbClr val="86ffd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944720" y="2084400"/>
            <a:ext cx="0" cy="3343320"/>
          </a:xfrm>
          <a:prstGeom prst="line">
            <a:avLst/>
          </a:prstGeom>
          <a:ln w="76320">
            <a:solidFill>
              <a:srgbClr val="dec4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630600" y="2084400"/>
            <a:ext cx="0" cy="3343320"/>
          </a:xfrm>
          <a:prstGeom prst="line">
            <a:avLst/>
          </a:prstGeom>
          <a:ln w="76320">
            <a:solidFill>
              <a:srgbClr val="af7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849840" y="1065240"/>
            <a:ext cx="13064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110280" y="2084400"/>
            <a:ext cx="0" cy="33606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659640" y="2101680"/>
            <a:ext cx="0" cy="3360960"/>
          </a:xfrm>
          <a:prstGeom prst="line">
            <a:avLst/>
          </a:prstGeom>
          <a:ln w="76320">
            <a:solidFill>
              <a:srgbClr val="79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6378480" y="1222200"/>
            <a:ext cx="175248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632.5 nm (He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531120" y="1533600"/>
            <a:ext cx="541800" cy="425880"/>
          </a:xfrm>
          <a:custGeom>
            <a:avLst/>
            <a:gdLst/>
            <a:ahLst/>
            <a:rect l="0" t="0" r="r" b="b"/>
            <a:pathLst>
              <a:path w="1505" h="1183">
                <a:moveTo>
                  <a:pt x="494" y="688"/>
                </a:moveTo>
                <a:lnTo>
                  <a:pt x="246" y="1183"/>
                </a:lnTo>
                <a:lnTo>
                  <a:pt x="0" y="688"/>
                </a:lnTo>
                <a:lnTo>
                  <a:pt x="123" y="688"/>
                </a:lnTo>
                <a:lnTo>
                  <a:pt x="119" y="680"/>
                </a:lnTo>
                <a:lnTo>
                  <a:pt x="119" y="658"/>
                </a:lnTo>
                <a:lnTo>
                  <a:pt x="123" y="636"/>
                </a:lnTo>
                <a:lnTo>
                  <a:pt x="123" y="609"/>
                </a:lnTo>
                <a:lnTo>
                  <a:pt x="127" y="587"/>
                </a:lnTo>
                <a:lnTo>
                  <a:pt x="127" y="565"/>
                </a:lnTo>
                <a:lnTo>
                  <a:pt x="132" y="538"/>
                </a:lnTo>
                <a:lnTo>
                  <a:pt x="136" y="521"/>
                </a:lnTo>
                <a:lnTo>
                  <a:pt x="141" y="494"/>
                </a:lnTo>
                <a:lnTo>
                  <a:pt x="149" y="472"/>
                </a:lnTo>
                <a:lnTo>
                  <a:pt x="158" y="450"/>
                </a:lnTo>
                <a:lnTo>
                  <a:pt x="163" y="428"/>
                </a:lnTo>
                <a:lnTo>
                  <a:pt x="171" y="406"/>
                </a:lnTo>
                <a:lnTo>
                  <a:pt x="185" y="389"/>
                </a:lnTo>
                <a:lnTo>
                  <a:pt x="194" y="367"/>
                </a:lnTo>
                <a:lnTo>
                  <a:pt x="202" y="344"/>
                </a:lnTo>
                <a:lnTo>
                  <a:pt x="216" y="322"/>
                </a:lnTo>
                <a:lnTo>
                  <a:pt x="229" y="305"/>
                </a:lnTo>
                <a:lnTo>
                  <a:pt x="242" y="286"/>
                </a:lnTo>
                <a:lnTo>
                  <a:pt x="255" y="268"/>
                </a:lnTo>
                <a:lnTo>
                  <a:pt x="268" y="246"/>
                </a:lnTo>
                <a:lnTo>
                  <a:pt x="286" y="229"/>
                </a:lnTo>
                <a:lnTo>
                  <a:pt x="299" y="211"/>
                </a:lnTo>
                <a:lnTo>
                  <a:pt x="317" y="194"/>
                </a:lnTo>
                <a:lnTo>
                  <a:pt x="335" y="180"/>
                </a:lnTo>
                <a:lnTo>
                  <a:pt x="352" y="163"/>
                </a:lnTo>
                <a:lnTo>
                  <a:pt x="366" y="145"/>
                </a:lnTo>
                <a:lnTo>
                  <a:pt x="389" y="136"/>
                </a:lnTo>
                <a:lnTo>
                  <a:pt x="406" y="119"/>
                </a:lnTo>
                <a:lnTo>
                  <a:pt x="419" y="110"/>
                </a:lnTo>
                <a:lnTo>
                  <a:pt x="446" y="97"/>
                </a:lnTo>
                <a:lnTo>
                  <a:pt x="464" y="88"/>
                </a:lnTo>
                <a:lnTo>
                  <a:pt x="486" y="74"/>
                </a:lnTo>
                <a:lnTo>
                  <a:pt x="508" y="61"/>
                </a:lnTo>
                <a:lnTo>
                  <a:pt x="525" y="52"/>
                </a:lnTo>
                <a:lnTo>
                  <a:pt x="552" y="44"/>
                </a:lnTo>
                <a:lnTo>
                  <a:pt x="569" y="35"/>
                </a:lnTo>
                <a:lnTo>
                  <a:pt x="596" y="26"/>
                </a:lnTo>
                <a:lnTo>
                  <a:pt x="613" y="22"/>
                </a:lnTo>
                <a:lnTo>
                  <a:pt x="640" y="17"/>
                </a:lnTo>
                <a:lnTo>
                  <a:pt x="658" y="13"/>
                </a:lnTo>
                <a:lnTo>
                  <a:pt x="688" y="8"/>
                </a:lnTo>
                <a:lnTo>
                  <a:pt x="706" y="4"/>
                </a:lnTo>
                <a:lnTo>
                  <a:pt x="733" y="0"/>
                </a:lnTo>
                <a:lnTo>
                  <a:pt x="755" y="0"/>
                </a:lnTo>
                <a:lnTo>
                  <a:pt x="777" y="0"/>
                </a:lnTo>
                <a:lnTo>
                  <a:pt x="803" y="0"/>
                </a:lnTo>
                <a:lnTo>
                  <a:pt x="821" y="0"/>
                </a:lnTo>
                <a:lnTo>
                  <a:pt x="847" y="0"/>
                </a:lnTo>
                <a:lnTo>
                  <a:pt x="869" y="4"/>
                </a:lnTo>
                <a:lnTo>
                  <a:pt x="896" y="8"/>
                </a:lnTo>
                <a:lnTo>
                  <a:pt x="918" y="13"/>
                </a:lnTo>
                <a:lnTo>
                  <a:pt x="940" y="17"/>
                </a:lnTo>
                <a:lnTo>
                  <a:pt x="962" y="22"/>
                </a:lnTo>
                <a:lnTo>
                  <a:pt x="988" y="26"/>
                </a:lnTo>
                <a:lnTo>
                  <a:pt x="1006" y="35"/>
                </a:lnTo>
                <a:lnTo>
                  <a:pt x="1024" y="44"/>
                </a:lnTo>
                <a:lnTo>
                  <a:pt x="1050" y="52"/>
                </a:lnTo>
                <a:lnTo>
                  <a:pt x="1068" y="61"/>
                </a:lnTo>
                <a:lnTo>
                  <a:pt x="1094" y="74"/>
                </a:lnTo>
                <a:lnTo>
                  <a:pt x="1112" y="88"/>
                </a:lnTo>
                <a:lnTo>
                  <a:pt x="1139" y="97"/>
                </a:lnTo>
                <a:lnTo>
                  <a:pt x="1152" y="110"/>
                </a:lnTo>
                <a:lnTo>
                  <a:pt x="1174" y="119"/>
                </a:lnTo>
                <a:lnTo>
                  <a:pt x="1192" y="136"/>
                </a:lnTo>
                <a:lnTo>
                  <a:pt x="1210" y="145"/>
                </a:lnTo>
                <a:lnTo>
                  <a:pt x="1227" y="163"/>
                </a:lnTo>
                <a:lnTo>
                  <a:pt x="1245" y="180"/>
                </a:lnTo>
                <a:lnTo>
                  <a:pt x="1263" y="194"/>
                </a:lnTo>
                <a:lnTo>
                  <a:pt x="1280" y="211"/>
                </a:lnTo>
                <a:lnTo>
                  <a:pt x="1294" y="229"/>
                </a:lnTo>
                <a:lnTo>
                  <a:pt x="1307" y="246"/>
                </a:lnTo>
                <a:lnTo>
                  <a:pt x="1324" y="268"/>
                </a:lnTo>
                <a:lnTo>
                  <a:pt x="1338" y="286"/>
                </a:lnTo>
                <a:lnTo>
                  <a:pt x="1351" y="305"/>
                </a:lnTo>
                <a:lnTo>
                  <a:pt x="1505" y="282"/>
                </a:lnTo>
                <a:lnTo>
                  <a:pt x="1346" y="300"/>
                </a:lnTo>
                <a:lnTo>
                  <a:pt x="1324" y="277"/>
                </a:lnTo>
                <a:lnTo>
                  <a:pt x="1307" y="255"/>
                </a:lnTo>
                <a:lnTo>
                  <a:pt x="1289" y="238"/>
                </a:lnTo>
                <a:lnTo>
                  <a:pt x="1258" y="220"/>
                </a:lnTo>
                <a:lnTo>
                  <a:pt x="1241" y="202"/>
                </a:lnTo>
                <a:lnTo>
                  <a:pt x="1214" y="185"/>
                </a:lnTo>
                <a:lnTo>
                  <a:pt x="1197" y="176"/>
                </a:lnTo>
                <a:lnTo>
                  <a:pt x="1179" y="167"/>
                </a:lnTo>
                <a:lnTo>
                  <a:pt x="1161" y="158"/>
                </a:lnTo>
                <a:lnTo>
                  <a:pt x="1144" y="149"/>
                </a:lnTo>
                <a:lnTo>
                  <a:pt x="1125" y="141"/>
                </a:lnTo>
                <a:lnTo>
                  <a:pt x="1107" y="136"/>
                </a:lnTo>
                <a:lnTo>
                  <a:pt x="1094" y="127"/>
                </a:lnTo>
                <a:lnTo>
                  <a:pt x="1072" y="123"/>
                </a:lnTo>
                <a:lnTo>
                  <a:pt x="1050" y="119"/>
                </a:lnTo>
                <a:lnTo>
                  <a:pt x="1037" y="114"/>
                </a:lnTo>
                <a:lnTo>
                  <a:pt x="1015" y="110"/>
                </a:lnTo>
                <a:lnTo>
                  <a:pt x="997" y="105"/>
                </a:lnTo>
                <a:lnTo>
                  <a:pt x="979" y="105"/>
                </a:lnTo>
                <a:lnTo>
                  <a:pt x="957" y="101"/>
                </a:lnTo>
                <a:lnTo>
                  <a:pt x="940" y="101"/>
                </a:lnTo>
                <a:lnTo>
                  <a:pt x="918" y="101"/>
                </a:lnTo>
                <a:lnTo>
                  <a:pt x="900" y="101"/>
                </a:lnTo>
                <a:lnTo>
                  <a:pt x="878" y="101"/>
                </a:lnTo>
                <a:lnTo>
                  <a:pt x="860" y="105"/>
                </a:lnTo>
                <a:lnTo>
                  <a:pt x="847" y="105"/>
                </a:lnTo>
                <a:lnTo>
                  <a:pt x="821" y="110"/>
                </a:lnTo>
                <a:lnTo>
                  <a:pt x="803" y="114"/>
                </a:lnTo>
                <a:lnTo>
                  <a:pt x="790" y="119"/>
                </a:lnTo>
                <a:lnTo>
                  <a:pt x="768" y="123"/>
                </a:lnTo>
                <a:lnTo>
                  <a:pt x="750" y="127"/>
                </a:lnTo>
                <a:lnTo>
                  <a:pt x="733" y="136"/>
                </a:lnTo>
                <a:lnTo>
                  <a:pt x="710" y="141"/>
                </a:lnTo>
                <a:lnTo>
                  <a:pt x="697" y="149"/>
                </a:lnTo>
                <a:lnTo>
                  <a:pt x="675" y="158"/>
                </a:lnTo>
                <a:lnTo>
                  <a:pt x="658" y="167"/>
                </a:lnTo>
                <a:lnTo>
                  <a:pt x="644" y="176"/>
                </a:lnTo>
                <a:lnTo>
                  <a:pt x="622" y="185"/>
                </a:lnTo>
                <a:lnTo>
                  <a:pt x="605" y="202"/>
                </a:lnTo>
                <a:lnTo>
                  <a:pt x="583" y="220"/>
                </a:lnTo>
                <a:lnTo>
                  <a:pt x="561" y="238"/>
                </a:lnTo>
                <a:lnTo>
                  <a:pt x="538" y="255"/>
                </a:lnTo>
                <a:lnTo>
                  <a:pt x="516" y="277"/>
                </a:lnTo>
                <a:lnTo>
                  <a:pt x="499" y="300"/>
                </a:lnTo>
                <a:lnTo>
                  <a:pt x="481" y="322"/>
                </a:lnTo>
                <a:lnTo>
                  <a:pt x="464" y="344"/>
                </a:lnTo>
                <a:lnTo>
                  <a:pt x="446" y="371"/>
                </a:lnTo>
                <a:lnTo>
                  <a:pt x="437" y="389"/>
                </a:lnTo>
                <a:lnTo>
                  <a:pt x="424" y="402"/>
                </a:lnTo>
                <a:lnTo>
                  <a:pt x="415" y="419"/>
                </a:lnTo>
                <a:lnTo>
                  <a:pt x="415" y="441"/>
                </a:lnTo>
                <a:lnTo>
                  <a:pt x="406" y="459"/>
                </a:lnTo>
                <a:lnTo>
                  <a:pt x="397" y="477"/>
                </a:lnTo>
                <a:lnTo>
                  <a:pt x="393" y="494"/>
                </a:lnTo>
                <a:lnTo>
                  <a:pt x="389" y="512"/>
                </a:lnTo>
                <a:lnTo>
                  <a:pt x="384" y="530"/>
                </a:lnTo>
                <a:lnTo>
                  <a:pt x="380" y="547"/>
                </a:lnTo>
                <a:lnTo>
                  <a:pt x="370" y="569"/>
                </a:lnTo>
                <a:lnTo>
                  <a:pt x="366" y="587"/>
                </a:lnTo>
                <a:lnTo>
                  <a:pt x="366" y="609"/>
                </a:lnTo>
                <a:lnTo>
                  <a:pt x="366" y="627"/>
                </a:lnTo>
                <a:lnTo>
                  <a:pt x="366" y="649"/>
                </a:lnTo>
                <a:lnTo>
                  <a:pt x="366" y="666"/>
                </a:lnTo>
                <a:lnTo>
                  <a:pt x="366" y="684"/>
                </a:lnTo>
                <a:lnTo>
                  <a:pt x="494" y="688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5192640" y="5465880"/>
            <a:ext cx="1519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c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881760" y="5502240"/>
            <a:ext cx="1282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mi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1204920" y="1654200"/>
            <a:ext cx="68515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300 nm      400 nm            500 nm             600 nm            70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3693960" y="3560760"/>
            <a:ext cx="3303720" cy="3319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685800" y="6094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ypical Research Cytometer (Coulter 753) (1980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841480" y="3484440"/>
            <a:ext cx="951120" cy="1338480"/>
          </a:xfrm>
          <a:custGeom>
            <a:avLst/>
            <a:gdLst/>
            <a:ahLst/>
            <a:rect l="0" t="0" r="r" b="b"/>
            <a:pathLst>
              <a:path w="2642" h="3718">
                <a:moveTo>
                  <a:pt x="0" y="0"/>
                </a:moveTo>
                <a:lnTo>
                  <a:pt x="2642" y="0"/>
                </a:lnTo>
                <a:lnTo>
                  <a:pt x="2642" y="3718"/>
                </a:lnTo>
                <a:lnTo>
                  <a:pt x="0" y="3718"/>
                </a:lnTo>
                <a:lnTo>
                  <a:pt x="0" y="0"/>
                </a:lnTo>
                <a:close/>
              </a:path>
            </a:pathLst>
          </a:custGeom>
          <a:solidFill>
            <a:srgbClr val="78787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411280" y="3440160"/>
            <a:ext cx="5289840" cy="109800"/>
          </a:xfrm>
          <a:custGeom>
            <a:avLst/>
            <a:gdLst/>
            <a:ahLst/>
            <a:rect l="0" t="0" r="r" b="b"/>
            <a:pathLst>
              <a:path w="14694" h="305">
                <a:moveTo>
                  <a:pt x="0" y="305"/>
                </a:moveTo>
                <a:lnTo>
                  <a:pt x="14694" y="305"/>
                </a:lnTo>
                <a:lnTo>
                  <a:pt x="14694" y="0"/>
                </a:lnTo>
                <a:lnTo>
                  <a:pt x="0" y="0"/>
                </a:lnTo>
                <a:lnTo>
                  <a:pt x="0" y="3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959200" y="2417760"/>
            <a:ext cx="964080" cy="1026000"/>
          </a:xfrm>
          <a:custGeom>
            <a:avLst/>
            <a:gdLst/>
            <a:ahLst/>
            <a:rect l="0" t="0" r="r" b="b"/>
            <a:pathLst>
              <a:path w="2678" h="2850">
                <a:moveTo>
                  <a:pt x="0" y="2850"/>
                </a:moveTo>
                <a:lnTo>
                  <a:pt x="2678" y="2784"/>
                </a:lnTo>
                <a:lnTo>
                  <a:pt x="2678" y="0"/>
                </a:lnTo>
                <a:lnTo>
                  <a:pt x="0" y="0"/>
                </a:lnTo>
                <a:lnTo>
                  <a:pt x="0" y="2850"/>
                </a:lnTo>
                <a:close/>
              </a:path>
            </a:pathLst>
          </a:custGeom>
          <a:solidFill>
            <a:srgbClr val="78787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224320" y="2909880"/>
            <a:ext cx="2376720" cy="333720"/>
          </a:xfrm>
          <a:custGeom>
            <a:avLst/>
            <a:gdLst/>
            <a:ahLst/>
            <a:rect l="0" t="0" r="r" b="b"/>
            <a:pathLst>
              <a:path w="6602" h="927">
                <a:moveTo>
                  <a:pt x="0" y="0"/>
                </a:moveTo>
                <a:lnTo>
                  <a:pt x="6602" y="0"/>
                </a:lnTo>
                <a:lnTo>
                  <a:pt x="6602" y="927"/>
                </a:lnTo>
                <a:lnTo>
                  <a:pt x="0" y="92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613480" y="3263760"/>
            <a:ext cx="108360" cy="182880"/>
          </a:xfrm>
          <a:custGeom>
            <a:avLst/>
            <a:gdLst/>
            <a:ahLst/>
            <a:rect l="0" t="0" r="r" b="b"/>
            <a:pathLst>
              <a:path w="301" h="508">
                <a:moveTo>
                  <a:pt x="0" y="508"/>
                </a:moveTo>
                <a:lnTo>
                  <a:pt x="301" y="508"/>
                </a:lnTo>
                <a:lnTo>
                  <a:pt x="301" y="0"/>
                </a:lnTo>
                <a:lnTo>
                  <a:pt x="0" y="0"/>
                </a:lnTo>
                <a:lnTo>
                  <a:pt x="0" y="508"/>
                </a:lnTo>
                <a:close/>
              </a:path>
            </a:pathLst>
          </a:custGeom>
          <a:solidFill>
            <a:srgbClr val="78787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102440" y="3208320"/>
            <a:ext cx="113040" cy="198720"/>
          </a:xfrm>
          <a:custGeom>
            <a:avLst/>
            <a:gdLst/>
            <a:ahLst/>
            <a:rect l="0" t="0" r="r" b="b"/>
            <a:pathLst>
              <a:path w="314" h="552">
                <a:moveTo>
                  <a:pt x="0" y="552"/>
                </a:moveTo>
                <a:lnTo>
                  <a:pt x="314" y="552"/>
                </a:lnTo>
                <a:lnTo>
                  <a:pt x="314" y="0"/>
                </a:lnTo>
                <a:lnTo>
                  <a:pt x="0" y="0"/>
                </a:lnTo>
                <a:lnTo>
                  <a:pt x="0" y="552"/>
                </a:lnTo>
                <a:close/>
              </a:path>
            </a:pathLst>
          </a:custGeom>
          <a:solidFill>
            <a:srgbClr val="78787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994120" y="4305240"/>
            <a:ext cx="259200" cy="395640"/>
          </a:xfrm>
          <a:custGeom>
            <a:avLst/>
            <a:gdLst/>
            <a:ahLst/>
            <a:rect l="0" t="0" r="r" b="b"/>
            <a:pathLst>
              <a:path w="720" h="1099">
                <a:moveTo>
                  <a:pt x="0" y="1099"/>
                </a:moveTo>
                <a:lnTo>
                  <a:pt x="720" y="1099"/>
                </a:lnTo>
                <a:lnTo>
                  <a:pt x="720" y="0"/>
                </a:lnTo>
                <a:lnTo>
                  <a:pt x="0" y="0"/>
                </a:lnTo>
                <a:lnTo>
                  <a:pt x="0" y="1099"/>
                </a:lnTo>
                <a:close/>
              </a:path>
            </a:pathLst>
          </a:custGeom>
          <a:solidFill>
            <a:srgbClr val="293f5d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3911760"/>
            <a:ext cx="171720" cy="182880"/>
          </a:xfrm>
          <a:custGeom>
            <a:avLst/>
            <a:gdLst/>
            <a:ahLst/>
            <a:rect l="0" t="0" r="r" b="b"/>
            <a:pathLst>
              <a:path w="477" h="508">
                <a:moveTo>
                  <a:pt x="0" y="508"/>
                </a:moveTo>
                <a:lnTo>
                  <a:pt x="477" y="508"/>
                </a:lnTo>
                <a:lnTo>
                  <a:pt x="477" y="0"/>
                </a:lnTo>
                <a:lnTo>
                  <a:pt x="0" y="0"/>
                </a:lnTo>
                <a:lnTo>
                  <a:pt x="0" y="508"/>
                </a:lnTo>
                <a:close/>
              </a:path>
            </a:pathLst>
          </a:custGeom>
          <a:solidFill>
            <a:srgbClr val="78787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127320" y="4294080"/>
            <a:ext cx="0" cy="397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982960" y="2762280"/>
            <a:ext cx="949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326200" y="3517920"/>
            <a:ext cx="951120" cy="1335600"/>
          </a:xfrm>
          <a:custGeom>
            <a:avLst/>
            <a:gdLst/>
            <a:ahLst/>
            <a:rect l="0" t="0" r="r" b="b"/>
            <a:pathLst>
              <a:path w="2642" h="3710">
                <a:moveTo>
                  <a:pt x="0" y="0"/>
                </a:moveTo>
                <a:lnTo>
                  <a:pt x="2642" y="0"/>
                </a:lnTo>
                <a:lnTo>
                  <a:pt x="2642" y="3710"/>
                </a:lnTo>
                <a:lnTo>
                  <a:pt x="0" y="3710"/>
                </a:lnTo>
                <a:lnTo>
                  <a:pt x="0" y="0"/>
                </a:lnTo>
                <a:close/>
              </a:path>
            </a:pathLst>
          </a:custGeom>
          <a:solidFill>
            <a:srgbClr val="78787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450040" y="3892680"/>
            <a:ext cx="756000" cy="381240"/>
          </a:xfrm>
          <a:custGeom>
            <a:avLst/>
            <a:gdLst/>
            <a:ahLst/>
            <a:rect l="0" t="0" r="r" b="b"/>
            <a:pathLst>
              <a:path w="2100" h="1059">
                <a:moveTo>
                  <a:pt x="0" y="1059"/>
                </a:moveTo>
                <a:lnTo>
                  <a:pt x="2100" y="1059"/>
                </a:lnTo>
                <a:lnTo>
                  <a:pt x="2100" y="0"/>
                </a:lnTo>
                <a:lnTo>
                  <a:pt x="0" y="0"/>
                </a:lnTo>
                <a:lnTo>
                  <a:pt x="0" y="1059"/>
                </a:lnTo>
                <a:close/>
              </a:path>
            </a:pathLst>
          </a:custGeom>
          <a:solidFill>
            <a:srgbClr val="ff1b1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62560" y="3543120"/>
            <a:ext cx="897120" cy="213120"/>
          </a:xfrm>
          <a:custGeom>
            <a:avLst/>
            <a:gdLst/>
            <a:ahLst/>
            <a:rect l="0" t="0" r="r" b="b"/>
            <a:pathLst>
              <a:path w="2492" h="592">
                <a:moveTo>
                  <a:pt x="0" y="0"/>
                </a:moveTo>
                <a:lnTo>
                  <a:pt x="2492" y="0"/>
                </a:lnTo>
                <a:lnTo>
                  <a:pt x="2492" y="592"/>
                </a:lnTo>
                <a:lnTo>
                  <a:pt x="0" y="592"/>
                </a:lnTo>
                <a:lnTo>
                  <a:pt x="0" y="0"/>
                </a:lnTo>
                <a:close/>
              </a:path>
            </a:pathLst>
          </a:custGeom>
          <a:solidFill>
            <a:srgbClr val="78787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75160" y="4622760"/>
            <a:ext cx="884520" cy="197280"/>
          </a:xfrm>
          <a:custGeom>
            <a:avLst/>
            <a:gdLst/>
            <a:ahLst/>
            <a:rect l="0" t="0" r="r" b="b"/>
            <a:pathLst>
              <a:path w="2457" h="548">
                <a:moveTo>
                  <a:pt x="0" y="548"/>
                </a:moveTo>
                <a:lnTo>
                  <a:pt x="2457" y="548"/>
                </a:lnTo>
                <a:lnTo>
                  <a:pt x="2457" y="0"/>
                </a:lnTo>
                <a:lnTo>
                  <a:pt x="0" y="0"/>
                </a:lnTo>
                <a:lnTo>
                  <a:pt x="0" y="548"/>
                </a:lnTo>
                <a:close/>
              </a:path>
            </a:pathLst>
          </a:custGeom>
          <a:solidFill>
            <a:srgbClr val="78787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375160" y="4378320"/>
            <a:ext cx="884520" cy="213120"/>
          </a:xfrm>
          <a:custGeom>
            <a:avLst/>
            <a:gdLst/>
            <a:ahLst/>
            <a:rect l="0" t="0" r="r" b="b"/>
            <a:pathLst>
              <a:path w="2457" h="592">
                <a:moveTo>
                  <a:pt x="0" y="592"/>
                </a:moveTo>
                <a:lnTo>
                  <a:pt x="2457" y="592"/>
                </a:lnTo>
                <a:lnTo>
                  <a:pt x="2457" y="0"/>
                </a:lnTo>
                <a:lnTo>
                  <a:pt x="0" y="0"/>
                </a:lnTo>
                <a:lnTo>
                  <a:pt x="0" y="592"/>
                </a:lnTo>
                <a:close/>
              </a:path>
            </a:pathLst>
          </a:custGeom>
          <a:solidFill>
            <a:srgbClr val="78787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738760" y="3649680"/>
            <a:ext cx="179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72240" y="447048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792760" y="471312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178080" y="3995640"/>
            <a:ext cx="55800" cy="52920"/>
          </a:xfrm>
          <a:custGeom>
            <a:avLst/>
            <a:gdLst/>
            <a:ahLst/>
            <a:rect l="0" t="0" r="r" b="b"/>
            <a:pathLst>
              <a:path w="155" h="147">
                <a:moveTo>
                  <a:pt x="0" y="147"/>
                </a:moveTo>
                <a:lnTo>
                  <a:pt x="155" y="147"/>
                </a:lnTo>
                <a:lnTo>
                  <a:pt x="155" y="0"/>
                </a:lnTo>
                <a:lnTo>
                  <a:pt x="0" y="0"/>
                </a:lnTo>
                <a:lnTo>
                  <a:pt x="0" y="147"/>
                </a:lnTo>
                <a:close/>
              </a:path>
            </a:pathLst>
          </a:custGeom>
          <a:solidFill>
            <a:srgbClr val="ff3938"/>
          </a:solidFill>
          <a:ln w="0">
            <a:noFill/>
          </a:ln>
        </p:spPr>
        <p:txBody>
          <a:bodyPr lIns="90000" rIns="90000" tIns="7920" bIns="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20040" y="2995560"/>
            <a:ext cx="594000" cy="1719720"/>
          </a:xfrm>
          <a:custGeom>
            <a:avLst/>
            <a:gdLst/>
            <a:ahLst/>
            <a:rect l="0" t="0" r="r" b="b"/>
            <a:pathLst>
              <a:path w="1650" h="4777">
                <a:moveTo>
                  <a:pt x="268" y="0"/>
                </a:moveTo>
                <a:lnTo>
                  <a:pt x="714" y="44"/>
                </a:lnTo>
                <a:lnTo>
                  <a:pt x="865" y="167"/>
                </a:lnTo>
                <a:lnTo>
                  <a:pt x="988" y="339"/>
                </a:lnTo>
                <a:lnTo>
                  <a:pt x="1345" y="886"/>
                </a:lnTo>
                <a:lnTo>
                  <a:pt x="1531" y="1438"/>
                </a:lnTo>
                <a:lnTo>
                  <a:pt x="1584" y="1734"/>
                </a:lnTo>
                <a:lnTo>
                  <a:pt x="1650" y="2197"/>
                </a:lnTo>
                <a:lnTo>
                  <a:pt x="1592" y="3489"/>
                </a:lnTo>
                <a:lnTo>
                  <a:pt x="966" y="3935"/>
                </a:lnTo>
                <a:lnTo>
                  <a:pt x="820" y="4526"/>
                </a:lnTo>
                <a:lnTo>
                  <a:pt x="577" y="4777"/>
                </a:lnTo>
                <a:lnTo>
                  <a:pt x="0" y="4777"/>
                </a:lnTo>
                <a:lnTo>
                  <a:pt x="626" y="4230"/>
                </a:lnTo>
                <a:lnTo>
                  <a:pt x="771" y="3587"/>
                </a:lnTo>
                <a:lnTo>
                  <a:pt x="1350" y="3189"/>
                </a:lnTo>
                <a:lnTo>
                  <a:pt x="1469" y="2615"/>
                </a:lnTo>
                <a:lnTo>
                  <a:pt x="1438" y="2197"/>
                </a:lnTo>
                <a:lnTo>
                  <a:pt x="1381" y="1562"/>
                </a:lnTo>
                <a:lnTo>
                  <a:pt x="1196" y="1222"/>
                </a:lnTo>
                <a:lnTo>
                  <a:pt x="988" y="846"/>
                </a:lnTo>
                <a:lnTo>
                  <a:pt x="838" y="423"/>
                </a:lnTo>
                <a:lnTo>
                  <a:pt x="564" y="211"/>
                </a:lnTo>
                <a:lnTo>
                  <a:pt x="418" y="211"/>
                </a:lnTo>
                <a:lnTo>
                  <a:pt x="207" y="211"/>
                </a:lnTo>
                <a:lnTo>
                  <a:pt x="268" y="0"/>
                </a:lnTo>
                <a:close/>
              </a:path>
            </a:pathLst>
          </a:custGeom>
          <a:solidFill>
            <a:srgbClr val="78787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16440" y="3013200"/>
            <a:ext cx="205200" cy="57600"/>
          </a:xfrm>
          <a:custGeom>
            <a:avLst/>
            <a:gdLst/>
            <a:ahLst/>
            <a:rect l="0" t="0" r="r" b="b"/>
            <a:pathLst>
              <a:path w="570" h="160">
                <a:moveTo>
                  <a:pt x="0" y="160"/>
                </a:moveTo>
                <a:lnTo>
                  <a:pt x="570" y="160"/>
                </a:lnTo>
                <a:lnTo>
                  <a:pt x="570" y="0"/>
                </a:lnTo>
                <a:lnTo>
                  <a:pt x="0" y="0"/>
                </a:lnTo>
                <a:lnTo>
                  <a:pt x="0" y="160"/>
                </a:lnTo>
                <a:close/>
              </a:path>
            </a:pathLst>
          </a:custGeom>
          <a:solidFill>
            <a:srgbClr val="00e3e3"/>
          </a:solidFill>
          <a:ln w="12600">
            <a:solidFill>
              <a:srgbClr val="0000ff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50960" y="2416320"/>
            <a:ext cx="429120" cy="992520"/>
          </a:xfrm>
          <a:custGeom>
            <a:avLst/>
            <a:gdLst/>
            <a:ahLst/>
            <a:rect l="0" t="0" r="r" b="b"/>
            <a:pathLst>
              <a:path w="1192" h="2757">
                <a:moveTo>
                  <a:pt x="1192" y="2757"/>
                </a:moveTo>
                <a:lnTo>
                  <a:pt x="0" y="2757"/>
                </a:lnTo>
                <a:lnTo>
                  <a:pt x="0" y="0"/>
                </a:lnTo>
                <a:lnTo>
                  <a:pt x="1192" y="0"/>
                </a:lnTo>
                <a:lnTo>
                  <a:pt x="1192" y="2757"/>
                </a:lnTo>
                <a:close/>
              </a:path>
            </a:pathLst>
          </a:custGeom>
          <a:solidFill>
            <a:srgbClr val="787878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584440" y="2509920"/>
            <a:ext cx="395640" cy="205200"/>
          </a:xfrm>
          <a:custGeom>
            <a:avLst/>
            <a:gdLst/>
            <a:ahLst/>
            <a:rect l="0" t="0" r="r" b="b"/>
            <a:pathLst>
              <a:path w="1099" h="570">
                <a:moveTo>
                  <a:pt x="0" y="570"/>
                </a:moveTo>
                <a:lnTo>
                  <a:pt x="1099" y="570"/>
                </a:lnTo>
                <a:lnTo>
                  <a:pt x="1099" y="0"/>
                </a:lnTo>
                <a:lnTo>
                  <a:pt x="0" y="0"/>
                </a:lnTo>
                <a:lnTo>
                  <a:pt x="0" y="570"/>
                </a:lnTo>
                <a:close/>
              </a:path>
            </a:pathLst>
          </a:custGeom>
          <a:solidFill>
            <a:srgbClr val="787878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106880" y="2938320"/>
            <a:ext cx="908280" cy="297360"/>
          </a:xfrm>
          <a:custGeom>
            <a:avLst/>
            <a:gdLst/>
            <a:ahLst/>
            <a:rect l="0" t="0" r="r" b="b"/>
            <a:pathLst>
              <a:path w="2523" h="826">
                <a:moveTo>
                  <a:pt x="2523" y="826"/>
                </a:moveTo>
                <a:lnTo>
                  <a:pt x="0" y="826"/>
                </a:lnTo>
                <a:lnTo>
                  <a:pt x="0" y="0"/>
                </a:lnTo>
                <a:lnTo>
                  <a:pt x="2523" y="0"/>
                </a:lnTo>
                <a:lnTo>
                  <a:pt x="2523" y="826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037120" y="3062160"/>
            <a:ext cx="232200" cy="63720"/>
          </a:xfrm>
          <a:custGeom>
            <a:avLst/>
            <a:gdLst/>
            <a:ahLst/>
            <a:rect l="0" t="0" r="r" b="b"/>
            <a:pathLst>
              <a:path w="645" h="177">
                <a:moveTo>
                  <a:pt x="0" y="177"/>
                </a:moveTo>
                <a:lnTo>
                  <a:pt x="645" y="177"/>
                </a:lnTo>
                <a:lnTo>
                  <a:pt x="645" y="0"/>
                </a:lnTo>
                <a:lnTo>
                  <a:pt x="0" y="0"/>
                </a:lnTo>
                <a:lnTo>
                  <a:pt x="0" y="177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112160" y="4713120"/>
            <a:ext cx="168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645240" y="3517920"/>
            <a:ext cx="951120" cy="1335600"/>
          </a:xfrm>
          <a:custGeom>
            <a:avLst/>
            <a:gdLst/>
            <a:ahLst/>
            <a:rect l="0" t="0" r="r" b="b"/>
            <a:pathLst>
              <a:path w="2642" h="3710">
                <a:moveTo>
                  <a:pt x="0" y="0"/>
                </a:moveTo>
                <a:lnTo>
                  <a:pt x="2642" y="0"/>
                </a:lnTo>
                <a:lnTo>
                  <a:pt x="2642" y="3710"/>
                </a:lnTo>
                <a:lnTo>
                  <a:pt x="0" y="3710"/>
                </a:lnTo>
                <a:lnTo>
                  <a:pt x="0" y="0"/>
                </a:lnTo>
                <a:close/>
              </a:path>
            </a:pathLst>
          </a:custGeom>
          <a:solidFill>
            <a:srgbClr val="78787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769080" y="3892680"/>
            <a:ext cx="756000" cy="381240"/>
          </a:xfrm>
          <a:custGeom>
            <a:avLst/>
            <a:gdLst/>
            <a:ahLst/>
            <a:rect l="0" t="0" r="r" b="b"/>
            <a:pathLst>
              <a:path w="2100" h="1059">
                <a:moveTo>
                  <a:pt x="0" y="1059"/>
                </a:moveTo>
                <a:lnTo>
                  <a:pt x="2100" y="1059"/>
                </a:lnTo>
                <a:lnTo>
                  <a:pt x="2100" y="0"/>
                </a:lnTo>
                <a:lnTo>
                  <a:pt x="0" y="0"/>
                </a:lnTo>
                <a:lnTo>
                  <a:pt x="0" y="1059"/>
                </a:lnTo>
                <a:close/>
              </a:path>
            </a:pathLst>
          </a:custGeom>
          <a:solidFill>
            <a:srgbClr val="ff1b1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681960" y="3543120"/>
            <a:ext cx="897120" cy="213120"/>
          </a:xfrm>
          <a:custGeom>
            <a:avLst/>
            <a:gdLst/>
            <a:ahLst/>
            <a:rect l="0" t="0" r="r" b="b"/>
            <a:pathLst>
              <a:path w="2492" h="592">
                <a:moveTo>
                  <a:pt x="0" y="0"/>
                </a:moveTo>
                <a:lnTo>
                  <a:pt x="2492" y="0"/>
                </a:lnTo>
                <a:lnTo>
                  <a:pt x="2492" y="592"/>
                </a:lnTo>
                <a:lnTo>
                  <a:pt x="0" y="592"/>
                </a:lnTo>
                <a:lnTo>
                  <a:pt x="0" y="0"/>
                </a:lnTo>
                <a:close/>
              </a:path>
            </a:pathLst>
          </a:custGeom>
          <a:solidFill>
            <a:srgbClr val="78787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692760" y="4378320"/>
            <a:ext cx="886320" cy="213120"/>
          </a:xfrm>
          <a:custGeom>
            <a:avLst/>
            <a:gdLst/>
            <a:ahLst/>
            <a:rect l="0" t="0" r="r" b="b"/>
            <a:pathLst>
              <a:path w="2462" h="592">
                <a:moveTo>
                  <a:pt x="0" y="592"/>
                </a:moveTo>
                <a:lnTo>
                  <a:pt x="2462" y="592"/>
                </a:lnTo>
                <a:lnTo>
                  <a:pt x="2462" y="0"/>
                </a:lnTo>
                <a:lnTo>
                  <a:pt x="0" y="0"/>
                </a:lnTo>
                <a:lnTo>
                  <a:pt x="0" y="592"/>
                </a:lnTo>
                <a:close/>
              </a:path>
            </a:pathLst>
          </a:custGeom>
          <a:solidFill>
            <a:srgbClr val="78787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56360" y="3649680"/>
            <a:ext cx="1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089840" y="4470480"/>
            <a:ext cx="14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703920" y="4622760"/>
            <a:ext cx="885960" cy="197280"/>
          </a:xfrm>
          <a:custGeom>
            <a:avLst/>
            <a:gdLst/>
            <a:ahLst/>
            <a:rect l="0" t="0" r="r" b="b"/>
            <a:pathLst>
              <a:path w="2461" h="548">
                <a:moveTo>
                  <a:pt x="0" y="548"/>
                </a:moveTo>
                <a:lnTo>
                  <a:pt x="2461" y="548"/>
                </a:lnTo>
                <a:lnTo>
                  <a:pt x="2461" y="0"/>
                </a:lnTo>
                <a:lnTo>
                  <a:pt x="0" y="0"/>
                </a:lnTo>
                <a:lnTo>
                  <a:pt x="0" y="548"/>
                </a:lnTo>
                <a:close/>
              </a:path>
            </a:pathLst>
          </a:custGeom>
          <a:solidFill>
            <a:srgbClr val="78787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105680" y="4726080"/>
            <a:ext cx="183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144440" y="2033640"/>
            <a:ext cx="1086120" cy="2773800"/>
          </a:xfrm>
          <a:custGeom>
            <a:avLst/>
            <a:gdLst/>
            <a:ahLst/>
            <a:rect l="0" t="0" r="r" b="b"/>
            <a:pathLst>
              <a:path w="3017" h="7705">
                <a:moveTo>
                  <a:pt x="3017" y="7705"/>
                </a:moveTo>
                <a:lnTo>
                  <a:pt x="0" y="7705"/>
                </a:lnTo>
                <a:lnTo>
                  <a:pt x="0" y="0"/>
                </a:lnTo>
                <a:lnTo>
                  <a:pt x="3017" y="0"/>
                </a:lnTo>
                <a:lnTo>
                  <a:pt x="3017" y="7705"/>
                </a:lnTo>
                <a:close/>
              </a:path>
            </a:pathLst>
          </a:custGeom>
          <a:solidFill>
            <a:srgbClr val="787878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166760" y="4027320"/>
            <a:ext cx="1064160" cy="155880"/>
          </a:xfrm>
          <a:custGeom>
            <a:avLst/>
            <a:gdLst/>
            <a:ahLst/>
            <a:rect l="0" t="0" r="r" b="b"/>
            <a:pathLst>
              <a:path w="2956" h="433">
                <a:moveTo>
                  <a:pt x="0" y="433"/>
                </a:moveTo>
                <a:lnTo>
                  <a:pt x="2956" y="433"/>
                </a:lnTo>
                <a:lnTo>
                  <a:pt x="2956" y="0"/>
                </a:lnTo>
                <a:lnTo>
                  <a:pt x="0" y="0"/>
                </a:lnTo>
                <a:lnTo>
                  <a:pt x="0" y="433"/>
                </a:lnTo>
                <a:close/>
              </a:path>
            </a:pathLst>
          </a:custGeom>
          <a:solidFill>
            <a:srgbClr val="5d5d5d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177920" y="3124080"/>
            <a:ext cx="1030680" cy="437040"/>
          </a:xfrm>
          <a:custGeom>
            <a:avLst/>
            <a:gdLst/>
            <a:ahLst/>
            <a:rect l="0" t="0" r="r" b="b"/>
            <a:pathLst>
              <a:path w="2863" h="1214">
                <a:moveTo>
                  <a:pt x="0" y="0"/>
                </a:moveTo>
                <a:lnTo>
                  <a:pt x="2863" y="0"/>
                </a:lnTo>
                <a:lnTo>
                  <a:pt x="2863" y="1214"/>
                </a:lnTo>
                <a:lnTo>
                  <a:pt x="0" y="1214"/>
                </a:lnTo>
                <a:lnTo>
                  <a:pt x="0" y="0"/>
                </a:lnTo>
                <a:close/>
              </a:path>
            </a:pathLst>
          </a:custGeom>
          <a:solidFill>
            <a:srgbClr val="787878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222200" y="2097000"/>
            <a:ext cx="244800" cy="187560"/>
          </a:xfrm>
          <a:custGeom>
            <a:avLst/>
            <a:gdLst/>
            <a:ahLst/>
            <a:rect l="0" t="0" r="r" b="b"/>
            <a:pathLst>
              <a:path w="680" h="521">
                <a:moveTo>
                  <a:pt x="0" y="521"/>
                </a:moveTo>
                <a:lnTo>
                  <a:pt x="680" y="521"/>
                </a:lnTo>
                <a:lnTo>
                  <a:pt x="680" y="0"/>
                </a:lnTo>
                <a:lnTo>
                  <a:pt x="0" y="0"/>
                </a:lnTo>
                <a:lnTo>
                  <a:pt x="0" y="521"/>
                </a:lnTo>
                <a:close/>
              </a:path>
            </a:pathLst>
          </a:custGeom>
          <a:solidFill>
            <a:srgbClr val="04d665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654200" y="2220840"/>
            <a:ext cx="387720" cy="63720"/>
          </a:xfrm>
          <a:custGeom>
            <a:avLst/>
            <a:gdLst/>
            <a:ahLst/>
            <a:rect l="0" t="0" r="r" b="b"/>
            <a:pathLst>
              <a:path w="1077" h="177">
                <a:moveTo>
                  <a:pt x="0" y="0"/>
                </a:moveTo>
                <a:lnTo>
                  <a:pt x="1077" y="0"/>
                </a:lnTo>
                <a:lnTo>
                  <a:pt x="1077" y="177"/>
                </a:lnTo>
                <a:lnTo>
                  <a:pt x="0" y="177"/>
                </a:lnTo>
                <a:lnTo>
                  <a:pt x="0" y="0"/>
                </a:lnTo>
                <a:close/>
              </a:path>
            </a:pathLst>
          </a:custGeom>
          <a:solidFill>
            <a:srgbClr val="5d5d5d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654200" y="2378160"/>
            <a:ext cx="387720" cy="62280"/>
          </a:xfrm>
          <a:custGeom>
            <a:avLst/>
            <a:gdLst/>
            <a:ahLst/>
            <a:rect l="0" t="0" r="r" b="b"/>
            <a:pathLst>
              <a:path w="1077" h="173">
                <a:moveTo>
                  <a:pt x="0" y="0"/>
                </a:moveTo>
                <a:lnTo>
                  <a:pt x="1077" y="0"/>
                </a:lnTo>
                <a:lnTo>
                  <a:pt x="1077" y="173"/>
                </a:lnTo>
                <a:lnTo>
                  <a:pt x="0" y="173"/>
                </a:lnTo>
                <a:lnTo>
                  <a:pt x="0" y="0"/>
                </a:lnTo>
                <a:close/>
              </a:path>
            </a:pathLst>
          </a:custGeom>
          <a:solidFill>
            <a:srgbClr val="5d5d5d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278000" y="4338720"/>
            <a:ext cx="111600" cy="341640"/>
          </a:xfrm>
          <a:custGeom>
            <a:avLst/>
            <a:gdLst/>
            <a:ahLst/>
            <a:rect l="0" t="0" r="r" b="b"/>
            <a:pathLst>
              <a:path w="310" h="949">
                <a:moveTo>
                  <a:pt x="0" y="949"/>
                </a:moveTo>
                <a:lnTo>
                  <a:pt x="310" y="949"/>
                </a:lnTo>
                <a:lnTo>
                  <a:pt x="310" y="0"/>
                </a:lnTo>
                <a:lnTo>
                  <a:pt x="0" y="0"/>
                </a:lnTo>
                <a:lnTo>
                  <a:pt x="0" y="949"/>
                </a:lnTo>
                <a:close/>
              </a:path>
            </a:pathLst>
          </a:custGeom>
          <a:solidFill>
            <a:srgbClr val="293f5d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411200" y="4338720"/>
            <a:ext cx="111600" cy="341640"/>
          </a:xfrm>
          <a:custGeom>
            <a:avLst/>
            <a:gdLst/>
            <a:ahLst/>
            <a:rect l="0" t="0" r="r" b="b"/>
            <a:pathLst>
              <a:path w="310" h="949">
                <a:moveTo>
                  <a:pt x="0" y="949"/>
                </a:moveTo>
                <a:lnTo>
                  <a:pt x="310" y="949"/>
                </a:lnTo>
                <a:lnTo>
                  <a:pt x="310" y="0"/>
                </a:lnTo>
                <a:lnTo>
                  <a:pt x="0" y="0"/>
                </a:lnTo>
                <a:lnTo>
                  <a:pt x="0" y="949"/>
                </a:lnTo>
                <a:close/>
              </a:path>
            </a:pathLst>
          </a:custGeom>
          <a:solidFill>
            <a:srgbClr val="293f5d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998720" y="4572000"/>
            <a:ext cx="89280" cy="92520"/>
          </a:xfrm>
          <a:custGeom>
            <a:avLst/>
            <a:gdLst/>
            <a:ahLst/>
            <a:rect l="0" t="0" r="r" b="b"/>
            <a:pathLst>
              <a:path w="248" h="257">
                <a:moveTo>
                  <a:pt x="0" y="257"/>
                </a:moveTo>
                <a:lnTo>
                  <a:pt x="248" y="257"/>
                </a:lnTo>
                <a:lnTo>
                  <a:pt x="248" y="0"/>
                </a:lnTo>
                <a:lnTo>
                  <a:pt x="0" y="0"/>
                </a:lnTo>
                <a:lnTo>
                  <a:pt x="0" y="257"/>
                </a:lnTo>
                <a:close/>
              </a:path>
            </a:pathLst>
          </a:custGeom>
          <a:solidFill>
            <a:srgbClr val="ff3938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289160" y="3295800"/>
            <a:ext cx="44640" cy="47880"/>
          </a:xfrm>
          <a:custGeom>
            <a:avLst/>
            <a:gdLst/>
            <a:ahLst/>
            <a:rect l="0" t="0" r="r" b="b"/>
            <a:pathLst>
              <a:path w="124" h="133">
                <a:moveTo>
                  <a:pt x="0" y="133"/>
                </a:moveTo>
                <a:lnTo>
                  <a:pt x="124" y="133"/>
                </a:lnTo>
                <a:lnTo>
                  <a:pt x="124" y="0"/>
                </a:lnTo>
                <a:lnTo>
                  <a:pt x="0" y="0"/>
                </a:lnTo>
                <a:lnTo>
                  <a:pt x="0" y="133"/>
                </a:lnTo>
                <a:close/>
              </a:path>
            </a:pathLst>
          </a:custGeom>
          <a:solidFill>
            <a:srgbClr val="787878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476360" y="3295800"/>
            <a:ext cx="46440" cy="47880"/>
          </a:xfrm>
          <a:custGeom>
            <a:avLst/>
            <a:gdLst/>
            <a:ahLst/>
            <a:rect l="0" t="0" r="r" b="b"/>
            <a:pathLst>
              <a:path w="129" h="133">
                <a:moveTo>
                  <a:pt x="0" y="133"/>
                </a:moveTo>
                <a:lnTo>
                  <a:pt x="129" y="133"/>
                </a:lnTo>
                <a:lnTo>
                  <a:pt x="129" y="0"/>
                </a:lnTo>
                <a:lnTo>
                  <a:pt x="0" y="0"/>
                </a:lnTo>
                <a:lnTo>
                  <a:pt x="0" y="133"/>
                </a:lnTo>
                <a:close/>
              </a:path>
            </a:pathLst>
          </a:custGeom>
          <a:solidFill>
            <a:srgbClr val="787878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665360" y="3295800"/>
            <a:ext cx="44640" cy="47880"/>
          </a:xfrm>
          <a:custGeom>
            <a:avLst/>
            <a:gdLst/>
            <a:ahLst/>
            <a:rect l="0" t="0" r="r" b="b"/>
            <a:pathLst>
              <a:path w="124" h="133">
                <a:moveTo>
                  <a:pt x="0" y="133"/>
                </a:moveTo>
                <a:lnTo>
                  <a:pt x="124" y="133"/>
                </a:lnTo>
                <a:lnTo>
                  <a:pt x="124" y="0"/>
                </a:lnTo>
                <a:lnTo>
                  <a:pt x="0" y="0"/>
                </a:lnTo>
                <a:lnTo>
                  <a:pt x="0" y="133"/>
                </a:lnTo>
                <a:close/>
              </a:path>
            </a:pathLst>
          </a:custGeom>
          <a:solidFill>
            <a:srgbClr val="787878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854360" y="3295800"/>
            <a:ext cx="43200" cy="47880"/>
          </a:xfrm>
          <a:custGeom>
            <a:avLst/>
            <a:gdLst/>
            <a:ahLst/>
            <a:rect l="0" t="0" r="r" b="b"/>
            <a:pathLst>
              <a:path w="120" h="133">
                <a:moveTo>
                  <a:pt x="0" y="133"/>
                </a:moveTo>
                <a:lnTo>
                  <a:pt x="120" y="133"/>
                </a:lnTo>
                <a:lnTo>
                  <a:pt x="120" y="0"/>
                </a:lnTo>
                <a:lnTo>
                  <a:pt x="0" y="0"/>
                </a:lnTo>
                <a:lnTo>
                  <a:pt x="0" y="133"/>
                </a:lnTo>
                <a:close/>
              </a:path>
            </a:pathLst>
          </a:custGeom>
          <a:solidFill>
            <a:srgbClr val="787878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041560" y="3295800"/>
            <a:ext cx="46440" cy="47880"/>
          </a:xfrm>
          <a:custGeom>
            <a:avLst/>
            <a:gdLst/>
            <a:ahLst/>
            <a:rect l="0" t="0" r="r" b="b"/>
            <a:pathLst>
              <a:path w="129" h="133">
                <a:moveTo>
                  <a:pt x="0" y="133"/>
                </a:moveTo>
                <a:lnTo>
                  <a:pt x="129" y="133"/>
                </a:lnTo>
                <a:lnTo>
                  <a:pt x="129" y="0"/>
                </a:lnTo>
                <a:lnTo>
                  <a:pt x="0" y="0"/>
                </a:lnTo>
                <a:lnTo>
                  <a:pt x="0" y="133"/>
                </a:lnTo>
                <a:close/>
              </a:path>
            </a:pathLst>
          </a:custGeom>
          <a:solidFill>
            <a:srgbClr val="787878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190520" y="2689200"/>
            <a:ext cx="132120" cy="389160"/>
          </a:xfrm>
          <a:custGeom>
            <a:avLst/>
            <a:gdLst/>
            <a:ahLst/>
            <a:rect l="0" t="0" r="r" b="b"/>
            <a:pathLst>
              <a:path w="367" h="1081">
                <a:moveTo>
                  <a:pt x="0" y="0"/>
                </a:moveTo>
                <a:lnTo>
                  <a:pt x="367" y="0"/>
                </a:lnTo>
                <a:lnTo>
                  <a:pt x="367" y="1081"/>
                </a:lnTo>
                <a:lnTo>
                  <a:pt x="0" y="1081"/>
                </a:lnTo>
                <a:lnTo>
                  <a:pt x="0" y="0"/>
                </a:lnTo>
                <a:close/>
              </a:path>
            </a:pathLst>
          </a:custGeom>
          <a:solidFill>
            <a:srgbClr val="5d5d5d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420920" y="2689200"/>
            <a:ext cx="135360" cy="389160"/>
          </a:xfrm>
          <a:custGeom>
            <a:avLst/>
            <a:gdLst/>
            <a:ahLst/>
            <a:rect l="0" t="0" r="r" b="b"/>
            <a:pathLst>
              <a:path w="376" h="1081">
                <a:moveTo>
                  <a:pt x="0" y="0"/>
                </a:moveTo>
                <a:lnTo>
                  <a:pt x="376" y="0"/>
                </a:lnTo>
                <a:lnTo>
                  <a:pt x="376" y="1081"/>
                </a:lnTo>
                <a:lnTo>
                  <a:pt x="0" y="1081"/>
                </a:lnTo>
                <a:lnTo>
                  <a:pt x="0" y="0"/>
                </a:lnTo>
                <a:close/>
              </a:path>
            </a:pathLst>
          </a:custGeom>
          <a:solidFill>
            <a:srgbClr val="5d5d5d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654200" y="2689200"/>
            <a:ext cx="133560" cy="389160"/>
          </a:xfrm>
          <a:custGeom>
            <a:avLst/>
            <a:gdLst/>
            <a:ahLst/>
            <a:rect l="0" t="0" r="r" b="b"/>
            <a:pathLst>
              <a:path w="371" h="1081">
                <a:moveTo>
                  <a:pt x="0" y="0"/>
                </a:moveTo>
                <a:lnTo>
                  <a:pt x="371" y="0"/>
                </a:lnTo>
                <a:lnTo>
                  <a:pt x="371" y="1081"/>
                </a:lnTo>
                <a:lnTo>
                  <a:pt x="0" y="1081"/>
                </a:lnTo>
                <a:lnTo>
                  <a:pt x="0" y="0"/>
                </a:lnTo>
                <a:close/>
              </a:path>
            </a:pathLst>
          </a:custGeom>
          <a:solidFill>
            <a:srgbClr val="5d5d5d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887480" y="2689200"/>
            <a:ext cx="133560" cy="389160"/>
          </a:xfrm>
          <a:custGeom>
            <a:avLst/>
            <a:gdLst/>
            <a:ahLst/>
            <a:rect l="0" t="0" r="r" b="b"/>
            <a:pathLst>
              <a:path w="371" h="1081">
                <a:moveTo>
                  <a:pt x="0" y="0"/>
                </a:moveTo>
                <a:lnTo>
                  <a:pt x="371" y="0"/>
                </a:lnTo>
                <a:lnTo>
                  <a:pt x="371" y="1081"/>
                </a:lnTo>
                <a:lnTo>
                  <a:pt x="0" y="1081"/>
                </a:lnTo>
                <a:lnTo>
                  <a:pt x="0" y="0"/>
                </a:lnTo>
                <a:close/>
              </a:path>
            </a:pathLst>
          </a:custGeom>
          <a:solidFill>
            <a:srgbClr val="5d5d5d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75040" y="2689200"/>
            <a:ext cx="133560" cy="389160"/>
          </a:xfrm>
          <a:custGeom>
            <a:avLst/>
            <a:gdLst/>
            <a:ahLst/>
            <a:rect l="0" t="0" r="r" b="b"/>
            <a:pathLst>
              <a:path w="371" h="1081">
                <a:moveTo>
                  <a:pt x="0" y="0"/>
                </a:moveTo>
                <a:lnTo>
                  <a:pt x="371" y="0"/>
                </a:lnTo>
                <a:lnTo>
                  <a:pt x="371" y="1081"/>
                </a:lnTo>
                <a:lnTo>
                  <a:pt x="0" y="1081"/>
                </a:lnTo>
                <a:lnTo>
                  <a:pt x="0" y="0"/>
                </a:lnTo>
                <a:close/>
              </a:path>
            </a:pathLst>
          </a:custGeom>
          <a:solidFill>
            <a:srgbClr val="5d5d5d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018040" y="3048120"/>
            <a:ext cx="205200" cy="60840"/>
          </a:xfrm>
          <a:custGeom>
            <a:avLst/>
            <a:gdLst/>
            <a:ahLst/>
            <a:rect l="0" t="0" r="r" b="b"/>
            <a:pathLst>
              <a:path w="570" h="169">
                <a:moveTo>
                  <a:pt x="0" y="169"/>
                </a:moveTo>
                <a:lnTo>
                  <a:pt x="570" y="169"/>
                </a:lnTo>
                <a:lnTo>
                  <a:pt x="570" y="0"/>
                </a:lnTo>
                <a:lnTo>
                  <a:pt x="0" y="0"/>
                </a:lnTo>
                <a:lnTo>
                  <a:pt x="0" y="169"/>
                </a:lnTo>
                <a:close/>
              </a:path>
            </a:pathLst>
          </a:custGeom>
          <a:solidFill>
            <a:srgbClr val="00e3e3"/>
          </a:solidFill>
          <a:ln w="12600">
            <a:solidFill>
              <a:srgbClr val="0000ff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905280" y="3060720"/>
            <a:ext cx="205200" cy="60840"/>
          </a:xfrm>
          <a:custGeom>
            <a:avLst/>
            <a:gdLst/>
            <a:ahLst/>
            <a:rect l="0" t="0" r="r" b="b"/>
            <a:pathLst>
              <a:path w="570" h="169">
                <a:moveTo>
                  <a:pt x="0" y="169"/>
                </a:moveTo>
                <a:lnTo>
                  <a:pt x="570" y="169"/>
                </a:lnTo>
                <a:lnTo>
                  <a:pt x="570" y="0"/>
                </a:lnTo>
                <a:lnTo>
                  <a:pt x="0" y="0"/>
                </a:lnTo>
                <a:lnTo>
                  <a:pt x="0" y="169"/>
                </a:lnTo>
                <a:close/>
              </a:path>
            </a:pathLst>
          </a:custGeom>
          <a:solidFill>
            <a:srgbClr val="ff3938"/>
          </a:solidFill>
          <a:ln w="12600">
            <a:solidFill>
              <a:srgbClr val="0000ff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848120" y="3244680"/>
            <a:ext cx="108360" cy="181440"/>
          </a:xfrm>
          <a:custGeom>
            <a:avLst/>
            <a:gdLst/>
            <a:ahLst/>
            <a:rect l="0" t="0" r="r" b="b"/>
            <a:pathLst>
              <a:path w="301" h="504">
                <a:moveTo>
                  <a:pt x="0" y="504"/>
                </a:moveTo>
                <a:lnTo>
                  <a:pt x="301" y="504"/>
                </a:lnTo>
                <a:lnTo>
                  <a:pt x="301" y="0"/>
                </a:lnTo>
                <a:lnTo>
                  <a:pt x="0" y="0"/>
                </a:lnTo>
                <a:lnTo>
                  <a:pt x="0" y="504"/>
                </a:lnTo>
                <a:close/>
              </a:path>
            </a:pathLst>
          </a:custGeom>
          <a:solidFill>
            <a:srgbClr val="78787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240080" y="3219480"/>
            <a:ext cx="109800" cy="181440"/>
          </a:xfrm>
          <a:custGeom>
            <a:avLst/>
            <a:gdLst/>
            <a:ahLst/>
            <a:rect l="0" t="0" r="r" b="b"/>
            <a:pathLst>
              <a:path w="305" h="504">
                <a:moveTo>
                  <a:pt x="0" y="504"/>
                </a:moveTo>
                <a:lnTo>
                  <a:pt x="305" y="504"/>
                </a:lnTo>
                <a:lnTo>
                  <a:pt x="305" y="0"/>
                </a:lnTo>
                <a:lnTo>
                  <a:pt x="0" y="0"/>
                </a:lnTo>
                <a:lnTo>
                  <a:pt x="0" y="504"/>
                </a:lnTo>
                <a:close/>
              </a:path>
            </a:pathLst>
          </a:custGeom>
          <a:solidFill>
            <a:srgbClr val="78787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240080" y="3255840"/>
            <a:ext cx="109800" cy="181440"/>
          </a:xfrm>
          <a:custGeom>
            <a:avLst/>
            <a:gdLst/>
            <a:ahLst/>
            <a:rect l="0" t="0" r="r" b="b"/>
            <a:pathLst>
              <a:path w="305" h="504">
                <a:moveTo>
                  <a:pt x="0" y="504"/>
                </a:moveTo>
                <a:lnTo>
                  <a:pt x="305" y="504"/>
                </a:lnTo>
                <a:lnTo>
                  <a:pt x="305" y="0"/>
                </a:lnTo>
                <a:lnTo>
                  <a:pt x="0" y="0"/>
                </a:lnTo>
                <a:lnTo>
                  <a:pt x="0" y="504"/>
                </a:lnTo>
                <a:close/>
              </a:path>
            </a:pathLst>
          </a:custGeom>
          <a:solidFill>
            <a:srgbClr val="78787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995640" y="3648240"/>
            <a:ext cx="65160" cy="88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387680" y="3648240"/>
            <a:ext cx="66600" cy="103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756320" y="3648240"/>
            <a:ext cx="65160" cy="88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083200" y="3648240"/>
            <a:ext cx="92160" cy="103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156120" y="2943360"/>
            <a:ext cx="511200" cy="309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5386320" y="2384280"/>
            <a:ext cx="8287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3786120" y="4057560"/>
            <a:ext cx="9558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uid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574560" y="5056200"/>
            <a:ext cx="12733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2409840" y="2003400"/>
            <a:ext cx="11080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5019840" y="5070600"/>
            <a:ext cx="216216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ser Power 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6353280" y="1978200"/>
            <a:ext cx="14572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00-3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1420920" y="525600"/>
            <a:ext cx="642636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ypical Clinical Cyt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968640" y="2708280"/>
            <a:ext cx="1862280" cy="167328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50000">
                <a:srgbClr val="3d3d3d"/>
              </a:gs>
              <a:gs pos="100000">
                <a:srgbClr val="cecece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1"/>
          <a:stretch/>
        </p:blipFill>
        <p:spPr>
          <a:xfrm>
            <a:off x="1617840" y="2644920"/>
            <a:ext cx="2360520" cy="174132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5883120" y="2724120"/>
            <a:ext cx="812880" cy="165744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3d3d3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140360" y="2884320"/>
            <a:ext cx="536400" cy="1173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981600" y="4103640"/>
            <a:ext cx="1835280" cy="2491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3d3d3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105600" y="3443400"/>
            <a:ext cx="406440" cy="5875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262560" y="3471840"/>
            <a:ext cx="52560" cy="3668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3314880" y="4648320"/>
            <a:ext cx="198900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$90-1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1612800" y="2039760"/>
            <a:ext cx="202248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omput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127400" y="1892160"/>
            <a:ext cx="142236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Detector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5753160" y="2084400"/>
            <a:ext cx="10414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Fluid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628560" y="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Conventional Micro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171440" y="1181160"/>
            <a:ext cx="2115000" cy="5001120"/>
          </a:xfrm>
          <a:custGeom>
            <a:avLst/>
            <a:gdLst/>
            <a:ahLst/>
            <a:rect l="0" t="0" r="r" b="b"/>
            <a:pathLst>
              <a:path w="5875" h="13892">
                <a:moveTo>
                  <a:pt x="5796" y="0"/>
                </a:moveTo>
                <a:lnTo>
                  <a:pt x="0" y="5716"/>
                </a:lnTo>
                <a:lnTo>
                  <a:pt x="0" y="13892"/>
                </a:lnTo>
                <a:lnTo>
                  <a:pt x="5320" y="13892"/>
                </a:lnTo>
                <a:lnTo>
                  <a:pt x="5161" y="13575"/>
                </a:lnTo>
                <a:lnTo>
                  <a:pt x="1509" y="13019"/>
                </a:lnTo>
                <a:lnTo>
                  <a:pt x="1509" y="6112"/>
                </a:lnTo>
                <a:lnTo>
                  <a:pt x="5875" y="3016"/>
                </a:lnTo>
                <a:lnTo>
                  <a:pt x="5796" y="0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610080" y="5292720"/>
            <a:ext cx="286200" cy="200520"/>
          </a:xfrm>
          <a:custGeom>
            <a:avLst/>
            <a:gdLst/>
            <a:ahLst/>
            <a:rect l="0" t="0" r="r" b="b"/>
            <a:pathLst>
              <a:path w="795" h="557">
                <a:moveTo>
                  <a:pt x="0" y="0"/>
                </a:moveTo>
                <a:lnTo>
                  <a:pt x="239" y="557"/>
                </a:lnTo>
                <a:lnTo>
                  <a:pt x="556" y="557"/>
                </a:lnTo>
                <a:lnTo>
                  <a:pt x="795" y="0"/>
                </a:lnTo>
                <a:lnTo>
                  <a:pt x="0" y="0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595680" y="5137200"/>
            <a:ext cx="314280" cy="17136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538440" y="4753080"/>
            <a:ext cx="428760" cy="39996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309840" y="4559400"/>
            <a:ext cx="886320" cy="171720"/>
          </a:xfrm>
          <a:custGeom>
            <a:avLst/>
            <a:gdLst/>
            <a:ahLst/>
            <a:rect l="0" t="0" r="r" b="b"/>
            <a:pathLst>
              <a:path w="2462" h="477">
                <a:moveTo>
                  <a:pt x="0" y="0"/>
                </a:moveTo>
                <a:lnTo>
                  <a:pt x="739" y="477"/>
                </a:lnTo>
                <a:lnTo>
                  <a:pt x="1723" y="477"/>
                </a:lnTo>
                <a:lnTo>
                  <a:pt x="2462" y="0"/>
                </a:lnTo>
                <a:lnTo>
                  <a:pt x="0" y="0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24280" y="2882880"/>
            <a:ext cx="1657440" cy="1685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252960" y="1149480"/>
            <a:ext cx="1000080" cy="1886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19191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38640" y="933480"/>
            <a:ext cx="828720" cy="53640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224160" y="809640"/>
            <a:ext cx="1057320" cy="142920"/>
          </a:xfrm>
          <a:prstGeom prst="round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295800" y="4422600"/>
            <a:ext cx="914400" cy="17136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114800" y="1486080"/>
            <a:ext cx="1343520" cy="3153240"/>
          </a:xfrm>
          <a:custGeom>
            <a:avLst/>
            <a:gdLst/>
            <a:ahLst/>
            <a:rect l="0" t="0" r="r" b="b"/>
            <a:pathLst>
              <a:path fill="none" w="3732" h="8759">
                <a:moveTo>
                  <a:pt x="432" y="0"/>
                </a:moveTo>
                <a:lnTo>
                  <a:pt x="3732" y="0"/>
                </a:lnTo>
                <a:lnTo>
                  <a:pt x="3732" y="8759"/>
                </a:lnTo>
                <a:lnTo>
                  <a:pt x="0" y="8759"/>
                </a:ln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362480" y="1171440"/>
            <a:ext cx="3219840" cy="4743720"/>
          </a:xfrm>
          <a:custGeom>
            <a:avLst/>
            <a:gdLst/>
            <a:ahLst/>
            <a:rect l="0" t="0" r="r" b="b"/>
            <a:pathLst>
              <a:path fill="none" w="8944" h="13177">
                <a:moveTo>
                  <a:pt x="105" y="0"/>
                </a:moveTo>
                <a:lnTo>
                  <a:pt x="8944" y="0"/>
                </a:lnTo>
                <a:lnTo>
                  <a:pt x="8944" y="13177"/>
                </a:lnTo>
                <a:lnTo>
                  <a:pt x="0" y="13177"/>
                </a:ln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914560" y="6048360"/>
            <a:ext cx="1676520" cy="133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181320" y="5915160"/>
            <a:ext cx="114300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781520" y="4722840"/>
            <a:ext cx="0" cy="11286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5030640" y="4727520"/>
            <a:ext cx="1514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al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7586640" y="2631960"/>
            <a:ext cx="125748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9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5491080" y="1805040"/>
            <a:ext cx="153684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be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6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708200" y="660240"/>
            <a:ext cx="56228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orward Angle Light Sc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52440" y="2057400"/>
            <a:ext cx="8342280" cy="2895840"/>
            <a:chOff x="352440" y="2057400"/>
            <a:chExt cx="8342280" cy="2895840"/>
          </a:xfrm>
        </p:grpSpPr>
        <p:sp>
          <p:nvSpPr>
            <p:cNvPr id="101" name=""/>
            <p:cNvSpPr/>
            <p:nvPr/>
          </p:nvSpPr>
          <p:spPr>
            <a:xfrm>
              <a:off x="3352680" y="2057400"/>
              <a:ext cx="1543320" cy="2895840"/>
            </a:xfrm>
            <a:custGeom>
              <a:avLst/>
              <a:gdLst/>
              <a:ahLst/>
              <a:rect l="0" t="0" r="r" b="b"/>
              <a:pathLst>
                <a:path w="4287" h="8044">
                  <a:moveTo>
                    <a:pt x="0" y="635"/>
                  </a:moveTo>
                  <a:lnTo>
                    <a:pt x="0" y="2540"/>
                  </a:lnTo>
                  <a:lnTo>
                    <a:pt x="0" y="6139"/>
                  </a:lnTo>
                  <a:lnTo>
                    <a:pt x="0" y="8044"/>
                  </a:lnTo>
                  <a:lnTo>
                    <a:pt x="1428" y="7409"/>
                  </a:lnTo>
                  <a:lnTo>
                    <a:pt x="1905" y="8044"/>
                  </a:lnTo>
                  <a:lnTo>
                    <a:pt x="3096" y="7409"/>
                  </a:lnTo>
                  <a:lnTo>
                    <a:pt x="4287" y="8044"/>
                  </a:lnTo>
                  <a:lnTo>
                    <a:pt x="4287" y="6139"/>
                  </a:lnTo>
                  <a:lnTo>
                    <a:pt x="4287" y="2540"/>
                  </a:lnTo>
                  <a:lnTo>
                    <a:pt x="4287" y="211"/>
                  </a:lnTo>
                  <a:lnTo>
                    <a:pt x="3334" y="1270"/>
                  </a:lnTo>
                  <a:lnTo>
                    <a:pt x="2382" y="635"/>
                  </a:lnTo>
                  <a:lnTo>
                    <a:pt x="1666" y="1270"/>
                  </a:lnTo>
                  <a:lnTo>
                    <a:pt x="0" y="0"/>
                  </a:lnTo>
                  <a:lnTo>
                    <a:pt x="0" y="635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9720" y="3279600"/>
              <a:ext cx="0" cy="14616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42840" y="3898800"/>
              <a:ext cx="0" cy="14616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17680" y="3710160"/>
              <a:ext cx="139680" cy="14904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204920" y="3376440"/>
              <a:ext cx="139680" cy="14940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55680" y="3624120"/>
              <a:ext cx="171360" cy="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95560" y="3774960"/>
              <a:ext cx="141120" cy="4788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6680" y="3637080"/>
              <a:ext cx="171360" cy="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9640" y="3478320"/>
              <a:ext cx="141480" cy="4608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58960" y="3656160"/>
              <a:ext cx="1563840" cy="0"/>
            </a:xfrm>
            <a:prstGeom prst="line">
              <a:avLst/>
            </a:prstGeom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63840" y="2125800"/>
              <a:ext cx="0" cy="2089080"/>
            </a:xfrm>
            <a:prstGeom prst="line">
              <a:avLst/>
            </a:prstGeom>
            <a:ln w="203040">
              <a:solidFill>
                <a:srgbClr val="dac8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913280" y="3616200"/>
              <a:ext cx="1636920" cy="1584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933800" y="3454560"/>
              <a:ext cx="1625760" cy="11088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33800" y="3716280"/>
              <a:ext cx="1627200" cy="6048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948200" y="3287880"/>
              <a:ext cx="1587600" cy="16812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60800" y="3863880"/>
              <a:ext cx="1579680" cy="9540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7078680" y="3500280"/>
              <a:ext cx="161604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LS Sen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06720" y="3497400"/>
              <a:ext cx="308160" cy="251280"/>
            </a:xfrm>
            <a:custGeom>
              <a:avLst/>
              <a:gdLst/>
              <a:ahLst/>
              <a:rect l="0" t="0" r="r" b="b"/>
              <a:pathLst>
                <a:path w="856" h="698">
                  <a:moveTo>
                    <a:pt x="856" y="234"/>
                  </a:moveTo>
                  <a:lnTo>
                    <a:pt x="710" y="66"/>
                  </a:lnTo>
                  <a:lnTo>
                    <a:pt x="352" y="0"/>
                  </a:lnTo>
                  <a:lnTo>
                    <a:pt x="149" y="136"/>
                  </a:lnTo>
                  <a:lnTo>
                    <a:pt x="0" y="367"/>
                  </a:lnTo>
                  <a:lnTo>
                    <a:pt x="149" y="566"/>
                  </a:lnTo>
                  <a:lnTo>
                    <a:pt x="446" y="698"/>
                  </a:lnTo>
                  <a:lnTo>
                    <a:pt x="710" y="637"/>
                  </a:lnTo>
                  <a:lnTo>
                    <a:pt x="856" y="367"/>
                  </a:lnTo>
                  <a:lnTo>
                    <a:pt x="856" y="300"/>
                  </a:lnTo>
                  <a:lnTo>
                    <a:pt x="856" y="234"/>
                  </a:lnTo>
                  <a:close/>
                </a:path>
              </a:pathLst>
            </a:custGeom>
            <a:solidFill>
              <a:srgbClr val="5700d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09960" y="3006720"/>
              <a:ext cx="311400" cy="251280"/>
            </a:xfrm>
            <a:custGeom>
              <a:avLst/>
              <a:gdLst/>
              <a:ahLst/>
              <a:rect l="0" t="0" r="r" b="b"/>
              <a:pathLst>
                <a:path w="865" h="698">
                  <a:moveTo>
                    <a:pt x="865" y="234"/>
                  </a:moveTo>
                  <a:lnTo>
                    <a:pt x="715" y="66"/>
                  </a:lnTo>
                  <a:lnTo>
                    <a:pt x="361" y="0"/>
                  </a:lnTo>
                  <a:lnTo>
                    <a:pt x="149" y="136"/>
                  </a:lnTo>
                  <a:lnTo>
                    <a:pt x="0" y="367"/>
                  </a:lnTo>
                  <a:lnTo>
                    <a:pt x="149" y="566"/>
                  </a:lnTo>
                  <a:lnTo>
                    <a:pt x="450" y="698"/>
                  </a:lnTo>
                  <a:lnTo>
                    <a:pt x="715" y="632"/>
                  </a:lnTo>
                  <a:lnTo>
                    <a:pt x="865" y="367"/>
                  </a:lnTo>
                  <a:lnTo>
                    <a:pt x="865" y="300"/>
                  </a:lnTo>
                  <a:lnTo>
                    <a:pt x="865" y="234"/>
                  </a:lnTo>
                  <a:close/>
                </a:path>
              </a:pathLst>
            </a:custGeom>
            <a:solidFill>
              <a:srgbClr val="5700d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21120" y="2914560"/>
              <a:ext cx="439920" cy="429120"/>
            </a:xfrm>
            <a:custGeom>
              <a:avLst/>
              <a:gdLst/>
              <a:ahLst/>
              <a:rect l="0" t="0" r="r" b="b"/>
              <a:pathLst>
                <a:path w="1222" h="1192">
                  <a:moveTo>
                    <a:pt x="1222" y="671"/>
                  </a:moveTo>
                  <a:lnTo>
                    <a:pt x="1160" y="238"/>
                  </a:lnTo>
                  <a:lnTo>
                    <a:pt x="843" y="0"/>
                  </a:lnTo>
                  <a:lnTo>
                    <a:pt x="498" y="0"/>
                  </a:lnTo>
                  <a:lnTo>
                    <a:pt x="185" y="119"/>
                  </a:lnTo>
                  <a:lnTo>
                    <a:pt x="0" y="397"/>
                  </a:lnTo>
                  <a:lnTo>
                    <a:pt x="0" y="755"/>
                  </a:lnTo>
                  <a:lnTo>
                    <a:pt x="154" y="1069"/>
                  </a:lnTo>
                  <a:lnTo>
                    <a:pt x="498" y="1192"/>
                  </a:lnTo>
                  <a:lnTo>
                    <a:pt x="1094" y="1029"/>
                  </a:lnTo>
                  <a:lnTo>
                    <a:pt x="1222" y="715"/>
                  </a:lnTo>
                  <a:lnTo>
                    <a:pt x="1222" y="671"/>
                  </a:lnTo>
                  <a:close/>
                </a:path>
              </a:pathLst>
            </a:custGeom>
            <a:blipFill rotWithShape="0">
              <a:blip r:embed="rId2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84480" y="3067200"/>
              <a:ext cx="290880" cy="228960"/>
            </a:xfrm>
            <a:custGeom>
              <a:avLst/>
              <a:gdLst/>
              <a:ahLst/>
              <a:rect l="0" t="0" r="r" b="b"/>
              <a:pathLst>
                <a:path w="808" h="636">
                  <a:moveTo>
                    <a:pt x="331" y="636"/>
                  </a:moveTo>
                  <a:lnTo>
                    <a:pt x="450" y="596"/>
                  </a:lnTo>
                  <a:lnTo>
                    <a:pt x="569" y="477"/>
                  </a:lnTo>
                  <a:lnTo>
                    <a:pt x="808" y="477"/>
                  </a:lnTo>
                  <a:lnTo>
                    <a:pt x="808" y="317"/>
                  </a:lnTo>
                  <a:lnTo>
                    <a:pt x="808" y="158"/>
                  </a:lnTo>
                  <a:lnTo>
                    <a:pt x="808" y="0"/>
                  </a:lnTo>
                  <a:lnTo>
                    <a:pt x="569" y="0"/>
                  </a:lnTo>
                  <a:lnTo>
                    <a:pt x="331" y="158"/>
                  </a:lnTo>
                  <a:lnTo>
                    <a:pt x="569" y="211"/>
                  </a:lnTo>
                  <a:lnTo>
                    <a:pt x="808" y="317"/>
                  </a:lnTo>
                  <a:lnTo>
                    <a:pt x="569" y="477"/>
                  </a:lnTo>
                  <a:lnTo>
                    <a:pt x="331" y="477"/>
                  </a:lnTo>
                  <a:lnTo>
                    <a:pt x="88" y="477"/>
                  </a:lnTo>
                  <a:lnTo>
                    <a:pt x="0" y="556"/>
                  </a:lnTo>
                  <a:lnTo>
                    <a:pt x="61" y="618"/>
                  </a:lnTo>
                  <a:lnTo>
                    <a:pt x="331" y="636"/>
                  </a:lnTo>
                  <a:close/>
                </a:path>
              </a:pathLst>
            </a:custGeom>
            <a:solidFill>
              <a:srgbClr val="714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936960" y="3524400"/>
              <a:ext cx="359280" cy="305280"/>
              <a:chOff x="3936960" y="3524400"/>
              <a:chExt cx="359280" cy="305280"/>
            </a:xfrm>
          </p:grpSpPr>
          <p:sp>
            <p:nvSpPr>
              <p:cNvPr id="123" name=""/>
              <p:cNvSpPr/>
              <p:nvPr/>
            </p:nvSpPr>
            <p:spPr>
              <a:xfrm>
                <a:off x="3936960" y="3524400"/>
                <a:ext cx="359280" cy="305280"/>
              </a:xfrm>
              <a:custGeom>
                <a:avLst/>
                <a:gdLst/>
                <a:ahLst/>
                <a:rect l="0" t="0" r="r" b="b"/>
                <a:pathLst>
                  <a:path w="998" h="848">
                    <a:moveTo>
                      <a:pt x="998" y="477"/>
                    </a:moveTo>
                    <a:lnTo>
                      <a:pt x="950" y="171"/>
                    </a:lnTo>
                    <a:lnTo>
                      <a:pt x="693" y="0"/>
                    </a:lnTo>
                    <a:lnTo>
                      <a:pt x="406" y="0"/>
                    </a:lnTo>
                    <a:lnTo>
                      <a:pt x="154" y="83"/>
                    </a:lnTo>
                    <a:lnTo>
                      <a:pt x="0" y="283"/>
                    </a:lnTo>
                    <a:lnTo>
                      <a:pt x="0" y="534"/>
                    </a:lnTo>
                    <a:lnTo>
                      <a:pt x="127" y="764"/>
                    </a:lnTo>
                    <a:lnTo>
                      <a:pt x="406" y="848"/>
                    </a:lnTo>
                    <a:lnTo>
                      <a:pt x="901" y="738"/>
                    </a:lnTo>
                    <a:lnTo>
                      <a:pt x="998" y="508"/>
                    </a:lnTo>
                    <a:lnTo>
                      <a:pt x="998" y="477"/>
                    </a:lnTo>
                    <a:close/>
                  </a:path>
                </a:pathLst>
              </a:custGeom>
              <a:blipFill rotWithShape="0">
                <a:blip r:embed="rId3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995640" y="3581280"/>
                <a:ext cx="257040" cy="22860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909960" y="4114800"/>
              <a:ext cx="429120" cy="381240"/>
            </a:xfrm>
            <a:custGeom>
              <a:avLst/>
              <a:gdLst/>
              <a:ahLst/>
              <a:rect l="0" t="0" r="r" b="b"/>
              <a:pathLst>
                <a:path w="1192" h="1059">
                  <a:moveTo>
                    <a:pt x="1192" y="600"/>
                  </a:moveTo>
                  <a:lnTo>
                    <a:pt x="1126" y="211"/>
                  </a:lnTo>
                  <a:lnTo>
                    <a:pt x="821" y="0"/>
                  </a:lnTo>
                  <a:lnTo>
                    <a:pt x="486" y="0"/>
                  </a:lnTo>
                  <a:lnTo>
                    <a:pt x="180" y="110"/>
                  </a:lnTo>
                  <a:lnTo>
                    <a:pt x="0" y="352"/>
                  </a:lnTo>
                  <a:lnTo>
                    <a:pt x="0" y="671"/>
                  </a:lnTo>
                  <a:lnTo>
                    <a:pt x="154" y="949"/>
                  </a:lnTo>
                  <a:lnTo>
                    <a:pt x="486" y="1059"/>
                  </a:lnTo>
                  <a:lnTo>
                    <a:pt x="1069" y="913"/>
                  </a:lnTo>
                  <a:lnTo>
                    <a:pt x="1192" y="636"/>
                  </a:lnTo>
                  <a:lnTo>
                    <a:pt x="1192" y="600"/>
                  </a:lnTo>
                  <a:close/>
                </a:path>
              </a:pathLst>
            </a:custGeom>
            <a:blipFill rotWithShape="0">
              <a:blip r:embed="rId4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75200" y="4125960"/>
              <a:ext cx="176400" cy="351360"/>
            </a:xfrm>
            <a:custGeom>
              <a:avLst/>
              <a:gdLst/>
              <a:ahLst/>
              <a:rect l="0" t="0" r="r" b="b"/>
              <a:pathLst>
                <a:path w="490" h="976">
                  <a:moveTo>
                    <a:pt x="247" y="0"/>
                  </a:moveTo>
                  <a:lnTo>
                    <a:pt x="490" y="242"/>
                  </a:lnTo>
                  <a:lnTo>
                    <a:pt x="490" y="490"/>
                  </a:lnTo>
                  <a:lnTo>
                    <a:pt x="490" y="734"/>
                  </a:lnTo>
                  <a:lnTo>
                    <a:pt x="247" y="976"/>
                  </a:lnTo>
                  <a:lnTo>
                    <a:pt x="0" y="976"/>
                  </a:lnTo>
                  <a:lnTo>
                    <a:pt x="0" y="734"/>
                  </a:lnTo>
                  <a:lnTo>
                    <a:pt x="247" y="490"/>
                  </a:lnTo>
                  <a:lnTo>
                    <a:pt x="0" y="490"/>
                  </a:lnTo>
                  <a:lnTo>
                    <a:pt x="0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714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2400" y="3498840"/>
              <a:ext cx="326880" cy="303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3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27960" y="3260880"/>
              <a:ext cx="213120" cy="800640"/>
            </a:xfrm>
            <a:custGeom>
              <a:avLst/>
              <a:gdLst/>
              <a:ahLst/>
              <a:rect l="0" t="0" r="r" b="b"/>
              <a:pathLst>
                <a:path w="592" h="2224">
                  <a:moveTo>
                    <a:pt x="0" y="0"/>
                  </a:moveTo>
                  <a:lnTo>
                    <a:pt x="592" y="0"/>
                  </a:lnTo>
                  <a:lnTo>
                    <a:pt x="592" y="2224"/>
                  </a:lnTo>
                  <a:lnTo>
                    <a:pt x="0" y="22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2b2b2b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352440" y="2714760"/>
              <a:ext cx="99360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98880" y="2190600"/>
              <a:ext cx="0" cy="1994040"/>
            </a:xfrm>
            <a:prstGeom prst="line">
              <a:avLst/>
            </a:prstGeom>
            <a:ln w="203040">
              <a:solidFill>
                <a:srgbClr val="dac8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47800" y="266760"/>
            <a:ext cx="66117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90 Degree Light Sca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4320" y="1047600"/>
            <a:ext cx="8880120" cy="4861080"/>
            <a:chOff x="184320" y="1047600"/>
            <a:chExt cx="8880120" cy="4861080"/>
          </a:xfrm>
        </p:grpSpPr>
        <p:sp>
          <p:nvSpPr>
            <p:cNvPr id="133" name=""/>
            <p:cNvSpPr/>
            <p:nvPr/>
          </p:nvSpPr>
          <p:spPr>
            <a:xfrm>
              <a:off x="3370320" y="1047600"/>
              <a:ext cx="1635480" cy="3231000"/>
            </a:xfrm>
            <a:custGeom>
              <a:avLst/>
              <a:gdLst/>
              <a:ahLst/>
              <a:rect l="0" t="0" r="r" b="b"/>
              <a:pathLst>
                <a:path w="4543" h="8975">
                  <a:moveTo>
                    <a:pt x="0" y="709"/>
                  </a:moveTo>
                  <a:lnTo>
                    <a:pt x="0" y="2836"/>
                  </a:lnTo>
                  <a:lnTo>
                    <a:pt x="0" y="6850"/>
                  </a:lnTo>
                  <a:lnTo>
                    <a:pt x="0" y="8975"/>
                  </a:lnTo>
                  <a:lnTo>
                    <a:pt x="1512" y="8265"/>
                  </a:lnTo>
                  <a:lnTo>
                    <a:pt x="2019" y="8975"/>
                  </a:lnTo>
                  <a:lnTo>
                    <a:pt x="3281" y="8265"/>
                  </a:lnTo>
                  <a:lnTo>
                    <a:pt x="4543" y="8975"/>
                  </a:lnTo>
                  <a:lnTo>
                    <a:pt x="4543" y="6850"/>
                  </a:lnTo>
                  <a:lnTo>
                    <a:pt x="4543" y="2836"/>
                  </a:lnTo>
                  <a:lnTo>
                    <a:pt x="4543" y="238"/>
                  </a:lnTo>
                  <a:lnTo>
                    <a:pt x="3533" y="1415"/>
                  </a:lnTo>
                  <a:lnTo>
                    <a:pt x="2523" y="709"/>
                  </a:lnTo>
                  <a:lnTo>
                    <a:pt x="1768" y="1415"/>
                  </a:lnTo>
                  <a:lnTo>
                    <a:pt x="0" y="0"/>
                  </a:lnTo>
                  <a:lnTo>
                    <a:pt x="0" y="709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81480" y="1116000"/>
              <a:ext cx="0" cy="2344680"/>
            </a:xfrm>
            <a:prstGeom prst="line">
              <a:avLst/>
            </a:prstGeom>
            <a:ln w="203040">
              <a:solidFill>
                <a:srgbClr val="dac8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30640" y="1212840"/>
              <a:ext cx="0" cy="2247840"/>
            </a:xfrm>
            <a:prstGeom prst="line">
              <a:avLst/>
            </a:prstGeom>
            <a:ln w="203040">
              <a:solidFill>
                <a:srgbClr val="dac8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84320" y="1876320"/>
              <a:ext cx="8880120" cy="4032360"/>
              <a:chOff x="184320" y="1876320"/>
              <a:chExt cx="8880120" cy="4032360"/>
            </a:xfrm>
          </p:grpSpPr>
          <p:sp>
            <p:nvSpPr>
              <p:cNvPr id="137" name=""/>
              <p:cNvSpPr/>
              <p:nvPr/>
            </p:nvSpPr>
            <p:spPr>
              <a:xfrm>
                <a:off x="647640" y="2679840"/>
                <a:ext cx="326880" cy="303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3333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81200" y="2409840"/>
                <a:ext cx="0" cy="168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19000" y="3098880"/>
                <a:ext cx="0" cy="169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363600" y="2895480"/>
                <a:ext cx="154080" cy="15876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1093680" y="2523960"/>
                <a:ext cx="154080" cy="160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47680" y="2795760"/>
                <a:ext cx="184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084320" y="2960640"/>
                <a:ext cx="149040" cy="5868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7920" y="2809800"/>
                <a:ext cx="1857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90600" y="2630520"/>
                <a:ext cx="149040" cy="57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24040" y="2847960"/>
                <a:ext cx="165888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8160" rIns="128160" tIns="-83160" bIns="-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991040" y="2101680"/>
                <a:ext cx="0" cy="1397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759720" y="2422440"/>
                <a:ext cx="213120" cy="800640"/>
              </a:xfrm>
              <a:custGeom>
                <a:avLst/>
                <a:gdLst/>
                <a:ahLst/>
                <a:rect l="0" t="0" r="r" b="b"/>
                <a:pathLst>
                  <a:path w="592" h="2224">
                    <a:moveTo>
                      <a:pt x="0" y="0"/>
                    </a:moveTo>
                    <a:lnTo>
                      <a:pt x="592" y="0"/>
                    </a:lnTo>
                    <a:lnTo>
                      <a:pt x="592" y="2224"/>
                    </a:lnTo>
                    <a:lnTo>
                      <a:pt x="0" y="222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2b2b2b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 txBox="1"/>
              <p:nvPr/>
            </p:nvSpPr>
            <p:spPr>
              <a:xfrm>
                <a:off x="7288200" y="2638440"/>
                <a:ext cx="1776240" cy="39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LS Sens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956040" y="2654280"/>
                <a:ext cx="330480" cy="279720"/>
              </a:xfrm>
              <a:custGeom>
                <a:avLst/>
                <a:gdLst/>
                <a:ahLst/>
                <a:rect l="0" t="0" r="r" b="b"/>
                <a:pathLst>
                  <a:path w="918" h="777">
                    <a:moveTo>
                      <a:pt x="918" y="260"/>
                    </a:moveTo>
                    <a:lnTo>
                      <a:pt x="763" y="74"/>
                    </a:lnTo>
                    <a:lnTo>
                      <a:pt x="379" y="0"/>
                    </a:lnTo>
                    <a:lnTo>
                      <a:pt x="158" y="149"/>
                    </a:lnTo>
                    <a:lnTo>
                      <a:pt x="0" y="406"/>
                    </a:lnTo>
                    <a:lnTo>
                      <a:pt x="158" y="631"/>
                    </a:lnTo>
                    <a:lnTo>
                      <a:pt x="477" y="777"/>
                    </a:lnTo>
                    <a:lnTo>
                      <a:pt x="763" y="706"/>
                    </a:lnTo>
                    <a:lnTo>
                      <a:pt x="918" y="406"/>
                    </a:lnTo>
                    <a:lnTo>
                      <a:pt x="918" y="335"/>
                    </a:lnTo>
                    <a:lnTo>
                      <a:pt x="918" y="260"/>
                    </a:lnTo>
                    <a:close/>
                  </a:path>
                </a:pathLst>
              </a:custGeom>
              <a:solidFill>
                <a:srgbClr val="5700d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95560" y="2662200"/>
                <a:ext cx="383040" cy="340200"/>
              </a:xfrm>
              <a:custGeom>
                <a:avLst/>
                <a:gdLst/>
                <a:ahLst/>
                <a:rect l="0" t="0" r="r" b="b"/>
                <a:pathLst>
                  <a:path w="1064" h="945">
                    <a:moveTo>
                      <a:pt x="1064" y="534"/>
                    </a:moveTo>
                    <a:lnTo>
                      <a:pt x="1011" y="189"/>
                    </a:lnTo>
                    <a:lnTo>
                      <a:pt x="737" y="0"/>
                    </a:lnTo>
                    <a:lnTo>
                      <a:pt x="437" y="0"/>
                    </a:lnTo>
                    <a:lnTo>
                      <a:pt x="167" y="92"/>
                    </a:lnTo>
                    <a:lnTo>
                      <a:pt x="0" y="314"/>
                    </a:lnTo>
                    <a:lnTo>
                      <a:pt x="0" y="596"/>
                    </a:lnTo>
                    <a:lnTo>
                      <a:pt x="136" y="853"/>
                    </a:lnTo>
                    <a:lnTo>
                      <a:pt x="437" y="945"/>
                    </a:lnTo>
                    <a:lnTo>
                      <a:pt x="958" y="822"/>
                    </a:lnTo>
                    <a:lnTo>
                      <a:pt x="1064" y="565"/>
                    </a:lnTo>
                    <a:lnTo>
                      <a:pt x="1064" y="534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959280" y="2106720"/>
                <a:ext cx="332280" cy="279720"/>
              </a:xfrm>
              <a:custGeom>
                <a:avLst/>
                <a:gdLst/>
                <a:ahLst/>
                <a:rect l="0" t="0" r="r" b="b"/>
                <a:pathLst>
                  <a:path w="923" h="777">
                    <a:moveTo>
                      <a:pt x="923" y="260"/>
                    </a:moveTo>
                    <a:lnTo>
                      <a:pt x="764" y="74"/>
                    </a:lnTo>
                    <a:lnTo>
                      <a:pt x="384" y="0"/>
                    </a:lnTo>
                    <a:lnTo>
                      <a:pt x="158" y="149"/>
                    </a:lnTo>
                    <a:lnTo>
                      <a:pt x="0" y="406"/>
                    </a:lnTo>
                    <a:lnTo>
                      <a:pt x="158" y="631"/>
                    </a:lnTo>
                    <a:lnTo>
                      <a:pt x="481" y="777"/>
                    </a:lnTo>
                    <a:lnTo>
                      <a:pt x="764" y="702"/>
                    </a:lnTo>
                    <a:lnTo>
                      <a:pt x="923" y="406"/>
                    </a:lnTo>
                    <a:lnTo>
                      <a:pt x="923" y="335"/>
                    </a:lnTo>
                    <a:lnTo>
                      <a:pt x="923" y="260"/>
                    </a:lnTo>
                    <a:close/>
                  </a:path>
                </a:pathLst>
              </a:custGeom>
              <a:solidFill>
                <a:srgbClr val="5700d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03840" y="1982880"/>
                <a:ext cx="466920" cy="476640"/>
              </a:xfrm>
              <a:custGeom>
                <a:avLst/>
                <a:gdLst/>
                <a:ahLst/>
                <a:rect l="0" t="0" r="r" b="b"/>
                <a:pathLst>
                  <a:path w="1297" h="1324">
                    <a:moveTo>
                      <a:pt x="1297" y="746"/>
                    </a:moveTo>
                    <a:lnTo>
                      <a:pt x="1231" y="264"/>
                    </a:lnTo>
                    <a:lnTo>
                      <a:pt x="896" y="0"/>
                    </a:lnTo>
                    <a:lnTo>
                      <a:pt x="529" y="0"/>
                    </a:lnTo>
                    <a:lnTo>
                      <a:pt x="198" y="127"/>
                    </a:lnTo>
                    <a:lnTo>
                      <a:pt x="0" y="441"/>
                    </a:lnTo>
                    <a:lnTo>
                      <a:pt x="0" y="838"/>
                    </a:lnTo>
                    <a:lnTo>
                      <a:pt x="167" y="1188"/>
                    </a:lnTo>
                    <a:lnTo>
                      <a:pt x="529" y="1324"/>
                    </a:lnTo>
                    <a:lnTo>
                      <a:pt x="1165" y="1144"/>
                    </a:lnTo>
                    <a:lnTo>
                      <a:pt x="1297" y="790"/>
                    </a:lnTo>
                    <a:lnTo>
                      <a:pt x="1297" y="746"/>
                    </a:lnTo>
                    <a:close/>
                  </a:path>
                </a:pathLst>
              </a:custGeom>
              <a:blipFill rotWithShape="0">
                <a:blip r:embed="rId3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71880" y="2152800"/>
                <a:ext cx="306720" cy="254520"/>
              </a:xfrm>
              <a:custGeom>
                <a:avLst/>
                <a:gdLst/>
                <a:ahLst/>
                <a:rect l="0" t="0" r="r" b="b"/>
                <a:pathLst>
                  <a:path w="852" h="707">
                    <a:moveTo>
                      <a:pt x="348" y="707"/>
                    </a:moveTo>
                    <a:lnTo>
                      <a:pt x="472" y="663"/>
                    </a:lnTo>
                    <a:lnTo>
                      <a:pt x="600" y="531"/>
                    </a:lnTo>
                    <a:lnTo>
                      <a:pt x="852" y="531"/>
                    </a:lnTo>
                    <a:lnTo>
                      <a:pt x="852" y="353"/>
                    </a:lnTo>
                    <a:lnTo>
                      <a:pt x="852" y="176"/>
                    </a:lnTo>
                    <a:lnTo>
                      <a:pt x="852" y="0"/>
                    </a:lnTo>
                    <a:lnTo>
                      <a:pt x="600" y="0"/>
                    </a:lnTo>
                    <a:lnTo>
                      <a:pt x="348" y="176"/>
                    </a:lnTo>
                    <a:lnTo>
                      <a:pt x="600" y="234"/>
                    </a:lnTo>
                    <a:lnTo>
                      <a:pt x="852" y="353"/>
                    </a:lnTo>
                    <a:lnTo>
                      <a:pt x="600" y="531"/>
                    </a:lnTo>
                    <a:lnTo>
                      <a:pt x="348" y="531"/>
                    </a:lnTo>
                    <a:lnTo>
                      <a:pt x="92" y="531"/>
                    </a:lnTo>
                    <a:lnTo>
                      <a:pt x="0" y="619"/>
                    </a:lnTo>
                    <a:lnTo>
                      <a:pt x="61" y="689"/>
                    </a:lnTo>
                    <a:lnTo>
                      <a:pt x="348" y="707"/>
                    </a:lnTo>
                    <a:close/>
                  </a:path>
                </a:pathLst>
              </a:custGeom>
              <a:solidFill>
                <a:srgbClr val="7144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05360" y="2747880"/>
                <a:ext cx="272880" cy="2541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22840" y="3341520"/>
                <a:ext cx="456120" cy="424080"/>
              </a:xfrm>
              <a:custGeom>
                <a:avLst/>
                <a:gdLst/>
                <a:ahLst/>
                <a:rect l="0" t="0" r="r" b="b"/>
                <a:pathLst>
                  <a:path w="1267" h="1178">
                    <a:moveTo>
                      <a:pt x="1267" y="666"/>
                    </a:moveTo>
                    <a:lnTo>
                      <a:pt x="1201" y="233"/>
                    </a:lnTo>
                    <a:lnTo>
                      <a:pt x="874" y="0"/>
                    </a:lnTo>
                    <a:lnTo>
                      <a:pt x="516" y="0"/>
                    </a:lnTo>
                    <a:lnTo>
                      <a:pt x="194" y="119"/>
                    </a:lnTo>
                    <a:lnTo>
                      <a:pt x="0" y="392"/>
                    </a:lnTo>
                    <a:lnTo>
                      <a:pt x="0" y="746"/>
                    </a:lnTo>
                    <a:lnTo>
                      <a:pt x="163" y="1059"/>
                    </a:lnTo>
                    <a:lnTo>
                      <a:pt x="516" y="1178"/>
                    </a:lnTo>
                    <a:lnTo>
                      <a:pt x="1135" y="1019"/>
                    </a:lnTo>
                    <a:lnTo>
                      <a:pt x="1267" y="706"/>
                    </a:lnTo>
                    <a:lnTo>
                      <a:pt x="1267" y="666"/>
                    </a:lnTo>
                    <a:close/>
                  </a:path>
                </a:pathLst>
              </a:custGeom>
              <a:blipFill rotWithShape="0">
                <a:blip r:embed="rId4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998880" y="3354480"/>
                <a:ext cx="187560" cy="390960"/>
              </a:xfrm>
              <a:custGeom>
                <a:avLst/>
                <a:gdLst/>
                <a:ahLst/>
                <a:rect l="0" t="0" r="r" b="b"/>
                <a:pathLst>
                  <a:path w="521" h="1086">
                    <a:moveTo>
                      <a:pt x="261" y="0"/>
                    </a:moveTo>
                    <a:lnTo>
                      <a:pt x="521" y="274"/>
                    </a:lnTo>
                    <a:lnTo>
                      <a:pt x="521" y="543"/>
                    </a:lnTo>
                    <a:lnTo>
                      <a:pt x="521" y="817"/>
                    </a:lnTo>
                    <a:lnTo>
                      <a:pt x="261" y="1086"/>
                    </a:lnTo>
                    <a:lnTo>
                      <a:pt x="0" y="1086"/>
                    </a:lnTo>
                    <a:lnTo>
                      <a:pt x="0" y="817"/>
                    </a:lnTo>
                    <a:lnTo>
                      <a:pt x="261" y="543"/>
                    </a:lnTo>
                    <a:lnTo>
                      <a:pt x="0" y="543"/>
                    </a:lnTo>
                    <a:lnTo>
                      <a:pt x="0" y="0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7144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73520" y="2851200"/>
                <a:ext cx="488880" cy="209052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11600" y="2851200"/>
                <a:ext cx="908280" cy="2046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143240" y="3135240"/>
                <a:ext cx="466920" cy="1414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287960" y="3173400"/>
                <a:ext cx="542880" cy="1332000"/>
              </a:xfrm>
              <a:prstGeom prst="line">
                <a:avLst/>
              </a:prstGeom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11800" y="3112920"/>
                <a:ext cx="626760" cy="1389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86320" y="3002040"/>
                <a:ext cx="720720" cy="1517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032360" y="3089160"/>
                <a:ext cx="403200" cy="1575000"/>
              </a:xfrm>
              <a:prstGeom prst="line">
                <a:avLst/>
              </a:prstGeom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4111560" y="5514840"/>
                <a:ext cx="1719360" cy="39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0LS Sens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184320" y="1876320"/>
                <a:ext cx="99360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a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5065560" y="2816280"/>
                <a:ext cx="1636920" cy="15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5086440" y="2654280"/>
                <a:ext cx="1625400" cy="111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086440" y="2916360"/>
                <a:ext cx="1627200" cy="60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5100480" y="2487600"/>
                <a:ext cx="1587600" cy="168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113440" y="3063960"/>
                <a:ext cx="1579320" cy="9504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87960" y="4532400"/>
                <a:ext cx="1322280" cy="822240"/>
              </a:xfrm>
              <a:prstGeom prst="ellipse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2b2b2b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-27000" y="2657520"/>
            <a:ext cx="185760" cy="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9440" y="1666800"/>
            <a:ext cx="993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22320" y="127080"/>
            <a:ext cx="719604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Fluorescence Det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63600" y="895320"/>
            <a:ext cx="8700840" cy="5165640"/>
            <a:chOff x="363600" y="895320"/>
            <a:chExt cx="8700840" cy="5165640"/>
          </a:xfrm>
        </p:grpSpPr>
        <p:sp>
          <p:nvSpPr>
            <p:cNvPr id="177" name=""/>
            <p:cNvSpPr/>
            <p:nvPr/>
          </p:nvSpPr>
          <p:spPr>
            <a:xfrm>
              <a:off x="3370320" y="895320"/>
              <a:ext cx="1635480" cy="3231000"/>
            </a:xfrm>
            <a:custGeom>
              <a:avLst/>
              <a:gdLst/>
              <a:ahLst/>
              <a:rect l="0" t="0" r="r" b="b"/>
              <a:pathLst>
                <a:path w="4543" h="8975">
                  <a:moveTo>
                    <a:pt x="0" y="709"/>
                  </a:moveTo>
                  <a:lnTo>
                    <a:pt x="0" y="2836"/>
                  </a:lnTo>
                  <a:lnTo>
                    <a:pt x="0" y="6850"/>
                  </a:lnTo>
                  <a:lnTo>
                    <a:pt x="0" y="8975"/>
                  </a:lnTo>
                  <a:lnTo>
                    <a:pt x="1512" y="8265"/>
                  </a:lnTo>
                  <a:lnTo>
                    <a:pt x="2019" y="8975"/>
                  </a:lnTo>
                  <a:lnTo>
                    <a:pt x="3281" y="8265"/>
                  </a:lnTo>
                  <a:lnTo>
                    <a:pt x="4543" y="8975"/>
                  </a:lnTo>
                  <a:lnTo>
                    <a:pt x="4543" y="6850"/>
                  </a:lnTo>
                  <a:lnTo>
                    <a:pt x="4543" y="2836"/>
                  </a:lnTo>
                  <a:lnTo>
                    <a:pt x="4543" y="238"/>
                  </a:lnTo>
                  <a:lnTo>
                    <a:pt x="3533" y="1415"/>
                  </a:lnTo>
                  <a:lnTo>
                    <a:pt x="2523" y="709"/>
                  </a:lnTo>
                  <a:lnTo>
                    <a:pt x="1768" y="1415"/>
                  </a:lnTo>
                  <a:lnTo>
                    <a:pt x="0" y="0"/>
                  </a:lnTo>
                  <a:lnTo>
                    <a:pt x="0" y="709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22840" y="3189240"/>
              <a:ext cx="456120" cy="424080"/>
            </a:xfrm>
            <a:custGeom>
              <a:avLst/>
              <a:gdLst/>
              <a:ahLst/>
              <a:rect l="0" t="0" r="r" b="b"/>
              <a:pathLst>
                <a:path w="1267" h="1178">
                  <a:moveTo>
                    <a:pt x="1267" y="666"/>
                  </a:moveTo>
                  <a:lnTo>
                    <a:pt x="1201" y="233"/>
                  </a:lnTo>
                  <a:lnTo>
                    <a:pt x="874" y="0"/>
                  </a:lnTo>
                  <a:lnTo>
                    <a:pt x="516" y="0"/>
                  </a:lnTo>
                  <a:lnTo>
                    <a:pt x="194" y="119"/>
                  </a:lnTo>
                  <a:lnTo>
                    <a:pt x="0" y="392"/>
                  </a:lnTo>
                  <a:lnTo>
                    <a:pt x="0" y="746"/>
                  </a:lnTo>
                  <a:lnTo>
                    <a:pt x="163" y="1059"/>
                  </a:lnTo>
                  <a:lnTo>
                    <a:pt x="516" y="1178"/>
                  </a:lnTo>
                  <a:lnTo>
                    <a:pt x="1135" y="1019"/>
                  </a:lnTo>
                  <a:lnTo>
                    <a:pt x="1267" y="706"/>
                  </a:lnTo>
                  <a:lnTo>
                    <a:pt x="1267" y="666"/>
                  </a:lnTo>
                  <a:close/>
                </a:path>
              </a:pathLst>
            </a:custGeom>
            <a:blipFill rotWithShape="0">
              <a:blip r:embed="rId2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98880" y="3201840"/>
              <a:ext cx="187560" cy="390960"/>
            </a:xfrm>
            <a:custGeom>
              <a:avLst/>
              <a:gdLst/>
              <a:ahLst/>
              <a:rect l="0" t="0" r="r" b="b"/>
              <a:pathLst>
                <a:path w="521" h="1086">
                  <a:moveTo>
                    <a:pt x="261" y="0"/>
                  </a:moveTo>
                  <a:lnTo>
                    <a:pt x="521" y="274"/>
                  </a:lnTo>
                  <a:lnTo>
                    <a:pt x="521" y="543"/>
                  </a:lnTo>
                  <a:lnTo>
                    <a:pt x="521" y="817"/>
                  </a:lnTo>
                  <a:lnTo>
                    <a:pt x="261" y="1086"/>
                  </a:lnTo>
                  <a:lnTo>
                    <a:pt x="0" y="1086"/>
                  </a:lnTo>
                  <a:lnTo>
                    <a:pt x="0" y="817"/>
                  </a:lnTo>
                  <a:lnTo>
                    <a:pt x="261" y="543"/>
                  </a:lnTo>
                  <a:lnTo>
                    <a:pt x="0" y="543"/>
                  </a:lnTo>
                  <a:lnTo>
                    <a:pt x="0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714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60880" y="3017880"/>
              <a:ext cx="420480" cy="149688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84720" y="3017880"/>
              <a:ext cx="539640" cy="1452600"/>
            </a:xfrm>
            <a:prstGeom prst="line">
              <a:avLst/>
            </a:prstGeom>
            <a:ln w="25560">
              <a:solidFill>
                <a:srgbClr val="741b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06760" y="2919240"/>
              <a:ext cx="731880" cy="1595520"/>
            </a:xfrm>
            <a:prstGeom prst="line">
              <a:avLst/>
            </a:prstGeom>
            <a:ln w="25560">
              <a:solidFill>
                <a:srgbClr val="ff39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29120" y="2967120"/>
              <a:ext cx="388800" cy="159048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5200" y="2679840"/>
              <a:ext cx="488880" cy="209052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57600" y="2727360"/>
              <a:ext cx="908280" cy="204624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87960" y="4379760"/>
              <a:ext cx="1322280" cy="822240"/>
            </a:xfrm>
            <a:prstGeom prst="ellipse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2b2b2b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813280" y="3695760"/>
              <a:ext cx="3114720" cy="1562040"/>
              <a:chOff x="5813280" y="3695760"/>
              <a:chExt cx="3114720" cy="1562040"/>
            </a:xfrm>
          </p:grpSpPr>
          <p:sp>
            <p:nvSpPr>
              <p:cNvPr id="188" name=""/>
              <p:cNvSpPr/>
              <p:nvPr/>
            </p:nvSpPr>
            <p:spPr>
              <a:xfrm>
                <a:off x="5884920" y="3695760"/>
                <a:ext cx="3043080" cy="1562040"/>
              </a:xfrm>
              <a:prstGeom prst="rect">
                <a:avLst/>
              </a:prstGeom>
              <a:solidFill>
                <a:srgbClr val="3365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19960" y="3836880"/>
                <a:ext cx="0" cy="93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34000" y="4781520"/>
                <a:ext cx="2060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6160" bIns="-56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31080" y="3941640"/>
                <a:ext cx="1375200" cy="805320"/>
              </a:xfrm>
              <a:custGeom>
                <a:avLst/>
                <a:gdLst/>
                <a:ahLst/>
                <a:rect l="0" t="0" r="r" b="b"/>
                <a:pathLst>
                  <a:path w="3820" h="2237">
                    <a:moveTo>
                      <a:pt x="0" y="2237"/>
                    </a:moveTo>
                    <a:lnTo>
                      <a:pt x="374" y="2140"/>
                    </a:lnTo>
                    <a:lnTo>
                      <a:pt x="493" y="1977"/>
                    </a:lnTo>
                    <a:lnTo>
                      <a:pt x="604" y="1712"/>
                    </a:lnTo>
                    <a:lnTo>
                      <a:pt x="758" y="1182"/>
                    </a:lnTo>
                    <a:lnTo>
                      <a:pt x="890" y="561"/>
                    </a:lnTo>
                    <a:lnTo>
                      <a:pt x="1081" y="30"/>
                    </a:lnTo>
                    <a:lnTo>
                      <a:pt x="1218" y="0"/>
                    </a:lnTo>
                    <a:lnTo>
                      <a:pt x="1275" y="163"/>
                    </a:lnTo>
                    <a:lnTo>
                      <a:pt x="1442" y="591"/>
                    </a:lnTo>
                    <a:lnTo>
                      <a:pt x="1619" y="1116"/>
                    </a:lnTo>
                    <a:lnTo>
                      <a:pt x="1901" y="1482"/>
                    </a:lnTo>
                    <a:lnTo>
                      <a:pt x="2201" y="1645"/>
                    </a:lnTo>
                    <a:lnTo>
                      <a:pt x="2624" y="1977"/>
                    </a:lnTo>
                    <a:lnTo>
                      <a:pt x="3137" y="2171"/>
                    </a:lnTo>
                    <a:lnTo>
                      <a:pt x="3820" y="2237"/>
                    </a:lnTo>
                    <a:lnTo>
                      <a:pt x="0" y="2237"/>
                    </a:lnTo>
                    <a:close/>
                  </a:path>
                </a:pathLst>
              </a:custGeom>
              <a:blipFill rotWithShape="0">
                <a:blip r:embed="rId3"/>
                <a:tile tx="0" ty="0" sx="133018" sy="133018" algn="ctr"/>
              </a:blipFill>
              <a:ln w="12600">
                <a:solidFill>
                  <a:srgbClr val="ffff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813280" y="3921120"/>
                <a:ext cx="689040" cy="87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 txBox="1"/>
              <p:nvPr/>
            </p:nvSpPr>
            <p:spPr>
              <a:xfrm>
                <a:off x="6865920" y="4835520"/>
                <a:ext cx="14000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i="1" lang="en-US" sz="1600" spc="-1" strike="noStrike">
                    <a:solidFill>
                      <a:srgbClr val="919191"/>
                    </a:solidFill>
                    <a:latin typeface="Arial"/>
                    <a:ea typeface="Arial"/>
                  </a:rPr>
                  <a:t>Fluorescen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47640" y="2527200"/>
              <a:ext cx="326880" cy="303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3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1200" y="2257560"/>
              <a:ext cx="0" cy="16812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9000" y="2946240"/>
              <a:ext cx="0" cy="16992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63600" y="2743200"/>
              <a:ext cx="154080" cy="15876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093680" y="2371680"/>
              <a:ext cx="154080" cy="16056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47680" y="2643120"/>
              <a:ext cx="184320" cy="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84320" y="2808360"/>
              <a:ext cx="149040" cy="5868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0600" y="2478240"/>
              <a:ext cx="149040" cy="5688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81200" y="2695680"/>
              <a:ext cx="1658880" cy="0"/>
            </a:xfrm>
            <a:prstGeom prst="line">
              <a:avLst/>
            </a:prstGeom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81480" y="963720"/>
              <a:ext cx="0" cy="2306520"/>
            </a:xfrm>
            <a:prstGeom prst="line">
              <a:avLst/>
            </a:prstGeom>
            <a:ln w="203040">
              <a:solidFill>
                <a:srgbClr val="dac8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13360" y="1063800"/>
              <a:ext cx="0" cy="2168280"/>
            </a:xfrm>
            <a:prstGeom prst="line">
              <a:avLst/>
            </a:prstGeom>
            <a:ln w="203040">
              <a:solidFill>
                <a:srgbClr val="dac8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59720" y="2270160"/>
              <a:ext cx="213120" cy="800640"/>
            </a:xfrm>
            <a:custGeom>
              <a:avLst/>
              <a:gdLst/>
              <a:ahLst/>
              <a:rect l="0" t="0" r="r" b="b"/>
              <a:pathLst>
                <a:path w="592" h="2224">
                  <a:moveTo>
                    <a:pt x="0" y="0"/>
                  </a:moveTo>
                  <a:lnTo>
                    <a:pt x="592" y="0"/>
                  </a:lnTo>
                  <a:lnTo>
                    <a:pt x="592" y="2224"/>
                  </a:lnTo>
                  <a:lnTo>
                    <a:pt x="0" y="22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2b2b2b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7288200" y="2486160"/>
              <a:ext cx="17762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LS Sen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59280" y="1954080"/>
              <a:ext cx="332280" cy="279720"/>
            </a:xfrm>
            <a:custGeom>
              <a:avLst/>
              <a:gdLst/>
              <a:ahLst/>
              <a:rect l="0" t="0" r="r" b="b"/>
              <a:pathLst>
                <a:path w="923" h="777">
                  <a:moveTo>
                    <a:pt x="923" y="260"/>
                  </a:moveTo>
                  <a:lnTo>
                    <a:pt x="764" y="74"/>
                  </a:lnTo>
                  <a:lnTo>
                    <a:pt x="384" y="0"/>
                  </a:lnTo>
                  <a:lnTo>
                    <a:pt x="158" y="149"/>
                  </a:lnTo>
                  <a:lnTo>
                    <a:pt x="0" y="406"/>
                  </a:lnTo>
                  <a:lnTo>
                    <a:pt x="158" y="631"/>
                  </a:lnTo>
                  <a:lnTo>
                    <a:pt x="481" y="777"/>
                  </a:lnTo>
                  <a:lnTo>
                    <a:pt x="764" y="702"/>
                  </a:lnTo>
                  <a:lnTo>
                    <a:pt x="923" y="406"/>
                  </a:lnTo>
                  <a:lnTo>
                    <a:pt x="923" y="335"/>
                  </a:lnTo>
                  <a:lnTo>
                    <a:pt x="923" y="260"/>
                  </a:lnTo>
                  <a:close/>
                </a:path>
              </a:pathLst>
            </a:custGeom>
            <a:solidFill>
              <a:srgbClr val="5700d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03840" y="1830240"/>
              <a:ext cx="466920" cy="476640"/>
            </a:xfrm>
            <a:custGeom>
              <a:avLst/>
              <a:gdLst/>
              <a:ahLst/>
              <a:rect l="0" t="0" r="r" b="b"/>
              <a:pathLst>
                <a:path w="1297" h="1324">
                  <a:moveTo>
                    <a:pt x="1297" y="746"/>
                  </a:moveTo>
                  <a:lnTo>
                    <a:pt x="1231" y="264"/>
                  </a:lnTo>
                  <a:lnTo>
                    <a:pt x="896" y="0"/>
                  </a:lnTo>
                  <a:lnTo>
                    <a:pt x="529" y="0"/>
                  </a:lnTo>
                  <a:lnTo>
                    <a:pt x="198" y="127"/>
                  </a:lnTo>
                  <a:lnTo>
                    <a:pt x="0" y="441"/>
                  </a:lnTo>
                  <a:lnTo>
                    <a:pt x="0" y="838"/>
                  </a:lnTo>
                  <a:lnTo>
                    <a:pt x="167" y="1188"/>
                  </a:lnTo>
                  <a:lnTo>
                    <a:pt x="529" y="1324"/>
                  </a:lnTo>
                  <a:lnTo>
                    <a:pt x="1165" y="1144"/>
                  </a:lnTo>
                  <a:lnTo>
                    <a:pt x="1297" y="790"/>
                  </a:lnTo>
                  <a:lnTo>
                    <a:pt x="1297" y="746"/>
                  </a:lnTo>
                  <a:close/>
                </a:path>
              </a:pathLst>
            </a:custGeom>
            <a:blipFill rotWithShape="0">
              <a:blip r:embed="rId5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71880" y="2000160"/>
              <a:ext cx="306720" cy="254520"/>
            </a:xfrm>
            <a:custGeom>
              <a:avLst/>
              <a:gdLst/>
              <a:ahLst/>
              <a:rect l="0" t="0" r="r" b="b"/>
              <a:pathLst>
                <a:path w="852" h="707">
                  <a:moveTo>
                    <a:pt x="348" y="707"/>
                  </a:moveTo>
                  <a:lnTo>
                    <a:pt x="472" y="663"/>
                  </a:lnTo>
                  <a:lnTo>
                    <a:pt x="600" y="531"/>
                  </a:lnTo>
                  <a:lnTo>
                    <a:pt x="852" y="531"/>
                  </a:lnTo>
                  <a:lnTo>
                    <a:pt x="852" y="353"/>
                  </a:lnTo>
                  <a:lnTo>
                    <a:pt x="852" y="176"/>
                  </a:lnTo>
                  <a:lnTo>
                    <a:pt x="852" y="0"/>
                  </a:lnTo>
                  <a:lnTo>
                    <a:pt x="600" y="0"/>
                  </a:lnTo>
                  <a:lnTo>
                    <a:pt x="348" y="176"/>
                  </a:lnTo>
                  <a:lnTo>
                    <a:pt x="600" y="234"/>
                  </a:lnTo>
                  <a:lnTo>
                    <a:pt x="852" y="353"/>
                  </a:lnTo>
                  <a:lnTo>
                    <a:pt x="600" y="531"/>
                  </a:lnTo>
                  <a:lnTo>
                    <a:pt x="348" y="531"/>
                  </a:lnTo>
                  <a:lnTo>
                    <a:pt x="92" y="531"/>
                  </a:lnTo>
                  <a:lnTo>
                    <a:pt x="0" y="619"/>
                  </a:lnTo>
                  <a:lnTo>
                    <a:pt x="61" y="689"/>
                  </a:lnTo>
                  <a:lnTo>
                    <a:pt x="348" y="707"/>
                  </a:lnTo>
                  <a:close/>
                </a:path>
              </a:pathLst>
            </a:custGeom>
            <a:solidFill>
              <a:srgbClr val="714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27640" y="4683240"/>
              <a:ext cx="216000" cy="204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41840" y="4626000"/>
              <a:ext cx="220680" cy="204840"/>
            </a:xfrm>
            <a:prstGeom prst="ellipse">
              <a:avLst/>
            </a:prstGeom>
            <a:solidFill>
              <a:srgbClr val="00ae00"/>
            </a:solidFill>
            <a:ln w="38160">
              <a:solidFill>
                <a:srgbClr val="00ae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06800" y="4583160"/>
              <a:ext cx="243000" cy="222120"/>
            </a:xfrm>
            <a:prstGeom prst="ellipse">
              <a:avLst/>
            </a:prstGeom>
            <a:solidFill>
              <a:srgbClr val="741bff"/>
            </a:solidFill>
            <a:ln w="12600">
              <a:solidFill>
                <a:srgbClr val="741b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07040" y="4630680"/>
              <a:ext cx="220680" cy="184320"/>
            </a:xfrm>
            <a:prstGeom prst="ellipse">
              <a:avLst/>
            </a:prstGeom>
            <a:solidFill>
              <a:srgbClr val="ff3938"/>
            </a:solidFill>
            <a:ln w="12600">
              <a:solidFill>
                <a:srgbClr val="ff393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3525840" y="5362560"/>
              <a:ext cx="2890800" cy="698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luorescence detec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PMT3, PMT4 etc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091120" y="2657520"/>
              <a:ext cx="1625760" cy="2844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114880" y="2495520"/>
              <a:ext cx="1612800" cy="12384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14880" y="2770200"/>
              <a:ext cx="1614600" cy="4752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5121360" y="2335320"/>
              <a:ext cx="1587240" cy="16812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33960" y="2911320"/>
              <a:ext cx="1579680" cy="9540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95560" y="2509920"/>
              <a:ext cx="383040" cy="340200"/>
            </a:xfrm>
            <a:custGeom>
              <a:avLst/>
              <a:gdLst/>
              <a:ahLst/>
              <a:rect l="0" t="0" r="r" b="b"/>
              <a:pathLst>
                <a:path w="1064" h="945">
                  <a:moveTo>
                    <a:pt x="1064" y="534"/>
                  </a:moveTo>
                  <a:lnTo>
                    <a:pt x="1011" y="189"/>
                  </a:lnTo>
                  <a:lnTo>
                    <a:pt x="737" y="0"/>
                  </a:lnTo>
                  <a:lnTo>
                    <a:pt x="437" y="0"/>
                  </a:lnTo>
                  <a:lnTo>
                    <a:pt x="167" y="92"/>
                  </a:lnTo>
                  <a:lnTo>
                    <a:pt x="0" y="314"/>
                  </a:lnTo>
                  <a:lnTo>
                    <a:pt x="0" y="596"/>
                  </a:lnTo>
                  <a:lnTo>
                    <a:pt x="136" y="853"/>
                  </a:lnTo>
                  <a:lnTo>
                    <a:pt x="437" y="945"/>
                  </a:lnTo>
                  <a:lnTo>
                    <a:pt x="958" y="822"/>
                  </a:lnTo>
                  <a:lnTo>
                    <a:pt x="1064" y="565"/>
                  </a:lnTo>
                  <a:lnTo>
                    <a:pt x="1064" y="534"/>
                  </a:lnTo>
                  <a:close/>
                </a:path>
              </a:pathLst>
            </a:custGeom>
            <a:blipFill rotWithShape="0">
              <a:blip r:embed="rId6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84480" y="2585880"/>
              <a:ext cx="272880" cy="25416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986360" y="2610000"/>
            <a:ext cx="369720" cy="476280"/>
          </a:xfrm>
          <a:prstGeom prst="ellipse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27640" y="3790800"/>
            <a:ext cx="347760" cy="403200"/>
          </a:xfrm>
          <a:prstGeom prst="ellipse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97640" y="4421160"/>
            <a:ext cx="347760" cy="401760"/>
          </a:xfrm>
          <a:prstGeom prst="ellipse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81680" y="1071720"/>
            <a:ext cx="409680" cy="1546200"/>
          </a:xfrm>
          <a:prstGeom prst="roundRect">
            <a:avLst/>
          </a:pr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743360" y="352440"/>
            <a:ext cx="895320" cy="1271880"/>
            <a:chOff x="4743360" y="352440"/>
            <a:chExt cx="895320" cy="1271880"/>
          </a:xfrm>
        </p:grpSpPr>
        <p:sp>
          <p:nvSpPr>
            <p:cNvPr id="227" name=""/>
            <p:cNvSpPr/>
            <p:nvPr/>
          </p:nvSpPr>
          <p:spPr>
            <a:xfrm>
              <a:off x="4861080" y="352440"/>
              <a:ext cx="649440" cy="9367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19191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919191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79800" y="1254240"/>
              <a:ext cx="616320" cy="370080"/>
            </a:xfrm>
            <a:custGeom>
              <a:avLst/>
              <a:gdLst/>
              <a:ahLst/>
              <a:rect l="0" t="0" r="r" b="b"/>
              <a:pathLst>
                <a:path w="1712" h="1028">
                  <a:moveTo>
                    <a:pt x="0" y="44"/>
                  </a:moveTo>
                  <a:lnTo>
                    <a:pt x="207" y="1006"/>
                  </a:lnTo>
                  <a:lnTo>
                    <a:pt x="547" y="821"/>
                  </a:lnTo>
                  <a:lnTo>
                    <a:pt x="807" y="777"/>
                  </a:lnTo>
                  <a:lnTo>
                    <a:pt x="997" y="777"/>
                  </a:lnTo>
                  <a:lnTo>
                    <a:pt x="1240" y="847"/>
                  </a:lnTo>
                  <a:lnTo>
                    <a:pt x="1523" y="1028"/>
                  </a:lnTo>
                  <a:lnTo>
                    <a:pt x="1712" y="0"/>
                  </a:lnTo>
                  <a:lnTo>
                    <a:pt x="0" y="44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919191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919191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43360" y="663480"/>
              <a:ext cx="895320" cy="181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19191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919191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762200" y="1817640"/>
            <a:ext cx="4121280" cy="176040"/>
          </a:xfrm>
          <a:prstGeom prst="rect">
            <a:avLst/>
          </a:prstGeom>
          <a:solidFill>
            <a:srgbClr val="00c4d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325680" y="1755720"/>
            <a:ext cx="12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8 nm la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137200" y="1757520"/>
            <a:ext cx="149760" cy="225720"/>
            <a:chOff x="5137200" y="1757520"/>
            <a:chExt cx="149760" cy="225720"/>
          </a:xfrm>
        </p:grpSpPr>
        <p:sp>
          <p:nvSpPr>
            <p:cNvPr id="233" name=""/>
            <p:cNvSpPr/>
            <p:nvPr/>
          </p:nvSpPr>
          <p:spPr>
            <a:xfrm>
              <a:off x="5137200" y="1757520"/>
              <a:ext cx="149760" cy="225720"/>
            </a:xfrm>
            <a:custGeom>
              <a:avLst/>
              <a:gdLst/>
              <a:ahLst/>
              <a:rect l="0" t="0" r="r" b="b"/>
              <a:pathLst>
                <a:path w="416" h="627">
                  <a:moveTo>
                    <a:pt x="416" y="353"/>
                  </a:moveTo>
                  <a:lnTo>
                    <a:pt x="394" y="127"/>
                  </a:lnTo>
                  <a:lnTo>
                    <a:pt x="287" y="0"/>
                  </a:lnTo>
                  <a:lnTo>
                    <a:pt x="168" y="0"/>
                  </a:lnTo>
                  <a:lnTo>
                    <a:pt x="61" y="61"/>
                  </a:lnTo>
                  <a:lnTo>
                    <a:pt x="0" y="207"/>
                  </a:lnTo>
                  <a:lnTo>
                    <a:pt x="0" y="397"/>
                  </a:lnTo>
                  <a:lnTo>
                    <a:pt x="52" y="561"/>
                  </a:lnTo>
                  <a:lnTo>
                    <a:pt x="168" y="627"/>
                  </a:lnTo>
                  <a:lnTo>
                    <a:pt x="372" y="543"/>
                  </a:lnTo>
                  <a:lnTo>
                    <a:pt x="416" y="375"/>
                  </a:lnTo>
                  <a:lnTo>
                    <a:pt x="416" y="353"/>
                  </a:lnTo>
                  <a:close/>
                </a:path>
              </a:pathLst>
            </a:custGeom>
            <a:blipFill rotWithShape="0">
              <a:blip r:embed="rId5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59520" y="1838160"/>
              <a:ext cx="98640" cy="120960"/>
            </a:xfrm>
            <a:custGeom>
              <a:avLst/>
              <a:gdLst/>
              <a:ahLst/>
              <a:rect l="0" t="0" r="r" b="b"/>
              <a:pathLst>
                <a:path w="274" h="336">
                  <a:moveTo>
                    <a:pt x="110" y="336"/>
                  </a:moveTo>
                  <a:lnTo>
                    <a:pt x="150" y="314"/>
                  </a:lnTo>
                  <a:lnTo>
                    <a:pt x="195" y="252"/>
                  </a:lnTo>
                  <a:lnTo>
                    <a:pt x="274" y="252"/>
                  </a:lnTo>
                  <a:lnTo>
                    <a:pt x="274" y="167"/>
                  </a:lnTo>
                  <a:lnTo>
                    <a:pt x="274" y="83"/>
                  </a:lnTo>
                  <a:lnTo>
                    <a:pt x="274" y="0"/>
                  </a:lnTo>
                  <a:lnTo>
                    <a:pt x="195" y="0"/>
                  </a:lnTo>
                  <a:lnTo>
                    <a:pt x="110" y="83"/>
                  </a:lnTo>
                  <a:lnTo>
                    <a:pt x="195" y="110"/>
                  </a:lnTo>
                  <a:lnTo>
                    <a:pt x="274" y="167"/>
                  </a:lnTo>
                  <a:lnTo>
                    <a:pt x="195" y="252"/>
                  </a:lnTo>
                  <a:lnTo>
                    <a:pt x="110" y="252"/>
                  </a:lnTo>
                  <a:lnTo>
                    <a:pt x="30" y="252"/>
                  </a:lnTo>
                  <a:lnTo>
                    <a:pt x="0" y="296"/>
                  </a:lnTo>
                  <a:lnTo>
                    <a:pt x="22" y="327"/>
                  </a:lnTo>
                  <a:lnTo>
                    <a:pt x="110" y="336"/>
                  </a:lnTo>
                  <a:close/>
                </a:path>
              </a:pathLst>
            </a:custGeom>
            <a:solidFill>
              <a:srgbClr val="714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126040" y="2249640"/>
            <a:ext cx="122760" cy="162360"/>
            <a:chOff x="5126040" y="2249640"/>
            <a:chExt cx="122760" cy="162360"/>
          </a:xfrm>
        </p:grpSpPr>
        <p:sp>
          <p:nvSpPr>
            <p:cNvPr id="236" name=""/>
            <p:cNvSpPr/>
            <p:nvPr/>
          </p:nvSpPr>
          <p:spPr>
            <a:xfrm>
              <a:off x="5126040" y="2249640"/>
              <a:ext cx="122760" cy="162360"/>
            </a:xfrm>
            <a:custGeom>
              <a:avLst/>
              <a:gdLst/>
              <a:ahLst/>
              <a:rect l="0" t="0" r="r" b="b"/>
              <a:pathLst>
                <a:path w="341" h="451">
                  <a:moveTo>
                    <a:pt x="341" y="256"/>
                  </a:moveTo>
                  <a:lnTo>
                    <a:pt x="323" y="88"/>
                  </a:lnTo>
                  <a:lnTo>
                    <a:pt x="234" y="0"/>
                  </a:lnTo>
                  <a:lnTo>
                    <a:pt x="142" y="0"/>
                  </a:lnTo>
                  <a:lnTo>
                    <a:pt x="52" y="44"/>
                  </a:lnTo>
                  <a:lnTo>
                    <a:pt x="0" y="150"/>
                  </a:lnTo>
                  <a:lnTo>
                    <a:pt x="0" y="287"/>
                  </a:lnTo>
                  <a:lnTo>
                    <a:pt x="44" y="407"/>
                  </a:lnTo>
                  <a:lnTo>
                    <a:pt x="142" y="451"/>
                  </a:lnTo>
                  <a:lnTo>
                    <a:pt x="306" y="390"/>
                  </a:lnTo>
                  <a:lnTo>
                    <a:pt x="341" y="269"/>
                  </a:lnTo>
                  <a:lnTo>
                    <a:pt x="341" y="256"/>
                  </a:lnTo>
                  <a:close/>
                </a:path>
              </a:pathLst>
            </a:custGeom>
            <a:blipFill rotWithShape="0">
              <a:blip r:embed="rId6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60960" y="2289240"/>
              <a:ext cx="87480" cy="12240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095800" y="2771640"/>
            <a:ext cx="146520" cy="201960"/>
            <a:chOff x="5095800" y="2771640"/>
            <a:chExt cx="146520" cy="201960"/>
          </a:xfrm>
        </p:grpSpPr>
        <p:sp>
          <p:nvSpPr>
            <p:cNvPr id="239" name=""/>
            <p:cNvSpPr/>
            <p:nvPr/>
          </p:nvSpPr>
          <p:spPr>
            <a:xfrm>
              <a:off x="5095800" y="2771640"/>
              <a:ext cx="146520" cy="201960"/>
            </a:xfrm>
            <a:custGeom>
              <a:avLst/>
              <a:gdLst/>
              <a:ahLst/>
              <a:rect l="0" t="0" r="r" b="b"/>
              <a:pathLst>
                <a:path w="407" h="561">
                  <a:moveTo>
                    <a:pt x="407" y="318"/>
                  </a:moveTo>
                  <a:lnTo>
                    <a:pt x="385" y="110"/>
                  </a:lnTo>
                  <a:lnTo>
                    <a:pt x="278" y="0"/>
                  </a:lnTo>
                  <a:lnTo>
                    <a:pt x="168" y="0"/>
                  </a:lnTo>
                  <a:lnTo>
                    <a:pt x="61" y="57"/>
                  </a:lnTo>
                  <a:lnTo>
                    <a:pt x="0" y="185"/>
                  </a:lnTo>
                  <a:lnTo>
                    <a:pt x="0" y="358"/>
                  </a:lnTo>
                  <a:lnTo>
                    <a:pt x="52" y="503"/>
                  </a:lnTo>
                  <a:lnTo>
                    <a:pt x="168" y="561"/>
                  </a:lnTo>
                  <a:lnTo>
                    <a:pt x="363" y="486"/>
                  </a:lnTo>
                  <a:lnTo>
                    <a:pt x="407" y="336"/>
                  </a:lnTo>
                  <a:lnTo>
                    <a:pt x="407" y="318"/>
                  </a:lnTo>
                  <a:close/>
                </a:path>
              </a:pathLst>
            </a:custGeom>
            <a:blipFill rotWithShape="0">
              <a:blip r:embed="rId7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51600" y="2778120"/>
              <a:ext cx="60840" cy="187560"/>
            </a:xfrm>
            <a:custGeom>
              <a:avLst/>
              <a:gdLst/>
              <a:ahLst/>
              <a:rect l="0" t="0" r="r" b="b"/>
              <a:pathLst>
                <a:path w="169" h="521">
                  <a:moveTo>
                    <a:pt x="84" y="0"/>
                  </a:moveTo>
                  <a:lnTo>
                    <a:pt x="169" y="132"/>
                  </a:lnTo>
                  <a:lnTo>
                    <a:pt x="169" y="261"/>
                  </a:lnTo>
                  <a:lnTo>
                    <a:pt x="169" y="393"/>
                  </a:lnTo>
                  <a:lnTo>
                    <a:pt x="84" y="521"/>
                  </a:lnTo>
                  <a:lnTo>
                    <a:pt x="0" y="521"/>
                  </a:lnTo>
                  <a:lnTo>
                    <a:pt x="0" y="393"/>
                  </a:lnTo>
                  <a:lnTo>
                    <a:pt x="84" y="261"/>
                  </a:lnTo>
                  <a:lnTo>
                    <a:pt x="0" y="261"/>
                  </a:lnTo>
                  <a:lnTo>
                    <a:pt x="0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714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697360" y="4548240"/>
            <a:ext cx="122760" cy="160560"/>
            <a:chOff x="5697360" y="4548240"/>
            <a:chExt cx="122760" cy="160560"/>
          </a:xfrm>
        </p:grpSpPr>
        <p:sp>
          <p:nvSpPr>
            <p:cNvPr id="242" name=""/>
            <p:cNvSpPr/>
            <p:nvPr/>
          </p:nvSpPr>
          <p:spPr>
            <a:xfrm>
              <a:off x="5697360" y="4548240"/>
              <a:ext cx="122760" cy="160560"/>
            </a:xfrm>
            <a:custGeom>
              <a:avLst/>
              <a:gdLst/>
              <a:ahLst/>
              <a:rect l="0" t="0" r="r" b="b"/>
              <a:pathLst>
                <a:path w="341" h="446">
                  <a:moveTo>
                    <a:pt x="341" y="252"/>
                  </a:moveTo>
                  <a:lnTo>
                    <a:pt x="323" y="88"/>
                  </a:lnTo>
                  <a:lnTo>
                    <a:pt x="234" y="0"/>
                  </a:lnTo>
                  <a:lnTo>
                    <a:pt x="142" y="0"/>
                  </a:lnTo>
                  <a:lnTo>
                    <a:pt x="52" y="44"/>
                  </a:lnTo>
                  <a:lnTo>
                    <a:pt x="0" y="149"/>
                  </a:lnTo>
                  <a:lnTo>
                    <a:pt x="0" y="283"/>
                  </a:lnTo>
                  <a:lnTo>
                    <a:pt x="44" y="402"/>
                  </a:lnTo>
                  <a:lnTo>
                    <a:pt x="142" y="446"/>
                  </a:lnTo>
                  <a:lnTo>
                    <a:pt x="306" y="389"/>
                  </a:lnTo>
                  <a:lnTo>
                    <a:pt x="341" y="265"/>
                  </a:lnTo>
                  <a:lnTo>
                    <a:pt x="341" y="252"/>
                  </a:lnTo>
                  <a:close/>
                </a:path>
              </a:pathLst>
            </a:custGeom>
            <a:blipFill rotWithShape="0">
              <a:blip r:embed="rId8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30840" y="4587840"/>
              <a:ext cx="88920" cy="12060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433840" y="3879720"/>
            <a:ext cx="122760" cy="162360"/>
            <a:chOff x="5433840" y="3879720"/>
            <a:chExt cx="122760" cy="162360"/>
          </a:xfrm>
        </p:grpSpPr>
        <p:sp>
          <p:nvSpPr>
            <p:cNvPr id="245" name=""/>
            <p:cNvSpPr/>
            <p:nvPr/>
          </p:nvSpPr>
          <p:spPr>
            <a:xfrm>
              <a:off x="5433840" y="3879720"/>
              <a:ext cx="122760" cy="162360"/>
            </a:xfrm>
            <a:custGeom>
              <a:avLst/>
              <a:gdLst/>
              <a:ahLst/>
              <a:rect l="0" t="0" r="r" b="b"/>
              <a:pathLst>
                <a:path w="341" h="451">
                  <a:moveTo>
                    <a:pt x="341" y="256"/>
                  </a:moveTo>
                  <a:lnTo>
                    <a:pt x="323" y="88"/>
                  </a:lnTo>
                  <a:lnTo>
                    <a:pt x="234" y="0"/>
                  </a:lnTo>
                  <a:lnTo>
                    <a:pt x="142" y="0"/>
                  </a:lnTo>
                  <a:lnTo>
                    <a:pt x="52" y="44"/>
                  </a:lnTo>
                  <a:lnTo>
                    <a:pt x="0" y="150"/>
                  </a:lnTo>
                  <a:lnTo>
                    <a:pt x="0" y="287"/>
                  </a:lnTo>
                  <a:lnTo>
                    <a:pt x="44" y="407"/>
                  </a:lnTo>
                  <a:lnTo>
                    <a:pt x="142" y="451"/>
                  </a:lnTo>
                  <a:lnTo>
                    <a:pt x="306" y="390"/>
                  </a:lnTo>
                  <a:lnTo>
                    <a:pt x="341" y="269"/>
                  </a:lnTo>
                  <a:lnTo>
                    <a:pt x="341" y="256"/>
                  </a:lnTo>
                  <a:close/>
                </a:path>
              </a:pathLst>
            </a:custGeom>
            <a:blipFill rotWithShape="0">
              <a:blip r:embed="rId9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68760" y="3921120"/>
              <a:ext cx="87480" cy="12060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989520" y="3703680"/>
            <a:ext cx="538560" cy="1270440"/>
          </a:xfrm>
          <a:custGeom>
            <a:avLst/>
            <a:gdLst/>
            <a:ahLst/>
            <a:rect l="0" t="0" r="r" b="b"/>
            <a:pathLst>
              <a:path w="1496" h="3529">
                <a:moveTo>
                  <a:pt x="1107" y="370"/>
                </a:moveTo>
                <a:lnTo>
                  <a:pt x="30" y="2943"/>
                </a:lnTo>
                <a:lnTo>
                  <a:pt x="0" y="3177"/>
                </a:lnTo>
                <a:lnTo>
                  <a:pt x="30" y="3410"/>
                </a:lnTo>
                <a:lnTo>
                  <a:pt x="132" y="3529"/>
                </a:lnTo>
                <a:lnTo>
                  <a:pt x="255" y="3472"/>
                </a:lnTo>
                <a:lnTo>
                  <a:pt x="1391" y="798"/>
                </a:lnTo>
                <a:lnTo>
                  <a:pt x="1488" y="467"/>
                </a:lnTo>
                <a:lnTo>
                  <a:pt x="1496" y="194"/>
                </a:lnTo>
                <a:lnTo>
                  <a:pt x="1448" y="17"/>
                </a:lnTo>
                <a:lnTo>
                  <a:pt x="1333" y="0"/>
                </a:lnTo>
                <a:lnTo>
                  <a:pt x="1227" y="79"/>
                </a:lnTo>
                <a:lnTo>
                  <a:pt x="1094" y="370"/>
                </a:lnTo>
                <a:lnTo>
                  <a:pt x="1107" y="370"/>
                </a:lnTo>
                <a:close/>
              </a:path>
            </a:pathLst>
          </a:custGeom>
          <a:gradFill rotWithShape="0">
            <a:gsLst>
              <a:gs pos="0">
                <a:srgbClr val="919191"/>
              </a:gs>
              <a:gs pos="100000">
                <a:srgbClr val="c8c8c8"/>
              </a:gs>
            </a:gsLst>
            <a:path path="rect">
              <a:fillToRect l="100000" t="0" r="0" b="100000"/>
            </a:path>
          </a:gradFill>
          <a:ln w="25560">
            <a:solidFill>
              <a:srgbClr val="919191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081840" y="3506760"/>
            <a:ext cx="960120" cy="1411920"/>
            <a:chOff x="6081840" y="3506760"/>
            <a:chExt cx="960120" cy="1411920"/>
          </a:xfrm>
        </p:grpSpPr>
        <p:sp>
          <p:nvSpPr>
            <p:cNvPr id="249" name=""/>
            <p:cNvSpPr/>
            <p:nvPr/>
          </p:nvSpPr>
          <p:spPr>
            <a:xfrm>
              <a:off x="6081840" y="3621240"/>
              <a:ext cx="516240" cy="1297440"/>
            </a:xfrm>
            <a:custGeom>
              <a:avLst/>
              <a:gdLst/>
              <a:ahLst/>
              <a:rect l="0" t="0" r="r" b="b"/>
              <a:pathLst>
                <a:path w="1434" h="3604">
                  <a:moveTo>
                    <a:pt x="1284" y="2673"/>
                  </a:moveTo>
                  <a:lnTo>
                    <a:pt x="238" y="79"/>
                  </a:lnTo>
                  <a:lnTo>
                    <a:pt x="141" y="0"/>
                  </a:lnTo>
                  <a:lnTo>
                    <a:pt x="48" y="79"/>
                  </a:lnTo>
                  <a:lnTo>
                    <a:pt x="0" y="317"/>
                  </a:lnTo>
                  <a:lnTo>
                    <a:pt x="22" y="612"/>
                  </a:lnTo>
                  <a:lnTo>
                    <a:pt x="1107" y="3348"/>
                  </a:lnTo>
                  <a:lnTo>
                    <a:pt x="1244" y="3587"/>
                  </a:lnTo>
                  <a:lnTo>
                    <a:pt x="1354" y="3604"/>
                  </a:lnTo>
                  <a:lnTo>
                    <a:pt x="1425" y="3485"/>
                  </a:lnTo>
                  <a:lnTo>
                    <a:pt x="1434" y="3207"/>
                  </a:lnTo>
                  <a:lnTo>
                    <a:pt x="1403" y="2952"/>
                  </a:lnTo>
                  <a:lnTo>
                    <a:pt x="1284" y="2633"/>
                  </a:lnTo>
                  <a:lnTo>
                    <a:pt x="1284" y="2673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c8c8c8"/>
                </a:gs>
              </a:gsLst>
              <a:path path="rect">
                <a:fillToRect l="0" t="0" r="100000" b="100000"/>
              </a:path>
            </a:gradFill>
            <a:ln w="25560">
              <a:solidFill>
                <a:srgbClr val="919191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6230880" y="3506760"/>
              <a:ext cx="811080" cy="63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 txBox="1"/>
          <p:nvPr/>
        </p:nvSpPr>
        <p:spPr>
          <a:xfrm>
            <a:off x="3984480" y="3357720"/>
            <a:ext cx="42552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0520" y="4788000"/>
            <a:ext cx="954360" cy="1408320"/>
          </a:xfrm>
          <a:custGeom>
            <a:avLst/>
            <a:gdLst/>
            <a:ahLst/>
            <a:rect l="0" t="0" r="r" b="b"/>
            <a:pathLst>
              <a:path w="2651" h="3912">
                <a:moveTo>
                  <a:pt x="1892" y="8"/>
                </a:moveTo>
                <a:lnTo>
                  <a:pt x="0" y="3273"/>
                </a:lnTo>
                <a:lnTo>
                  <a:pt x="52" y="3511"/>
                </a:lnTo>
                <a:lnTo>
                  <a:pt x="308" y="3819"/>
                </a:lnTo>
                <a:lnTo>
                  <a:pt x="657" y="3912"/>
                </a:lnTo>
                <a:lnTo>
                  <a:pt x="798" y="3833"/>
                </a:lnTo>
                <a:lnTo>
                  <a:pt x="2651" y="586"/>
                </a:lnTo>
                <a:lnTo>
                  <a:pt x="2558" y="432"/>
                </a:lnTo>
                <a:lnTo>
                  <a:pt x="2545" y="410"/>
                </a:lnTo>
                <a:lnTo>
                  <a:pt x="2382" y="317"/>
                </a:lnTo>
                <a:lnTo>
                  <a:pt x="2346" y="233"/>
                </a:lnTo>
                <a:lnTo>
                  <a:pt x="2095" y="114"/>
                </a:lnTo>
                <a:lnTo>
                  <a:pt x="1883" y="0"/>
                </a:lnTo>
                <a:lnTo>
                  <a:pt x="1892" y="8"/>
                </a:lnTo>
                <a:close/>
              </a:path>
            </a:pathLst>
          </a:custGeom>
          <a:gradFill rotWithShape="0">
            <a:gsLst>
              <a:gs pos="0">
                <a:srgbClr val="a2c1fe"/>
              </a:gs>
              <a:gs pos="100000">
                <a:srgbClr val="bdd3fe"/>
              </a:gs>
            </a:gsLst>
            <a:path path="rect">
              <a:fillToRect l="0" t="0" r="100000" b="100000"/>
            </a:path>
          </a:gradFill>
          <a:ln w="25560">
            <a:solidFill>
              <a:srgbClr val="919191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87760" y="4795920"/>
            <a:ext cx="249480" cy="200160"/>
          </a:xfrm>
          <a:custGeom>
            <a:avLst/>
            <a:gdLst/>
            <a:ahLst/>
            <a:rect l="0" t="0" r="r" b="b"/>
            <a:pathLst>
              <a:path fill="none" w="693" h="55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ubicBezTo>
                  <a:pt x="0" y="98"/>
                  <a:pt x="32" y="193"/>
                  <a:pt x="93" y="278"/>
                </a:cubicBezTo>
                <a:cubicBezTo>
                  <a:pt x="155" y="363"/>
                  <a:pt x="243" y="433"/>
                  <a:pt x="349" y="482"/>
                </a:cubicBezTo>
                <a:cubicBezTo>
                  <a:pt x="453" y="530"/>
                  <a:pt x="572" y="555"/>
                  <a:pt x="693" y="556"/>
                </a:cubicBezTo>
              </a:path>
            </a:pathLst>
          </a:custGeom>
          <a:ln w="25560">
            <a:solidFill>
              <a:srgbClr val="919191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05360" y="4871880"/>
            <a:ext cx="1111680" cy="1348200"/>
          </a:xfrm>
          <a:custGeom>
            <a:avLst/>
            <a:gdLst/>
            <a:ahLst/>
            <a:rect l="0" t="0" r="r" b="b"/>
            <a:pathLst>
              <a:path w="3088" h="3745">
                <a:moveTo>
                  <a:pt x="913" y="79"/>
                </a:moveTo>
                <a:lnTo>
                  <a:pt x="3057" y="3084"/>
                </a:lnTo>
                <a:lnTo>
                  <a:pt x="3088" y="3282"/>
                </a:lnTo>
                <a:lnTo>
                  <a:pt x="2916" y="3626"/>
                </a:lnTo>
                <a:lnTo>
                  <a:pt x="2639" y="3745"/>
                </a:lnTo>
                <a:lnTo>
                  <a:pt x="2347" y="3714"/>
                </a:lnTo>
                <a:lnTo>
                  <a:pt x="0" y="546"/>
                </a:lnTo>
                <a:lnTo>
                  <a:pt x="88" y="361"/>
                </a:lnTo>
                <a:lnTo>
                  <a:pt x="101" y="343"/>
                </a:lnTo>
                <a:lnTo>
                  <a:pt x="211" y="238"/>
                </a:lnTo>
                <a:lnTo>
                  <a:pt x="383" y="119"/>
                </a:lnTo>
                <a:lnTo>
                  <a:pt x="661" y="17"/>
                </a:lnTo>
                <a:lnTo>
                  <a:pt x="922" y="0"/>
                </a:lnTo>
                <a:lnTo>
                  <a:pt x="913" y="79"/>
                </a:lnTo>
                <a:close/>
              </a:path>
            </a:pathLst>
          </a:custGeom>
          <a:gradFill rotWithShape="0">
            <a:gsLst>
              <a:gs pos="0">
                <a:srgbClr val="a2c1fe"/>
              </a:gs>
              <a:gs pos="100000">
                <a:srgbClr val="bdd3fe"/>
              </a:gs>
            </a:gsLst>
            <a:path path="rect">
              <a:fillToRect l="0" t="0" r="100000" b="100000"/>
            </a:path>
          </a:gradFill>
          <a:ln w="25560">
            <a:solidFill>
              <a:srgbClr val="919191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44960" y="4903920"/>
            <a:ext cx="261360" cy="170640"/>
          </a:xfrm>
          <a:custGeom>
            <a:avLst/>
            <a:gdLst/>
            <a:ahLst/>
            <a:rect l="0" t="0" r="r" b="b"/>
            <a:pathLst>
              <a:path fill="none" w="726" h="474">
                <a:moveTo>
                  <a:pt x="0" y="428"/>
                </a:moveTo>
                <a:lnTo>
                  <a:pt x="0" y="428"/>
                </a:lnTo>
                <a:cubicBezTo>
                  <a:pt x="64" y="458"/>
                  <a:pt x="131" y="474"/>
                  <a:pt x="199" y="474"/>
                </a:cubicBezTo>
                <a:cubicBezTo>
                  <a:pt x="297" y="474"/>
                  <a:pt x="392" y="442"/>
                  <a:pt x="477" y="381"/>
                </a:cubicBezTo>
                <a:cubicBezTo>
                  <a:pt x="561" y="320"/>
                  <a:pt x="632" y="232"/>
                  <a:pt x="680" y="126"/>
                </a:cubicBezTo>
                <a:cubicBezTo>
                  <a:pt x="699" y="86"/>
                  <a:pt x="714" y="44"/>
                  <a:pt x="726" y="0"/>
                </a:cubicBezTo>
              </a:path>
            </a:pathLst>
          </a:custGeom>
          <a:ln w="25560">
            <a:solidFill>
              <a:srgbClr val="919191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586560" y="5925960"/>
            <a:ext cx="132120" cy="149760"/>
            <a:chOff x="6586560" y="5925960"/>
            <a:chExt cx="132120" cy="149760"/>
          </a:xfrm>
        </p:grpSpPr>
        <p:sp>
          <p:nvSpPr>
            <p:cNvPr id="257" name=""/>
            <p:cNvSpPr/>
            <p:nvPr/>
          </p:nvSpPr>
          <p:spPr>
            <a:xfrm>
              <a:off x="6586560" y="5925960"/>
              <a:ext cx="132120" cy="149760"/>
            </a:xfrm>
            <a:custGeom>
              <a:avLst/>
              <a:gdLst/>
              <a:ahLst/>
              <a:rect l="0" t="0" r="r" b="b"/>
              <a:pathLst>
                <a:path w="367" h="416">
                  <a:moveTo>
                    <a:pt x="367" y="234"/>
                  </a:moveTo>
                  <a:lnTo>
                    <a:pt x="349" y="83"/>
                  </a:lnTo>
                  <a:lnTo>
                    <a:pt x="256" y="0"/>
                  </a:lnTo>
                  <a:lnTo>
                    <a:pt x="149" y="0"/>
                  </a:lnTo>
                  <a:lnTo>
                    <a:pt x="57" y="39"/>
                  </a:lnTo>
                  <a:lnTo>
                    <a:pt x="0" y="137"/>
                  </a:lnTo>
                  <a:lnTo>
                    <a:pt x="0" y="261"/>
                  </a:lnTo>
                  <a:lnTo>
                    <a:pt x="48" y="376"/>
                  </a:lnTo>
                  <a:lnTo>
                    <a:pt x="149" y="416"/>
                  </a:lnTo>
                  <a:lnTo>
                    <a:pt x="331" y="363"/>
                  </a:lnTo>
                  <a:lnTo>
                    <a:pt x="367" y="247"/>
                  </a:lnTo>
                  <a:lnTo>
                    <a:pt x="367" y="234"/>
                  </a:lnTo>
                  <a:close/>
                </a:path>
              </a:pathLst>
            </a:custGeom>
            <a:blipFill rotWithShape="0">
              <a:blip r:embed="rId10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22920" y="5964120"/>
              <a:ext cx="95400" cy="11124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724800" y="5972040"/>
            <a:ext cx="132120" cy="151200"/>
            <a:chOff x="6724800" y="5972040"/>
            <a:chExt cx="132120" cy="151200"/>
          </a:xfrm>
        </p:grpSpPr>
        <p:sp>
          <p:nvSpPr>
            <p:cNvPr id="260" name=""/>
            <p:cNvSpPr/>
            <p:nvPr/>
          </p:nvSpPr>
          <p:spPr>
            <a:xfrm>
              <a:off x="6724800" y="5972040"/>
              <a:ext cx="132120" cy="151200"/>
            </a:xfrm>
            <a:custGeom>
              <a:avLst/>
              <a:gdLst/>
              <a:ahLst/>
              <a:rect l="0" t="0" r="r" b="b"/>
              <a:pathLst>
                <a:path w="367" h="420">
                  <a:moveTo>
                    <a:pt x="367" y="239"/>
                  </a:moveTo>
                  <a:lnTo>
                    <a:pt x="349" y="83"/>
                  </a:lnTo>
                  <a:lnTo>
                    <a:pt x="256" y="0"/>
                  </a:lnTo>
                  <a:lnTo>
                    <a:pt x="149" y="0"/>
                  </a:lnTo>
                  <a:lnTo>
                    <a:pt x="57" y="39"/>
                  </a:lnTo>
                  <a:lnTo>
                    <a:pt x="0" y="142"/>
                  </a:lnTo>
                  <a:lnTo>
                    <a:pt x="0" y="265"/>
                  </a:lnTo>
                  <a:lnTo>
                    <a:pt x="48" y="381"/>
                  </a:lnTo>
                  <a:lnTo>
                    <a:pt x="149" y="420"/>
                  </a:lnTo>
                  <a:lnTo>
                    <a:pt x="331" y="363"/>
                  </a:lnTo>
                  <a:lnTo>
                    <a:pt x="367" y="252"/>
                  </a:lnTo>
                  <a:lnTo>
                    <a:pt x="367" y="239"/>
                  </a:lnTo>
                  <a:close/>
                </a:path>
              </a:pathLst>
            </a:custGeom>
            <a:blipFill rotWithShape="0">
              <a:blip r:embed="rId11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61160" y="6010200"/>
              <a:ext cx="95400" cy="11268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595920" y="5753160"/>
            <a:ext cx="132120" cy="151200"/>
            <a:chOff x="6595920" y="5753160"/>
            <a:chExt cx="132120" cy="151200"/>
          </a:xfrm>
        </p:grpSpPr>
        <p:sp>
          <p:nvSpPr>
            <p:cNvPr id="263" name=""/>
            <p:cNvSpPr/>
            <p:nvPr/>
          </p:nvSpPr>
          <p:spPr>
            <a:xfrm>
              <a:off x="6595920" y="5753160"/>
              <a:ext cx="132120" cy="151200"/>
            </a:xfrm>
            <a:custGeom>
              <a:avLst/>
              <a:gdLst/>
              <a:ahLst/>
              <a:rect l="0" t="0" r="r" b="b"/>
              <a:pathLst>
                <a:path w="367" h="420">
                  <a:moveTo>
                    <a:pt x="367" y="239"/>
                  </a:moveTo>
                  <a:lnTo>
                    <a:pt x="349" y="83"/>
                  </a:lnTo>
                  <a:lnTo>
                    <a:pt x="256" y="0"/>
                  </a:lnTo>
                  <a:lnTo>
                    <a:pt x="149" y="0"/>
                  </a:lnTo>
                  <a:lnTo>
                    <a:pt x="57" y="39"/>
                  </a:lnTo>
                  <a:lnTo>
                    <a:pt x="0" y="142"/>
                  </a:lnTo>
                  <a:lnTo>
                    <a:pt x="0" y="265"/>
                  </a:lnTo>
                  <a:lnTo>
                    <a:pt x="48" y="381"/>
                  </a:lnTo>
                  <a:lnTo>
                    <a:pt x="149" y="420"/>
                  </a:lnTo>
                  <a:lnTo>
                    <a:pt x="331" y="363"/>
                  </a:lnTo>
                  <a:lnTo>
                    <a:pt x="367" y="252"/>
                  </a:lnTo>
                  <a:lnTo>
                    <a:pt x="367" y="239"/>
                  </a:lnTo>
                  <a:close/>
                </a:path>
              </a:pathLst>
            </a:custGeom>
            <a:blipFill rotWithShape="0">
              <a:blip r:embed="rId12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32640" y="5791320"/>
              <a:ext cx="95400" cy="11268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121360" y="5148360"/>
            <a:ext cx="349200" cy="399960"/>
          </a:xfrm>
          <a:prstGeom prst="ellipse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68840" y="4363920"/>
            <a:ext cx="347760" cy="401760"/>
          </a:xfrm>
          <a:prstGeom prst="ellipse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24520" y="3314880"/>
            <a:ext cx="351000" cy="399960"/>
          </a:xfrm>
          <a:prstGeom prst="ellipse">
            <a:avLst/>
          </a:pr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740120" y="4471920"/>
            <a:ext cx="149760" cy="224280"/>
            <a:chOff x="4740120" y="4471920"/>
            <a:chExt cx="149760" cy="224280"/>
          </a:xfrm>
        </p:grpSpPr>
        <p:sp>
          <p:nvSpPr>
            <p:cNvPr id="269" name=""/>
            <p:cNvSpPr/>
            <p:nvPr/>
          </p:nvSpPr>
          <p:spPr>
            <a:xfrm>
              <a:off x="4740120" y="4471920"/>
              <a:ext cx="149760" cy="224280"/>
            </a:xfrm>
            <a:custGeom>
              <a:avLst/>
              <a:gdLst/>
              <a:ahLst/>
              <a:rect l="0" t="0" r="r" b="b"/>
              <a:pathLst>
                <a:path w="416" h="623">
                  <a:moveTo>
                    <a:pt x="416" y="353"/>
                  </a:moveTo>
                  <a:lnTo>
                    <a:pt x="394" y="123"/>
                  </a:lnTo>
                  <a:lnTo>
                    <a:pt x="287" y="0"/>
                  </a:lnTo>
                  <a:lnTo>
                    <a:pt x="168" y="0"/>
                  </a:lnTo>
                  <a:lnTo>
                    <a:pt x="61" y="61"/>
                  </a:lnTo>
                  <a:lnTo>
                    <a:pt x="0" y="208"/>
                  </a:lnTo>
                  <a:lnTo>
                    <a:pt x="0" y="393"/>
                  </a:lnTo>
                  <a:lnTo>
                    <a:pt x="52" y="562"/>
                  </a:lnTo>
                  <a:lnTo>
                    <a:pt x="168" y="623"/>
                  </a:lnTo>
                  <a:lnTo>
                    <a:pt x="372" y="539"/>
                  </a:lnTo>
                  <a:lnTo>
                    <a:pt x="416" y="371"/>
                  </a:lnTo>
                  <a:lnTo>
                    <a:pt x="416" y="353"/>
                  </a:lnTo>
                  <a:close/>
                </a:path>
              </a:pathLst>
            </a:custGeom>
            <a:blipFill rotWithShape="0">
              <a:blip r:embed="rId16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62440" y="4551480"/>
              <a:ext cx="98640" cy="120960"/>
            </a:xfrm>
            <a:custGeom>
              <a:avLst/>
              <a:gdLst/>
              <a:ahLst/>
              <a:rect l="0" t="0" r="r" b="b"/>
              <a:pathLst>
                <a:path w="274" h="336">
                  <a:moveTo>
                    <a:pt x="110" y="336"/>
                  </a:moveTo>
                  <a:lnTo>
                    <a:pt x="150" y="314"/>
                  </a:lnTo>
                  <a:lnTo>
                    <a:pt x="195" y="252"/>
                  </a:lnTo>
                  <a:lnTo>
                    <a:pt x="274" y="252"/>
                  </a:lnTo>
                  <a:lnTo>
                    <a:pt x="274" y="167"/>
                  </a:lnTo>
                  <a:lnTo>
                    <a:pt x="274" y="83"/>
                  </a:lnTo>
                  <a:lnTo>
                    <a:pt x="274" y="0"/>
                  </a:lnTo>
                  <a:lnTo>
                    <a:pt x="195" y="0"/>
                  </a:lnTo>
                  <a:lnTo>
                    <a:pt x="110" y="83"/>
                  </a:lnTo>
                  <a:lnTo>
                    <a:pt x="195" y="110"/>
                  </a:lnTo>
                  <a:lnTo>
                    <a:pt x="274" y="167"/>
                  </a:lnTo>
                  <a:lnTo>
                    <a:pt x="195" y="252"/>
                  </a:lnTo>
                  <a:lnTo>
                    <a:pt x="110" y="252"/>
                  </a:lnTo>
                  <a:lnTo>
                    <a:pt x="30" y="252"/>
                  </a:lnTo>
                  <a:lnTo>
                    <a:pt x="0" y="296"/>
                  </a:lnTo>
                  <a:lnTo>
                    <a:pt x="22" y="327"/>
                  </a:lnTo>
                  <a:lnTo>
                    <a:pt x="110" y="336"/>
                  </a:lnTo>
                  <a:close/>
                </a:path>
              </a:pathLst>
            </a:custGeom>
            <a:solidFill>
              <a:srgbClr val="714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067280" y="5715000"/>
            <a:ext cx="149760" cy="260640"/>
            <a:chOff x="4067280" y="5715000"/>
            <a:chExt cx="149760" cy="260640"/>
          </a:xfrm>
        </p:grpSpPr>
        <p:sp>
          <p:nvSpPr>
            <p:cNvPr id="272" name=""/>
            <p:cNvSpPr/>
            <p:nvPr/>
          </p:nvSpPr>
          <p:spPr>
            <a:xfrm>
              <a:off x="4067280" y="5715000"/>
              <a:ext cx="149760" cy="260640"/>
            </a:xfrm>
            <a:custGeom>
              <a:avLst/>
              <a:gdLst/>
              <a:ahLst/>
              <a:rect l="0" t="0" r="r" b="b"/>
              <a:pathLst>
                <a:path w="416" h="724">
                  <a:moveTo>
                    <a:pt x="416" y="411"/>
                  </a:moveTo>
                  <a:lnTo>
                    <a:pt x="394" y="145"/>
                  </a:lnTo>
                  <a:lnTo>
                    <a:pt x="287" y="0"/>
                  </a:lnTo>
                  <a:lnTo>
                    <a:pt x="168" y="0"/>
                  </a:lnTo>
                  <a:lnTo>
                    <a:pt x="61" y="70"/>
                  </a:lnTo>
                  <a:lnTo>
                    <a:pt x="0" y="242"/>
                  </a:lnTo>
                  <a:lnTo>
                    <a:pt x="0" y="459"/>
                  </a:lnTo>
                  <a:lnTo>
                    <a:pt x="52" y="649"/>
                  </a:lnTo>
                  <a:lnTo>
                    <a:pt x="168" y="724"/>
                  </a:lnTo>
                  <a:lnTo>
                    <a:pt x="372" y="627"/>
                  </a:lnTo>
                  <a:lnTo>
                    <a:pt x="416" y="433"/>
                  </a:lnTo>
                  <a:lnTo>
                    <a:pt x="416" y="411"/>
                  </a:lnTo>
                  <a:close/>
                </a:path>
              </a:pathLst>
            </a:custGeom>
            <a:blipFill rotWithShape="0">
              <a:blip r:embed="rId17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89240" y="5808600"/>
              <a:ext cx="98640" cy="138600"/>
            </a:xfrm>
            <a:custGeom>
              <a:avLst/>
              <a:gdLst/>
              <a:ahLst/>
              <a:rect l="0" t="0" r="r" b="b"/>
              <a:pathLst>
                <a:path w="274" h="385">
                  <a:moveTo>
                    <a:pt x="110" y="385"/>
                  </a:moveTo>
                  <a:lnTo>
                    <a:pt x="150" y="363"/>
                  </a:lnTo>
                  <a:lnTo>
                    <a:pt x="195" y="287"/>
                  </a:lnTo>
                  <a:lnTo>
                    <a:pt x="274" y="287"/>
                  </a:lnTo>
                  <a:lnTo>
                    <a:pt x="274" y="195"/>
                  </a:lnTo>
                  <a:lnTo>
                    <a:pt x="274" y="98"/>
                  </a:lnTo>
                  <a:lnTo>
                    <a:pt x="274" y="0"/>
                  </a:lnTo>
                  <a:lnTo>
                    <a:pt x="195" y="0"/>
                  </a:lnTo>
                  <a:lnTo>
                    <a:pt x="110" y="98"/>
                  </a:lnTo>
                  <a:lnTo>
                    <a:pt x="195" y="128"/>
                  </a:lnTo>
                  <a:lnTo>
                    <a:pt x="274" y="195"/>
                  </a:lnTo>
                  <a:lnTo>
                    <a:pt x="195" y="287"/>
                  </a:lnTo>
                  <a:lnTo>
                    <a:pt x="110" y="287"/>
                  </a:lnTo>
                  <a:lnTo>
                    <a:pt x="30" y="287"/>
                  </a:lnTo>
                  <a:lnTo>
                    <a:pt x="0" y="337"/>
                  </a:lnTo>
                  <a:lnTo>
                    <a:pt x="22" y="376"/>
                  </a:lnTo>
                  <a:lnTo>
                    <a:pt x="110" y="385"/>
                  </a:lnTo>
                  <a:close/>
                </a:path>
              </a:pathLst>
            </a:custGeom>
            <a:solidFill>
              <a:srgbClr val="714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892680" y="5884920"/>
            <a:ext cx="149760" cy="224280"/>
            <a:chOff x="3892680" y="5884920"/>
            <a:chExt cx="149760" cy="224280"/>
          </a:xfrm>
        </p:grpSpPr>
        <p:sp>
          <p:nvSpPr>
            <p:cNvPr id="275" name=""/>
            <p:cNvSpPr/>
            <p:nvPr/>
          </p:nvSpPr>
          <p:spPr>
            <a:xfrm>
              <a:off x="3892680" y="5884920"/>
              <a:ext cx="149760" cy="224280"/>
            </a:xfrm>
            <a:custGeom>
              <a:avLst/>
              <a:gdLst/>
              <a:ahLst/>
              <a:rect l="0" t="0" r="r" b="b"/>
              <a:pathLst>
                <a:path w="416" h="623">
                  <a:moveTo>
                    <a:pt x="416" y="353"/>
                  </a:moveTo>
                  <a:lnTo>
                    <a:pt x="394" y="123"/>
                  </a:lnTo>
                  <a:lnTo>
                    <a:pt x="287" y="0"/>
                  </a:lnTo>
                  <a:lnTo>
                    <a:pt x="168" y="0"/>
                  </a:lnTo>
                  <a:lnTo>
                    <a:pt x="61" y="61"/>
                  </a:lnTo>
                  <a:lnTo>
                    <a:pt x="0" y="208"/>
                  </a:lnTo>
                  <a:lnTo>
                    <a:pt x="0" y="393"/>
                  </a:lnTo>
                  <a:lnTo>
                    <a:pt x="52" y="562"/>
                  </a:lnTo>
                  <a:lnTo>
                    <a:pt x="168" y="623"/>
                  </a:lnTo>
                  <a:lnTo>
                    <a:pt x="372" y="539"/>
                  </a:lnTo>
                  <a:lnTo>
                    <a:pt x="416" y="371"/>
                  </a:lnTo>
                  <a:lnTo>
                    <a:pt x="416" y="353"/>
                  </a:lnTo>
                  <a:close/>
                </a:path>
              </a:pathLst>
            </a:custGeom>
            <a:blipFill rotWithShape="0">
              <a:blip r:embed="rId18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14640" y="5965920"/>
              <a:ext cx="98640" cy="120960"/>
            </a:xfrm>
            <a:custGeom>
              <a:avLst/>
              <a:gdLst/>
              <a:ahLst/>
              <a:rect l="0" t="0" r="r" b="b"/>
              <a:pathLst>
                <a:path w="274" h="336">
                  <a:moveTo>
                    <a:pt x="110" y="336"/>
                  </a:moveTo>
                  <a:lnTo>
                    <a:pt x="150" y="314"/>
                  </a:lnTo>
                  <a:lnTo>
                    <a:pt x="195" y="252"/>
                  </a:lnTo>
                  <a:lnTo>
                    <a:pt x="274" y="252"/>
                  </a:lnTo>
                  <a:lnTo>
                    <a:pt x="274" y="167"/>
                  </a:lnTo>
                  <a:lnTo>
                    <a:pt x="274" y="83"/>
                  </a:lnTo>
                  <a:lnTo>
                    <a:pt x="274" y="0"/>
                  </a:lnTo>
                  <a:lnTo>
                    <a:pt x="195" y="0"/>
                  </a:lnTo>
                  <a:lnTo>
                    <a:pt x="110" y="83"/>
                  </a:lnTo>
                  <a:lnTo>
                    <a:pt x="195" y="110"/>
                  </a:lnTo>
                  <a:lnTo>
                    <a:pt x="274" y="167"/>
                  </a:lnTo>
                  <a:lnTo>
                    <a:pt x="195" y="252"/>
                  </a:lnTo>
                  <a:lnTo>
                    <a:pt x="110" y="252"/>
                  </a:lnTo>
                  <a:lnTo>
                    <a:pt x="30" y="252"/>
                  </a:lnTo>
                  <a:lnTo>
                    <a:pt x="0" y="296"/>
                  </a:lnTo>
                  <a:lnTo>
                    <a:pt x="22" y="327"/>
                  </a:lnTo>
                  <a:lnTo>
                    <a:pt x="110" y="336"/>
                  </a:lnTo>
                  <a:close/>
                </a:path>
              </a:pathLst>
            </a:custGeom>
            <a:solidFill>
              <a:srgbClr val="714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238720" y="5256360"/>
            <a:ext cx="146520" cy="201960"/>
            <a:chOff x="5238720" y="5256360"/>
            <a:chExt cx="146520" cy="201960"/>
          </a:xfrm>
        </p:grpSpPr>
        <p:sp>
          <p:nvSpPr>
            <p:cNvPr id="278" name=""/>
            <p:cNvSpPr/>
            <p:nvPr/>
          </p:nvSpPr>
          <p:spPr>
            <a:xfrm>
              <a:off x="5238720" y="5256360"/>
              <a:ext cx="146520" cy="201960"/>
            </a:xfrm>
            <a:custGeom>
              <a:avLst/>
              <a:gdLst/>
              <a:ahLst/>
              <a:rect l="0" t="0" r="r" b="b"/>
              <a:pathLst>
                <a:path w="407" h="561">
                  <a:moveTo>
                    <a:pt x="407" y="318"/>
                  </a:moveTo>
                  <a:lnTo>
                    <a:pt x="385" y="110"/>
                  </a:lnTo>
                  <a:lnTo>
                    <a:pt x="278" y="0"/>
                  </a:lnTo>
                  <a:lnTo>
                    <a:pt x="168" y="0"/>
                  </a:lnTo>
                  <a:lnTo>
                    <a:pt x="61" y="57"/>
                  </a:lnTo>
                  <a:lnTo>
                    <a:pt x="0" y="185"/>
                  </a:lnTo>
                  <a:lnTo>
                    <a:pt x="0" y="358"/>
                  </a:lnTo>
                  <a:lnTo>
                    <a:pt x="52" y="503"/>
                  </a:lnTo>
                  <a:lnTo>
                    <a:pt x="168" y="561"/>
                  </a:lnTo>
                  <a:lnTo>
                    <a:pt x="363" y="486"/>
                  </a:lnTo>
                  <a:lnTo>
                    <a:pt x="407" y="336"/>
                  </a:lnTo>
                  <a:lnTo>
                    <a:pt x="407" y="318"/>
                  </a:lnTo>
                  <a:close/>
                </a:path>
              </a:pathLst>
            </a:custGeom>
            <a:blipFill rotWithShape="0">
              <a:blip r:embed="rId19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94160" y="5262480"/>
              <a:ext cx="60840" cy="186120"/>
            </a:xfrm>
            <a:custGeom>
              <a:avLst/>
              <a:gdLst/>
              <a:ahLst/>
              <a:rect l="0" t="0" r="r" b="b"/>
              <a:pathLst>
                <a:path w="169" h="517">
                  <a:moveTo>
                    <a:pt x="84" y="0"/>
                  </a:moveTo>
                  <a:lnTo>
                    <a:pt x="169" y="127"/>
                  </a:lnTo>
                  <a:lnTo>
                    <a:pt x="169" y="261"/>
                  </a:lnTo>
                  <a:lnTo>
                    <a:pt x="169" y="390"/>
                  </a:lnTo>
                  <a:lnTo>
                    <a:pt x="84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84" y="261"/>
                  </a:lnTo>
                  <a:lnTo>
                    <a:pt x="0" y="261"/>
                  </a:lnTo>
                  <a:lnTo>
                    <a:pt x="0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714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216400" y="5759280"/>
            <a:ext cx="347760" cy="401760"/>
          </a:xfrm>
          <a:prstGeom prst="ellipse">
            <a:avLst/>
          </a:prstGeom>
          <a:blipFill rotWithShape="0">
            <a:blip r:embed="rId2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1920" y="181080"/>
            <a:ext cx="4856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Fluorescence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Cell S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871640" y="3765600"/>
            <a:ext cx="2030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harged P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81240" y="5232240"/>
            <a:ext cx="24256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ingle cells s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nto test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14960" y="2070000"/>
            <a:ext cx="116280" cy="114840"/>
          </a:xfrm>
          <a:custGeom>
            <a:avLst/>
            <a:gdLst/>
            <a:ahLst/>
            <a:rect l="0" t="0" r="r" b="b"/>
            <a:pathLst>
              <a:path w="323" h="319">
                <a:moveTo>
                  <a:pt x="164" y="0"/>
                </a:moveTo>
                <a:lnTo>
                  <a:pt x="323" y="79"/>
                </a:lnTo>
                <a:lnTo>
                  <a:pt x="323" y="159"/>
                </a:lnTo>
                <a:lnTo>
                  <a:pt x="323" y="240"/>
                </a:lnTo>
                <a:lnTo>
                  <a:pt x="164" y="319"/>
                </a:lnTo>
                <a:lnTo>
                  <a:pt x="0" y="319"/>
                </a:lnTo>
                <a:lnTo>
                  <a:pt x="0" y="240"/>
                </a:lnTo>
                <a:lnTo>
                  <a:pt x="164" y="159"/>
                </a:lnTo>
                <a:lnTo>
                  <a:pt x="0" y="159"/>
                </a:lnTo>
                <a:lnTo>
                  <a:pt x="0" y="0"/>
                </a:lnTo>
                <a:lnTo>
                  <a:pt x="164" y="0"/>
                </a:lnTo>
                <a:close/>
              </a:path>
            </a:pathLst>
          </a:custGeom>
          <a:solidFill>
            <a:srgbClr val="7144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97600" y="1774800"/>
            <a:ext cx="186120" cy="349560"/>
          </a:xfrm>
          <a:custGeom>
            <a:avLst/>
            <a:gdLst/>
            <a:ahLst/>
            <a:rect l="0" t="0" r="r" b="b"/>
            <a:pathLst>
              <a:path w="517" h="971">
                <a:moveTo>
                  <a:pt x="0" y="0"/>
                </a:moveTo>
                <a:lnTo>
                  <a:pt x="517" y="0"/>
                </a:lnTo>
                <a:lnTo>
                  <a:pt x="517" y="971"/>
                </a:lnTo>
                <a:lnTo>
                  <a:pt x="0" y="97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2b2b2b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135920" y="1749600"/>
            <a:ext cx="17762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LS 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57720" y="2637000"/>
            <a:ext cx="28908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uorescence 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884920" y="1898640"/>
            <a:ext cx="981000" cy="2556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896080" y="1809720"/>
            <a:ext cx="971280" cy="5724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905440" y="1989000"/>
            <a:ext cx="966960" cy="1764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208480" y="1962000"/>
            <a:ext cx="360360" cy="55404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3160" y="1936800"/>
            <a:ext cx="649440" cy="49680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51480" y="1971720"/>
            <a:ext cx="633240" cy="501480"/>
          </a:xfrm>
          <a:prstGeom prst="line">
            <a:avLst/>
          </a:prstGeom>
          <a:ln w="25560">
            <a:solidFill>
              <a:srgbClr val="ff393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11880" y="1984320"/>
            <a:ext cx="539640" cy="486000"/>
          </a:xfrm>
          <a:prstGeom prst="line">
            <a:avLst/>
          </a:prstGeom>
          <a:ln w="25560">
            <a:solidFill>
              <a:srgbClr val="741b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70480" y="2008080"/>
            <a:ext cx="397080" cy="443160"/>
          </a:xfrm>
          <a:prstGeom prst="line">
            <a:avLst/>
          </a:prstGeom>
          <a:ln w="255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19720" y="2014560"/>
            <a:ext cx="318960" cy="41256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08720" y="2376360"/>
            <a:ext cx="770040" cy="276120"/>
          </a:xfrm>
          <a:prstGeom prst="ellipse">
            <a:avLst/>
          </a:prstGeom>
          <a:gradFill rotWithShape="0">
            <a:gsLst>
              <a:gs pos="0">
                <a:srgbClr val="dadada"/>
              </a:gs>
              <a:gs pos="100000">
                <a:srgbClr val="2b2b2b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581800" y="2419200"/>
            <a:ext cx="601200" cy="119160"/>
            <a:chOff x="5581800" y="2419200"/>
            <a:chExt cx="601200" cy="119160"/>
          </a:xfrm>
        </p:grpSpPr>
        <p:sp>
          <p:nvSpPr>
            <p:cNvPr id="299" name=""/>
            <p:cNvSpPr/>
            <p:nvPr/>
          </p:nvSpPr>
          <p:spPr>
            <a:xfrm>
              <a:off x="5581800" y="2457360"/>
              <a:ext cx="127080" cy="81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26160" y="2419200"/>
              <a:ext cx="133200" cy="87480"/>
            </a:xfrm>
            <a:prstGeom prst="ellipse">
              <a:avLst/>
            </a:prstGeom>
            <a:solidFill>
              <a:srgbClr val="00ae00"/>
            </a:solidFill>
            <a:ln w="38160">
              <a:solidFill>
                <a:srgbClr val="00ae00"/>
              </a:solidFill>
              <a:round/>
            </a:ln>
          </p:spPr>
          <p:txBody>
            <a:bodyPr lIns="109080" rIns="10908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92840" y="2419200"/>
              <a:ext cx="133200" cy="85680"/>
            </a:xfrm>
            <a:prstGeom prst="ellipse">
              <a:avLst/>
            </a:prstGeom>
            <a:solidFill>
              <a:srgbClr val="741bff"/>
            </a:solidFill>
            <a:ln w="12600">
              <a:solidFill>
                <a:srgbClr val="741bff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9800" y="2436840"/>
              <a:ext cx="133200" cy="85680"/>
            </a:xfrm>
            <a:prstGeom prst="ellipse">
              <a:avLst/>
            </a:prstGeom>
            <a:solidFill>
              <a:srgbClr val="ff3938"/>
            </a:solidFill>
            <a:ln w="12600">
              <a:solidFill>
                <a:srgbClr val="ff3938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991040" y="3276720"/>
            <a:ext cx="3657960" cy="1010160"/>
          </a:xfrm>
          <a:custGeom>
            <a:avLst/>
            <a:gdLst/>
            <a:ahLst/>
            <a:rect l="0" t="0" r="r" b="b"/>
            <a:pathLst>
              <a:path w="10161" h="2806">
                <a:moveTo>
                  <a:pt x="0" y="0"/>
                </a:moveTo>
                <a:lnTo>
                  <a:pt x="10002" y="0"/>
                </a:lnTo>
                <a:lnTo>
                  <a:pt x="9737" y="635"/>
                </a:lnTo>
                <a:lnTo>
                  <a:pt x="10055" y="741"/>
                </a:lnTo>
                <a:lnTo>
                  <a:pt x="9896" y="741"/>
                </a:lnTo>
                <a:lnTo>
                  <a:pt x="9631" y="1641"/>
                </a:lnTo>
                <a:lnTo>
                  <a:pt x="10161" y="2224"/>
                </a:lnTo>
                <a:lnTo>
                  <a:pt x="10161" y="2436"/>
                </a:lnTo>
                <a:lnTo>
                  <a:pt x="10108" y="2806"/>
                </a:lnTo>
                <a:lnTo>
                  <a:pt x="1878" y="280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ae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tical 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379760" y="3333600"/>
            <a:ext cx="2133720" cy="6094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303800" y="3409920"/>
            <a:ext cx="2133720" cy="60948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50000">
                <a:srgbClr val="cecece"/>
              </a:gs>
              <a:gs pos="100000">
                <a:srgbClr val="292929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42840" y="3238560"/>
            <a:ext cx="4724640" cy="3410280"/>
          </a:xfrm>
          <a:custGeom>
            <a:avLst/>
            <a:gdLst/>
            <a:ahLst/>
            <a:rect l="0" t="0" r="r" b="b"/>
            <a:pathLst>
              <a:path w="13124" h="9473">
                <a:moveTo>
                  <a:pt x="317" y="0"/>
                </a:moveTo>
                <a:lnTo>
                  <a:pt x="11483" y="0"/>
                </a:lnTo>
                <a:lnTo>
                  <a:pt x="13124" y="2751"/>
                </a:lnTo>
                <a:lnTo>
                  <a:pt x="13071" y="9420"/>
                </a:lnTo>
                <a:lnTo>
                  <a:pt x="12595" y="9049"/>
                </a:lnTo>
                <a:lnTo>
                  <a:pt x="12171" y="9473"/>
                </a:lnTo>
                <a:lnTo>
                  <a:pt x="11642" y="8785"/>
                </a:lnTo>
                <a:lnTo>
                  <a:pt x="11166" y="9314"/>
                </a:lnTo>
                <a:lnTo>
                  <a:pt x="10690" y="8520"/>
                </a:lnTo>
                <a:lnTo>
                  <a:pt x="10690" y="2910"/>
                </a:lnTo>
                <a:lnTo>
                  <a:pt x="1270" y="2910"/>
                </a:lnTo>
                <a:lnTo>
                  <a:pt x="370" y="2487"/>
                </a:lnTo>
                <a:lnTo>
                  <a:pt x="1428" y="1852"/>
                </a:lnTo>
                <a:lnTo>
                  <a:pt x="476" y="1164"/>
                </a:lnTo>
                <a:lnTo>
                  <a:pt x="635" y="635"/>
                </a:lnTo>
                <a:lnTo>
                  <a:pt x="0" y="370"/>
                </a:lnTo>
                <a:lnTo>
                  <a:pt x="317" y="0"/>
                </a:lnTo>
                <a:close/>
              </a:path>
            </a:pathLst>
          </a:custGeom>
          <a:gradFill rotWithShape="0">
            <a:gsLst>
              <a:gs pos="0">
                <a:srgbClr val="618ffd"/>
              </a:gs>
              <a:gs pos="50000">
                <a:srgbClr val="5780e3"/>
              </a:gs>
              <a:gs pos="100000">
                <a:srgbClr val="618ffd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887480" y="1344600"/>
            <a:ext cx="56736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chroic Filter/Mirror at 45 d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805120" y="6288120"/>
            <a:ext cx="23828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flected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005520" y="2671920"/>
            <a:ext cx="2593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mitted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85720" y="2671920"/>
            <a:ext cx="1865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ght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Band Pass 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91080" y="3165480"/>
            <a:ext cx="3183120" cy="876600"/>
          </a:xfrm>
          <a:custGeom>
            <a:avLst/>
            <a:gdLst/>
            <a:ahLst/>
            <a:rect l="0" t="0" r="r" b="b"/>
            <a:pathLst>
              <a:path w="8842" h="2435">
                <a:moveTo>
                  <a:pt x="0" y="2435"/>
                </a:moveTo>
                <a:lnTo>
                  <a:pt x="8705" y="2435"/>
                </a:lnTo>
                <a:lnTo>
                  <a:pt x="8472" y="1883"/>
                </a:lnTo>
                <a:lnTo>
                  <a:pt x="8749" y="1791"/>
                </a:lnTo>
                <a:lnTo>
                  <a:pt x="8613" y="1791"/>
                </a:lnTo>
                <a:lnTo>
                  <a:pt x="8383" y="1009"/>
                </a:lnTo>
                <a:lnTo>
                  <a:pt x="8842" y="507"/>
                </a:lnTo>
                <a:lnTo>
                  <a:pt x="8842" y="321"/>
                </a:lnTo>
                <a:lnTo>
                  <a:pt x="8798" y="0"/>
                </a:lnTo>
                <a:lnTo>
                  <a:pt x="44" y="0"/>
                </a:lnTo>
                <a:lnTo>
                  <a:pt x="0" y="2435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125960" y="2681280"/>
            <a:ext cx="649080" cy="1876320"/>
            <a:chOff x="4125960" y="2681280"/>
            <a:chExt cx="649080" cy="1876320"/>
          </a:xfrm>
        </p:grpSpPr>
        <p:sp>
          <p:nvSpPr>
            <p:cNvPr id="315" name=""/>
            <p:cNvSpPr/>
            <p:nvPr/>
          </p:nvSpPr>
          <p:spPr>
            <a:xfrm>
              <a:off x="4243320" y="2681280"/>
              <a:ext cx="531720" cy="185724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25960" y="2700360"/>
              <a:ext cx="533520" cy="185724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 txBox="1"/>
          <p:nvPr/>
        </p:nvSpPr>
        <p:spPr>
          <a:xfrm>
            <a:off x="5819760" y="2546280"/>
            <a:ext cx="21733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mitted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104840" y="2448000"/>
            <a:ext cx="2292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ite Ligh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43080" y="3165480"/>
            <a:ext cx="3181680" cy="876600"/>
          </a:xfrm>
          <a:custGeom>
            <a:avLst/>
            <a:gdLst/>
            <a:ahLst/>
            <a:rect l="0" t="0" r="r" b="b"/>
            <a:pathLst>
              <a:path w="8838" h="2435">
                <a:moveTo>
                  <a:pt x="8838" y="0"/>
                </a:moveTo>
                <a:lnTo>
                  <a:pt x="136" y="0"/>
                </a:lnTo>
                <a:lnTo>
                  <a:pt x="370" y="551"/>
                </a:lnTo>
                <a:lnTo>
                  <a:pt x="92" y="643"/>
                </a:lnTo>
                <a:lnTo>
                  <a:pt x="229" y="643"/>
                </a:lnTo>
                <a:lnTo>
                  <a:pt x="458" y="1425"/>
                </a:lnTo>
                <a:lnTo>
                  <a:pt x="0" y="1928"/>
                </a:lnTo>
                <a:lnTo>
                  <a:pt x="0" y="2113"/>
                </a:lnTo>
                <a:lnTo>
                  <a:pt x="44" y="2435"/>
                </a:lnTo>
                <a:lnTo>
                  <a:pt x="8793" y="2435"/>
                </a:lnTo>
                <a:lnTo>
                  <a:pt x="8838" y="0"/>
                </a:lnTo>
                <a:close/>
              </a:path>
            </a:pathLst>
          </a:custGeom>
          <a:gradFill rotWithShape="0">
            <a:gsLst>
              <a:gs pos="0">
                <a:srgbClr val="5780e3"/>
              </a:gs>
              <a:gs pos="50000">
                <a:srgbClr val="618ffd"/>
              </a:gs>
              <a:gs pos="100000">
                <a:srgbClr val="5780e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928960" y="1962000"/>
            <a:ext cx="32688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630 nm BandPass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956120" y="4302000"/>
            <a:ext cx="2530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620 -640 nm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676440" y="59040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Long Pass Fil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81360" y="2273400"/>
            <a:ext cx="2196000" cy="605160"/>
          </a:xfrm>
          <a:custGeom>
            <a:avLst/>
            <a:gdLst/>
            <a:ahLst/>
            <a:rect l="0" t="0" r="r" b="b"/>
            <a:pathLst>
              <a:path w="6100" h="1681">
                <a:moveTo>
                  <a:pt x="0" y="0"/>
                </a:moveTo>
                <a:lnTo>
                  <a:pt x="6003" y="0"/>
                </a:lnTo>
                <a:lnTo>
                  <a:pt x="5844" y="379"/>
                </a:lnTo>
                <a:lnTo>
                  <a:pt x="6038" y="445"/>
                </a:lnTo>
                <a:lnTo>
                  <a:pt x="5941" y="445"/>
                </a:lnTo>
                <a:lnTo>
                  <a:pt x="5783" y="984"/>
                </a:lnTo>
                <a:lnTo>
                  <a:pt x="6100" y="1332"/>
                </a:lnTo>
                <a:lnTo>
                  <a:pt x="6100" y="1460"/>
                </a:lnTo>
                <a:lnTo>
                  <a:pt x="6069" y="1681"/>
                </a:lnTo>
                <a:lnTo>
                  <a:pt x="30" y="16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ae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260960" y="1940040"/>
            <a:ext cx="447840" cy="1293840"/>
            <a:chOff x="4260960" y="1940040"/>
            <a:chExt cx="447840" cy="1293840"/>
          </a:xfrm>
        </p:grpSpPr>
        <p:sp>
          <p:nvSpPr>
            <p:cNvPr id="325" name=""/>
            <p:cNvSpPr/>
            <p:nvPr/>
          </p:nvSpPr>
          <p:spPr>
            <a:xfrm>
              <a:off x="4341960" y="1940040"/>
              <a:ext cx="366840" cy="128124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60960" y="1952640"/>
              <a:ext cx="368280" cy="128124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 txBox="1"/>
          <p:nvPr/>
        </p:nvSpPr>
        <p:spPr>
          <a:xfrm>
            <a:off x="5429160" y="1776240"/>
            <a:ext cx="212256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mitted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2178000" y="1708200"/>
            <a:ext cx="151452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gh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73400" y="2273400"/>
            <a:ext cx="2194200" cy="605160"/>
          </a:xfrm>
          <a:custGeom>
            <a:avLst/>
            <a:gdLst/>
            <a:ahLst/>
            <a:rect l="0" t="0" r="r" b="b"/>
            <a:pathLst>
              <a:path w="6095" h="1681">
                <a:moveTo>
                  <a:pt x="6095" y="0"/>
                </a:moveTo>
                <a:lnTo>
                  <a:pt x="97" y="0"/>
                </a:lnTo>
                <a:lnTo>
                  <a:pt x="255" y="379"/>
                </a:lnTo>
                <a:lnTo>
                  <a:pt x="61" y="445"/>
                </a:lnTo>
                <a:lnTo>
                  <a:pt x="158" y="445"/>
                </a:lnTo>
                <a:lnTo>
                  <a:pt x="317" y="984"/>
                </a:lnTo>
                <a:lnTo>
                  <a:pt x="0" y="1332"/>
                </a:lnTo>
                <a:lnTo>
                  <a:pt x="0" y="1460"/>
                </a:lnTo>
                <a:lnTo>
                  <a:pt x="30" y="1681"/>
                </a:lnTo>
                <a:lnTo>
                  <a:pt x="6064" y="1681"/>
                </a:lnTo>
                <a:lnTo>
                  <a:pt x="6095" y="0"/>
                </a:lnTo>
                <a:close/>
              </a:path>
            </a:pathLst>
          </a:custGeom>
          <a:gradFill rotWithShape="0">
            <a:gsLst>
              <a:gs pos="0">
                <a:srgbClr val="5780e3"/>
              </a:gs>
              <a:gs pos="50000">
                <a:srgbClr val="618ffd"/>
              </a:gs>
              <a:gs pos="100000">
                <a:srgbClr val="5780e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738600" y="1523880"/>
            <a:ext cx="274968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520 nm Long Pass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834080" y="3057480"/>
            <a:ext cx="1519200" cy="6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gt;520 nm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76800" y="5267160"/>
            <a:ext cx="2196000" cy="605160"/>
          </a:xfrm>
          <a:custGeom>
            <a:avLst/>
            <a:gdLst/>
            <a:ahLst/>
            <a:rect l="0" t="0" r="r" b="b"/>
            <a:pathLst>
              <a:path w="6100" h="1681">
                <a:moveTo>
                  <a:pt x="0" y="0"/>
                </a:moveTo>
                <a:lnTo>
                  <a:pt x="6003" y="0"/>
                </a:lnTo>
                <a:lnTo>
                  <a:pt x="5844" y="379"/>
                </a:lnTo>
                <a:lnTo>
                  <a:pt x="6038" y="445"/>
                </a:lnTo>
                <a:lnTo>
                  <a:pt x="5941" y="445"/>
                </a:lnTo>
                <a:lnTo>
                  <a:pt x="5783" y="984"/>
                </a:lnTo>
                <a:lnTo>
                  <a:pt x="6100" y="1332"/>
                </a:lnTo>
                <a:lnTo>
                  <a:pt x="6100" y="1460"/>
                </a:lnTo>
                <a:lnTo>
                  <a:pt x="6069" y="1681"/>
                </a:lnTo>
                <a:lnTo>
                  <a:pt x="30" y="16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ced6e"/>
              </a:gs>
              <a:gs pos="100000">
                <a:srgbClr val="eaec5e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956040" y="4933800"/>
            <a:ext cx="447840" cy="1294200"/>
            <a:chOff x="3956040" y="4933800"/>
            <a:chExt cx="447840" cy="1294200"/>
          </a:xfrm>
        </p:grpSpPr>
        <p:sp>
          <p:nvSpPr>
            <p:cNvPr id="334" name=""/>
            <p:cNvSpPr/>
            <p:nvPr/>
          </p:nvSpPr>
          <p:spPr>
            <a:xfrm>
              <a:off x="4037040" y="4933800"/>
              <a:ext cx="366840" cy="128124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956040" y="4946760"/>
              <a:ext cx="368280" cy="128124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 txBox="1"/>
          <p:nvPr/>
        </p:nvSpPr>
        <p:spPr>
          <a:xfrm>
            <a:off x="5124600" y="4770360"/>
            <a:ext cx="212256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mitted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873080" y="4702320"/>
            <a:ext cx="151452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gh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68480" y="5267160"/>
            <a:ext cx="2194200" cy="605160"/>
          </a:xfrm>
          <a:custGeom>
            <a:avLst/>
            <a:gdLst/>
            <a:ahLst/>
            <a:rect l="0" t="0" r="r" b="b"/>
            <a:pathLst>
              <a:path w="6095" h="1681">
                <a:moveTo>
                  <a:pt x="6095" y="0"/>
                </a:moveTo>
                <a:lnTo>
                  <a:pt x="97" y="0"/>
                </a:lnTo>
                <a:lnTo>
                  <a:pt x="255" y="379"/>
                </a:lnTo>
                <a:lnTo>
                  <a:pt x="61" y="445"/>
                </a:lnTo>
                <a:lnTo>
                  <a:pt x="158" y="445"/>
                </a:lnTo>
                <a:lnTo>
                  <a:pt x="317" y="984"/>
                </a:lnTo>
                <a:lnTo>
                  <a:pt x="0" y="1332"/>
                </a:lnTo>
                <a:lnTo>
                  <a:pt x="0" y="1460"/>
                </a:lnTo>
                <a:lnTo>
                  <a:pt x="30" y="1681"/>
                </a:lnTo>
                <a:lnTo>
                  <a:pt x="6064" y="1681"/>
                </a:lnTo>
                <a:lnTo>
                  <a:pt x="6095" y="0"/>
                </a:lnTo>
                <a:close/>
              </a:path>
            </a:pathLst>
          </a:custGeom>
          <a:gradFill rotWithShape="0">
            <a:gsLst>
              <a:gs pos="0">
                <a:srgbClr val="5780e3"/>
              </a:gs>
              <a:gs pos="50000">
                <a:srgbClr val="618ffd"/>
              </a:gs>
              <a:gs pos="100000">
                <a:srgbClr val="5780e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433680" y="4518000"/>
            <a:ext cx="279252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575 nm Short Pass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29160" y="6051600"/>
            <a:ext cx="1519200" cy="6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575 nm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76440" y="369576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Short Pass Fil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227720" y="949320"/>
            <a:ext cx="549720" cy="520920"/>
          </a:xfrm>
          <a:custGeom>
            <a:avLst/>
            <a:gdLst/>
            <a:ahLst/>
            <a:rect l="0" t="0" r="r" b="b"/>
            <a:pathLst>
              <a:path w="1527" h="1447">
                <a:moveTo>
                  <a:pt x="0" y="0"/>
                </a:moveTo>
                <a:lnTo>
                  <a:pt x="1527" y="0"/>
                </a:lnTo>
                <a:lnTo>
                  <a:pt x="1527" y="1447"/>
                </a:lnTo>
                <a:lnTo>
                  <a:pt x="0" y="144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19191"/>
              </a:gs>
              <a:gs pos="100000">
                <a:srgbClr val="deded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78320" y="4005360"/>
            <a:ext cx="453960" cy="0"/>
          </a:xfrm>
          <a:prstGeom prst="line">
            <a:avLst/>
          </a:prstGeom>
          <a:ln w="76320">
            <a:solidFill>
              <a:srgbClr val="00a9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910120" y="3068640"/>
            <a:ext cx="648000" cy="0"/>
          </a:xfrm>
          <a:prstGeom prst="line">
            <a:avLst/>
          </a:prstGeom>
          <a:ln w="38160">
            <a:solidFill>
              <a:srgbClr val="04d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413480" y="2319480"/>
            <a:ext cx="498600" cy="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27520" y="3745080"/>
            <a:ext cx="549720" cy="520920"/>
          </a:xfrm>
          <a:custGeom>
            <a:avLst/>
            <a:gdLst/>
            <a:ahLst/>
            <a:rect l="0" t="0" r="r" b="b"/>
            <a:pathLst>
              <a:path w="1527" h="1447">
                <a:moveTo>
                  <a:pt x="0" y="0"/>
                </a:moveTo>
                <a:lnTo>
                  <a:pt x="1527" y="0"/>
                </a:lnTo>
                <a:lnTo>
                  <a:pt x="1527" y="1447"/>
                </a:lnTo>
                <a:lnTo>
                  <a:pt x="0" y="144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19191"/>
              </a:gs>
              <a:gs pos="100000">
                <a:srgbClr val="deded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488280" y="2808360"/>
            <a:ext cx="549720" cy="519480"/>
          </a:xfrm>
          <a:custGeom>
            <a:avLst/>
            <a:gdLst/>
            <a:ahLst/>
            <a:rect l="0" t="0" r="r" b="b"/>
            <a:pathLst>
              <a:path w="1527" h="1443">
                <a:moveTo>
                  <a:pt x="0" y="0"/>
                </a:moveTo>
                <a:lnTo>
                  <a:pt x="1527" y="0"/>
                </a:lnTo>
                <a:lnTo>
                  <a:pt x="1527" y="1443"/>
                </a:lnTo>
                <a:lnTo>
                  <a:pt x="0" y="144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19191"/>
              </a:gs>
              <a:gs pos="100000">
                <a:srgbClr val="deded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870680" y="2060640"/>
            <a:ext cx="549720" cy="520920"/>
          </a:xfrm>
          <a:custGeom>
            <a:avLst/>
            <a:gdLst/>
            <a:ahLst/>
            <a:rect l="0" t="0" r="r" b="b"/>
            <a:pathLst>
              <a:path w="1527" h="1447">
                <a:moveTo>
                  <a:pt x="0" y="0"/>
                </a:moveTo>
                <a:lnTo>
                  <a:pt x="1527" y="0"/>
                </a:lnTo>
                <a:lnTo>
                  <a:pt x="1527" y="1447"/>
                </a:lnTo>
                <a:lnTo>
                  <a:pt x="0" y="144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19191"/>
              </a:gs>
              <a:gs pos="100000">
                <a:srgbClr val="deded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34200" y="809640"/>
            <a:ext cx="697320" cy="660600"/>
          </a:xfrm>
          <a:custGeom>
            <a:avLst/>
            <a:gdLst/>
            <a:ahLst/>
            <a:rect l="0" t="0" r="r" b="b"/>
            <a:pathLst>
              <a:path w="1937" h="1835">
                <a:moveTo>
                  <a:pt x="0" y="388"/>
                </a:moveTo>
                <a:lnTo>
                  <a:pt x="583" y="0"/>
                </a:lnTo>
                <a:lnTo>
                  <a:pt x="1937" y="0"/>
                </a:lnTo>
                <a:lnTo>
                  <a:pt x="1937" y="1438"/>
                </a:lnTo>
                <a:lnTo>
                  <a:pt x="1510" y="1835"/>
                </a:lnTo>
                <a:lnTo>
                  <a:pt x="1510" y="388"/>
                </a:lnTo>
                <a:lnTo>
                  <a:pt x="35" y="388"/>
                </a:lnTo>
                <a:lnTo>
                  <a:pt x="0" y="388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780320" y="817560"/>
            <a:ext cx="163440" cy="12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458120" y="1139760"/>
            <a:ext cx="104760" cy="104760"/>
          </a:xfrm>
          <a:prstGeom prst="ellipse">
            <a:avLst/>
          </a:prstGeom>
          <a:solidFill>
            <a:srgbClr val="c1c1c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6761160" y="1184400"/>
            <a:ext cx="728640" cy="4665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1366920"/>
            <a:ext cx="368280" cy="492120"/>
          </a:xfrm>
          <a:prstGeom prst="ellipse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5d5d5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529240" y="1603440"/>
            <a:ext cx="1177920" cy="6904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959280" y="2244600"/>
            <a:ext cx="1519200" cy="8496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054320" y="2295360"/>
            <a:ext cx="1462320" cy="84780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81440" y="2808360"/>
            <a:ext cx="330120" cy="511200"/>
          </a:xfrm>
          <a:prstGeom prst="ellipse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path path="rect">
              <a:fillToRect l="100000" t="0" r="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463840" y="3133800"/>
            <a:ext cx="1481040" cy="82692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694400" y="3846600"/>
            <a:ext cx="60948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435720" y="2890800"/>
            <a:ext cx="60948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7837560" y="2124000"/>
            <a:ext cx="60948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7230960" y="903240"/>
            <a:ext cx="60948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271680" y="2154240"/>
            <a:ext cx="10954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chr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386160" y="2373480"/>
            <a:ext cx="866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88280" y="2725560"/>
            <a:ext cx="632160" cy="605160"/>
          </a:xfrm>
          <a:custGeom>
            <a:avLst/>
            <a:gdLst/>
            <a:ahLst/>
            <a:rect l="0" t="0" r="r" b="b"/>
            <a:pathLst>
              <a:path w="1756" h="1681">
                <a:moveTo>
                  <a:pt x="0" y="211"/>
                </a:moveTo>
                <a:lnTo>
                  <a:pt x="255" y="0"/>
                </a:lnTo>
                <a:lnTo>
                  <a:pt x="1756" y="0"/>
                </a:lnTo>
                <a:lnTo>
                  <a:pt x="1756" y="1434"/>
                </a:lnTo>
                <a:lnTo>
                  <a:pt x="1535" y="1681"/>
                </a:lnTo>
                <a:lnTo>
                  <a:pt x="1535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04d665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7031160" y="2733840"/>
            <a:ext cx="9504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37240" y="3652920"/>
            <a:ext cx="632160" cy="606960"/>
          </a:xfrm>
          <a:custGeom>
            <a:avLst/>
            <a:gdLst/>
            <a:ahLst/>
            <a:rect l="0" t="0" r="r" b="b"/>
            <a:pathLst>
              <a:path w="1756" h="1686">
                <a:moveTo>
                  <a:pt x="0" y="216"/>
                </a:moveTo>
                <a:lnTo>
                  <a:pt x="255" y="0"/>
                </a:lnTo>
                <a:lnTo>
                  <a:pt x="1756" y="0"/>
                </a:lnTo>
                <a:lnTo>
                  <a:pt x="1756" y="1439"/>
                </a:lnTo>
                <a:lnTo>
                  <a:pt x="1531" y="1686"/>
                </a:lnTo>
                <a:lnTo>
                  <a:pt x="1531" y="216"/>
                </a:lnTo>
                <a:lnTo>
                  <a:pt x="0" y="216"/>
                </a:lnTo>
                <a:close/>
              </a:path>
            </a:pathLst>
          </a:custGeom>
          <a:solidFill>
            <a:srgbClr val="00a9e0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268960" y="3670200"/>
            <a:ext cx="9684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870680" y="1978200"/>
            <a:ext cx="632160" cy="606960"/>
          </a:xfrm>
          <a:custGeom>
            <a:avLst/>
            <a:gdLst/>
            <a:ahLst/>
            <a:rect l="0" t="0" r="r" b="b"/>
            <a:pathLst>
              <a:path w="1756" h="1686">
                <a:moveTo>
                  <a:pt x="0" y="216"/>
                </a:moveTo>
                <a:lnTo>
                  <a:pt x="255" y="0"/>
                </a:lnTo>
                <a:lnTo>
                  <a:pt x="1756" y="0"/>
                </a:lnTo>
                <a:lnTo>
                  <a:pt x="1756" y="1435"/>
                </a:lnTo>
                <a:lnTo>
                  <a:pt x="1535" y="1686"/>
                </a:lnTo>
                <a:lnTo>
                  <a:pt x="1535" y="216"/>
                </a:lnTo>
                <a:lnTo>
                  <a:pt x="0" y="21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8412120" y="1986120"/>
            <a:ext cx="9684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568840" y="2320920"/>
            <a:ext cx="1833840" cy="144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640" bIns="-62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19840" y="2790720"/>
            <a:ext cx="217440" cy="546120"/>
          </a:xfrm>
          <a:prstGeom prst="ellipse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5d5d5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064040" y="3710160"/>
            <a:ext cx="217440" cy="546120"/>
          </a:xfrm>
          <a:prstGeom prst="ellipse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5d5d5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035600" y="3068640"/>
            <a:ext cx="1909440" cy="1440"/>
          </a:xfrm>
          <a:prstGeom prst="line">
            <a:avLst/>
          </a:prstGeom>
          <a:ln w="38160">
            <a:solidFill>
              <a:srgbClr val="04d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640" bIns="-62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444760" y="3043080"/>
            <a:ext cx="1538280" cy="882720"/>
          </a:xfrm>
          <a:prstGeom prst="line">
            <a:avLst/>
          </a:prstGeom>
          <a:ln w="38160">
            <a:solidFill>
              <a:srgbClr val="04d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330280" y="3060720"/>
            <a:ext cx="1500480" cy="8492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28760" y="3622680"/>
            <a:ext cx="330120" cy="512640"/>
          </a:xfrm>
          <a:prstGeom prst="ellipse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path path="rect">
              <a:fillToRect l="100000" t="0" r="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019160" y="3960720"/>
            <a:ext cx="1368360" cy="825480"/>
          </a:xfrm>
          <a:prstGeom prst="line">
            <a:avLst/>
          </a:prstGeom>
          <a:ln w="76320">
            <a:solidFill>
              <a:srgbClr val="00a9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80920" y="3879720"/>
            <a:ext cx="1506600" cy="852480"/>
          </a:xfrm>
          <a:prstGeom prst="line">
            <a:avLst/>
          </a:prstGeom>
          <a:ln w="38160">
            <a:solidFill>
              <a:srgbClr val="04d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96760" y="3943440"/>
            <a:ext cx="1549800" cy="798840"/>
          </a:xfrm>
          <a:custGeom>
            <a:avLst/>
            <a:gdLst/>
            <a:ahLst/>
            <a:rect l="0" t="0" r="r" b="b"/>
            <a:pathLst>
              <a:path fill="none" w="4305" h="2219">
                <a:moveTo>
                  <a:pt x="0" y="2219"/>
                </a:moveTo>
                <a:lnTo>
                  <a:pt x="4305" y="0"/>
                </a:lnTo>
                <a:lnTo>
                  <a:pt x="4288" y="39"/>
                </a:lnTo>
              </a:path>
            </a:pathLst>
          </a:custGeom>
          <a:ln w="38160">
            <a:solidFill>
              <a:srgbClr val="ff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17520" y="4718160"/>
            <a:ext cx="6853320" cy="0"/>
          </a:xfrm>
          <a:prstGeom prst="line">
            <a:avLst/>
          </a:prstGeom>
          <a:ln w="76320">
            <a:solidFill>
              <a:srgbClr val="00a9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413320" y="3338640"/>
            <a:ext cx="12733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nd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584680" y="3557520"/>
            <a:ext cx="866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65160" y="341280"/>
            <a:ext cx="5160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Flow Cytometry Op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87960" y="4510080"/>
            <a:ext cx="1894320" cy="451080"/>
          </a:xfrm>
          <a:custGeom>
            <a:avLst/>
            <a:gdLst/>
            <a:ahLst/>
            <a:rect l="0" t="0" r="r" b="b"/>
            <a:pathLst>
              <a:path w="5262" h="1253">
                <a:moveTo>
                  <a:pt x="0" y="0"/>
                </a:moveTo>
                <a:lnTo>
                  <a:pt x="5262" y="0"/>
                </a:lnTo>
                <a:lnTo>
                  <a:pt x="5262" y="1253"/>
                </a:lnTo>
                <a:lnTo>
                  <a:pt x="0" y="125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909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797520" y="4519440"/>
            <a:ext cx="10796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La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478240" y="3970440"/>
            <a:ext cx="1614240" cy="81000"/>
          </a:xfrm>
          <a:prstGeom prst="line">
            <a:avLst/>
          </a:prstGeom>
          <a:ln w="76320">
            <a:solidFill>
              <a:srgbClr val="00a9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863960" y="4044960"/>
            <a:ext cx="2793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616800" y="3078000"/>
            <a:ext cx="2793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7989840" y="2338560"/>
            <a:ext cx="2793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402680" y="1212840"/>
            <a:ext cx="2793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85760" y="2502000"/>
            <a:ext cx="11462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w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59480" y="2008080"/>
            <a:ext cx="217440" cy="546120"/>
          </a:xfrm>
          <a:prstGeom prst="ellipse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5d5d5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800280" y="3865680"/>
            <a:ext cx="1496880" cy="8474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52480" y="4946760"/>
            <a:ext cx="155520" cy="225360"/>
          </a:xfrm>
          <a:prstGeom prst="ellipse">
            <a:avLst/>
          </a:pr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60400" y="3800520"/>
            <a:ext cx="154080" cy="1095480"/>
          </a:xfrm>
          <a:prstGeom prst="roundRect">
            <a:avLst/>
          </a:pr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52480" y="5261040"/>
            <a:ext cx="184320" cy="187200"/>
          </a:xfrm>
          <a:prstGeom prst="ellipse">
            <a:avLst/>
          </a:pr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879480" y="4346640"/>
            <a:ext cx="127440" cy="152640"/>
            <a:chOff x="879480" y="4346640"/>
            <a:chExt cx="127440" cy="152640"/>
          </a:xfrm>
        </p:grpSpPr>
        <p:sp>
          <p:nvSpPr>
            <p:cNvPr id="399" name=""/>
            <p:cNvSpPr/>
            <p:nvPr/>
          </p:nvSpPr>
          <p:spPr>
            <a:xfrm>
              <a:off x="879480" y="4346640"/>
              <a:ext cx="127440" cy="152640"/>
            </a:xfrm>
            <a:custGeom>
              <a:avLst/>
              <a:gdLst/>
              <a:ahLst/>
              <a:rect l="0" t="0" r="r" b="b"/>
              <a:pathLst>
                <a:path w="354" h="424">
                  <a:moveTo>
                    <a:pt x="354" y="239"/>
                  </a:moveTo>
                  <a:lnTo>
                    <a:pt x="337" y="83"/>
                  </a:lnTo>
                  <a:lnTo>
                    <a:pt x="243" y="0"/>
                  </a:lnTo>
                  <a:lnTo>
                    <a:pt x="146" y="0"/>
                  </a:lnTo>
                  <a:lnTo>
                    <a:pt x="52" y="39"/>
                  </a:lnTo>
                  <a:lnTo>
                    <a:pt x="0" y="141"/>
                  </a:lnTo>
                  <a:lnTo>
                    <a:pt x="0" y="269"/>
                  </a:lnTo>
                  <a:lnTo>
                    <a:pt x="44" y="380"/>
                  </a:lnTo>
                  <a:lnTo>
                    <a:pt x="146" y="424"/>
                  </a:lnTo>
                  <a:lnTo>
                    <a:pt x="319" y="367"/>
                  </a:lnTo>
                  <a:lnTo>
                    <a:pt x="354" y="252"/>
                  </a:lnTo>
                  <a:lnTo>
                    <a:pt x="354" y="239"/>
                  </a:lnTo>
                  <a:close/>
                </a:path>
              </a:pathLst>
            </a:custGeom>
            <a:blipFill rotWithShape="0">
              <a:blip r:embed="rId8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95320" y="4398840"/>
              <a:ext cx="86040" cy="82800"/>
            </a:xfrm>
            <a:custGeom>
              <a:avLst/>
              <a:gdLst/>
              <a:ahLst/>
              <a:rect l="0" t="0" r="r" b="b"/>
              <a:pathLst>
                <a:path w="239" h="230">
                  <a:moveTo>
                    <a:pt x="97" y="230"/>
                  </a:moveTo>
                  <a:lnTo>
                    <a:pt x="133" y="217"/>
                  </a:lnTo>
                  <a:lnTo>
                    <a:pt x="168" y="172"/>
                  </a:lnTo>
                  <a:lnTo>
                    <a:pt x="239" y="172"/>
                  </a:lnTo>
                  <a:lnTo>
                    <a:pt x="239" y="114"/>
                  </a:lnTo>
                  <a:lnTo>
                    <a:pt x="239" y="57"/>
                  </a:lnTo>
                  <a:lnTo>
                    <a:pt x="239" y="0"/>
                  </a:lnTo>
                  <a:lnTo>
                    <a:pt x="168" y="0"/>
                  </a:lnTo>
                  <a:lnTo>
                    <a:pt x="97" y="57"/>
                  </a:lnTo>
                  <a:lnTo>
                    <a:pt x="168" y="74"/>
                  </a:lnTo>
                  <a:lnTo>
                    <a:pt x="239" y="114"/>
                  </a:lnTo>
                  <a:lnTo>
                    <a:pt x="168" y="172"/>
                  </a:lnTo>
                  <a:lnTo>
                    <a:pt x="97" y="172"/>
                  </a:lnTo>
                  <a:lnTo>
                    <a:pt x="26" y="172"/>
                  </a:lnTo>
                  <a:lnTo>
                    <a:pt x="0" y="203"/>
                  </a:lnTo>
                  <a:lnTo>
                    <a:pt x="17" y="225"/>
                  </a:lnTo>
                  <a:lnTo>
                    <a:pt x="97" y="230"/>
                  </a:lnTo>
                  <a:close/>
                </a:path>
              </a:pathLst>
            </a:custGeom>
            <a:solidFill>
              <a:srgbClr val="714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895320" y="4665600"/>
            <a:ext cx="103680" cy="108360"/>
            <a:chOff x="895320" y="4665600"/>
            <a:chExt cx="103680" cy="108360"/>
          </a:xfrm>
        </p:grpSpPr>
        <p:sp>
          <p:nvSpPr>
            <p:cNvPr id="402" name=""/>
            <p:cNvSpPr/>
            <p:nvPr/>
          </p:nvSpPr>
          <p:spPr>
            <a:xfrm>
              <a:off x="895320" y="4665600"/>
              <a:ext cx="103680" cy="108360"/>
            </a:xfrm>
            <a:custGeom>
              <a:avLst/>
              <a:gdLst/>
              <a:ahLst/>
              <a:rect l="0" t="0" r="r" b="b"/>
              <a:pathLst>
                <a:path w="288" h="301">
                  <a:moveTo>
                    <a:pt x="288" y="168"/>
                  </a:moveTo>
                  <a:lnTo>
                    <a:pt x="275" y="61"/>
                  </a:lnTo>
                  <a:lnTo>
                    <a:pt x="199" y="0"/>
                  </a:lnTo>
                  <a:lnTo>
                    <a:pt x="120" y="0"/>
                  </a:lnTo>
                  <a:lnTo>
                    <a:pt x="44" y="30"/>
                  </a:lnTo>
                  <a:lnTo>
                    <a:pt x="0" y="102"/>
                  </a:lnTo>
                  <a:lnTo>
                    <a:pt x="0" y="190"/>
                  </a:lnTo>
                  <a:lnTo>
                    <a:pt x="35" y="270"/>
                  </a:lnTo>
                  <a:lnTo>
                    <a:pt x="120" y="301"/>
                  </a:lnTo>
                  <a:lnTo>
                    <a:pt x="262" y="262"/>
                  </a:lnTo>
                  <a:lnTo>
                    <a:pt x="288" y="181"/>
                  </a:lnTo>
                  <a:lnTo>
                    <a:pt x="288" y="168"/>
                  </a:lnTo>
                  <a:close/>
                </a:path>
              </a:pathLst>
            </a:custGeom>
            <a:blipFill rotWithShape="0">
              <a:blip r:embed="rId9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27000" y="4692600"/>
              <a:ext cx="71280" cy="81000"/>
            </a:xfrm>
            <a:prstGeom prst="ellipse">
              <a:avLst/>
            </a:prstGeom>
            <a:solidFill>
              <a:srgbClr val="714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847800" y="5497560"/>
            <a:ext cx="173160" cy="158760"/>
            <a:chOff x="847800" y="5497560"/>
            <a:chExt cx="173160" cy="158760"/>
          </a:xfrm>
        </p:grpSpPr>
        <p:sp>
          <p:nvSpPr>
            <p:cNvPr id="405" name=""/>
            <p:cNvSpPr/>
            <p:nvPr/>
          </p:nvSpPr>
          <p:spPr>
            <a:xfrm>
              <a:off x="847800" y="5497560"/>
              <a:ext cx="173160" cy="158760"/>
            </a:xfrm>
            <a:prstGeom prst="ellipse">
              <a:avLst/>
            </a:prstGeom>
            <a:blipFill rotWithShape="0">
              <a:blip r:embed="rId10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892080" y="5533920"/>
              <a:ext cx="100440" cy="100440"/>
              <a:chOff x="892080" y="5533920"/>
              <a:chExt cx="100440" cy="100440"/>
            </a:xfrm>
          </p:grpSpPr>
          <p:sp>
            <p:nvSpPr>
              <p:cNvPr id="407" name=""/>
              <p:cNvSpPr/>
              <p:nvPr/>
            </p:nvSpPr>
            <p:spPr>
              <a:xfrm>
                <a:off x="892080" y="5533920"/>
                <a:ext cx="100440" cy="100440"/>
              </a:xfrm>
              <a:custGeom>
                <a:avLst/>
                <a:gdLst/>
                <a:ahLst/>
                <a:rect l="0" t="0" r="r" b="b"/>
                <a:pathLst>
                  <a:path w="279" h="279">
                    <a:moveTo>
                      <a:pt x="279" y="159"/>
                    </a:moveTo>
                    <a:lnTo>
                      <a:pt x="266" y="57"/>
                    </a:lnTo>
                    <a:lnTo>
                      <a:pt x="195" y="0"/>
                    </a:lnTo>
                    <a:lnTo>
                      <a:pt x="115" y="0"/>
                    </a:lnTo>
                    <a:lnTo>
                      <a:pt x="44" y="26"/>
                    </a:lnTo>
                    <a:lnTo>
                      <a:pt x="0" y="93"/>
                    </a:lnTo>
                    <a:lnTo>
                      <a:pt x="0" y="177"/>
                    </a:lnTo>
                    <a:lnTo>
                      <a:pt x="35" y="253"/>
                    </a:lnTo>
                    <a:lnTo>
                      <a:pt x="115" y="279"/>
                    </a:lnTo>
                    <a:lnTo>
                      <a:pt x="253" y="244"/>
                    </a:lnTo>
                    <a:lnTo>
                      <a:pt x="279" y="168"/>
                    </a:lnTo>
                    <a:lnTo>
                      <a:pt x="279" y="159"/>
                    </a:lnTo>
                    <a:close/>
                  </a:path>
                </a:pathLst>
              </a:custGeom>
              <a:blipFill rotWithShape="0">
                <a:blip r:embed="rId11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9320" bIns="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919080" y="5560920"/>
                <a:ext cx="73080" cy="7308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"/>
          <p:cNvGrpSpPr/>
          <p:nvPr/>
        </p:nvGrpSpPr>
        <p:grpSpPr>
          <a:xfrm>
            <a:off x="870120" y="4965840"/>
            <a:ext cx="114840" cy="170280"/>
            <a:chOff x="870120" y="4965840"/>
            <a:chExt cx="114840" cy="170280"/>
          </a:xfrm>
        </p:grpSpPr>
        <p:sp>
          <p:nvSpPr>
            <p:cNvPr id="410" name=""/>
            <p:cNvSpPr/>
            <p:nvPr/>
          </p:nvSpPr>
          <p:spPr>
            <a:xfrm>
              <a:off x="870120" y="4965840"/>
              <a:ext cx="114840" cy="170280"/>
            </a:xfrm>
            <a:custGeom>
              <a:avLst/>
              <a:gdLst/>
              <a:ahLst/>
              <a:rect l="0" t="0" r="r" b="b"/>
              <a:pathLst>
                <a:path w="319" h="473">
                  <a:moveTo>
                    <a:pt x="319" y="269"/>
                  </a:moveTo>
                  <a:lnTo>
                    <a:pt x="301" y="92"/>
                  </a:lnTo>
                  <a:lnTo>
                    <a:pt x="221" y="0"/>
                  </a:lnTo>
                  <a:lnTo>
                    <a:pt x="128" y="0"/>
                  </a:lnTo>
                  <a:lnTo>
                    <a:pt x="48" y="48"/>
                  </a:lnTo>
                  <a:lnTo>
                    <a:pt x="0" y="159"/>
                  </a:lnTo>
                  <a:lnTo>
                    <a:pt x="0" y="300"/>
                  </a:lnTo>
                  <a:lnTo>
                    <a:pt x="39" y="425"/>
                  </a:lnTo>
                  <a:lnTo>
                    <a:pt x="128" y="473"/>
                  </a:lnTo>
                  <a:lnTo>
                    <a:pt x="288" y="407"/>
                  </a:lnTo>
                  <a:lnTo>
                    <a:pt x="319" y="283"/>
                  </a:lnTo>
                  <a:lnTo>
                    <a:pt x="319" y="269"/>
                  </a:lnTo>
                  <a:close/>
                </a:path>
              </a:pathLst>
            </a:custGeom>
            <a:blipFill rotWithShape="0">
              <a:blip r:embed="rId12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917640" y="4971960"/>
              <a:ext cx="44640" cy="155880"/>
            </a:xfrm>
            <a:custGeom>
              <a:avLst/>
              <a:gdLst/>
              <a:ahLst/>
              <a:rect l="0" t="0" r="r" b="b"/>
              <a:pathLst>
                <a:path w="124" h="433">
                  <a:moveTo>
                    <a:pt x="61" y="0"/>
                  </a:moveTo>
                  <a:lnTo>
                    <a:pt x="124" y="110"/>
                  </a:lnTo>
                  <a:lnTo>
                    <a:pt x="124" y="217"/>
                  </a:lnTo>
                  <a:lnTo>
                    <a:pt x="124" y="327"/>
                  </a:lnTo>
                  <a:lnTo>
                    <a:pt x="61" y="433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61" y="217"/>
                  </a:lnTo>
                  <a:lnTo>
                    <a:pt x="0" y="217"/>
                  </a:lnTo>
                  <a:lnTo>
                    <a:pt x="0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14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835200" y="5729400"/>
            <a:ext cx="184320" cy="181080"/>
          </a:xfrm>
          <a:prstGeom prst="ellipse">
            <a:avLst/>
          </a:pr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07920" y="5952960"/>
            <a:ext cx="196920" cy="201600"/>
          </a:xfrm>
          <a:prstGeom prst="ellipse">
            <a:avLst/>
          </a:pr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863640" y="5772240"/>
            <a:ext cx="130680" cy="124200"/>
            <a:chOff x="863640" y="5772240"/>
            <a:chExt cx="130680" cy="124200"/>
          </a:xfrm>
        </p:grpSpPr>
        <p:sp>
          <p:nvSpPr>
            <p:cNvPr id="415" name=""/>
            <p:cNvSpPr/>
            <p:nvPr/>
          </p:nvSpPr>
          <p:spPr>
            <a:xfrm>
              <a:off x="863640" y="5772240"/>
              <a:ext cx="130680" cy="124200"/>
            </a:xfrm>
            <a:custGeom>
              <a:avLst/>
              <a:gdLst/>
              <a:ahLst/>
              <a:rect l="0" t="0" r="r" b="b"/>
              <a:pathLst>
                <a:path w="363" h="345">
                  <a:moveTo>
                    <a:pt x="363" y="195"/>
                  </a:moveTo>
                  <a:lnTo>
                    <a:pt x="345" y="70"/>
                  </a:lnTo>
                  <a:lnTo>
                    <a:pt x="252" y="0"/>
                  </a:lnTo>
                  <a:lnTo>
                    <a:pt x="150" y="0"/>
                  </a:lnTo>
                  <a:lnTo>
                    <a:pt x="57" y="35"/>
                  </a:lnTo>
                  <a:lnTo>
                    <a:pt x="0" y="115"/>
                  </a:lnTo>
                  <a:lnTo>
                    <a:pt x="0" y="217"/>
                  </a:lnTo>
                  <a:lnTo>
                    <a:pt x="48" y="310"/>
                  </a:lnTo>
                  <a:lnTo>
                    <a:pt x="150" y="345"/>
                  </a:lnTo>
                  <a:lnTo>
                    <a:pt x="328" y="297"/>
                  </a:lnTo>
                  <a:lnTo>
                    <a:pt x="363" y="208"/>
                  </a:lnTo>
                  <a:lnTo>
                    <a:pt x="363" y="195"/>
                  </a:lnTo>
                  <a:close/>
                </a:path>
              </a:pathLst>
            </a:custGeom>
            <a:blipFill rotWithShape="0">
              <a:blip r:embed="rId15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4400" y="5775480"/>
              <a:ext cx="52920" cy="114840"/>
            </a:xfrm>
            <a:custGeom>
              <a:avLst/>
              <a:gdLst/>
              <a:ahLst/>
              <a:rect l="0" t="0" r="r" b="b"/>
              <a:pathLst>
                <a:path w="147" h="319">
                  <a:moveTo>
                    <a:pt x="75" y="0"/>
                  </a:moveTo>
                  <a:lnTo>
                    <a:pt x="147" y="79"/>
                  </a:lnTo>
                  <a:lnTo>
                    <a:pt x="147" y="159"/>
                  </a:lnTo>
                  <a:lnTo>
                    <a:pt x="147" y="240"/>
                  </a:lnTo>
                  <a:lnTo>
                    <a:pt x="75" y="319"/>
                  </a:lnTo>
                  <a:lnTo>
                    <a:pt x="0" y="319"/>
                  </a:lnTo>
                  <a:lnTo>
                    <a:pt x="0" y="240"/>
                  </a:lnTo>
                  <a:lnTo>
                    <a:pt x="75" y="159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714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696960" y="3033720"/>
            <a:ext cx="442800" cy="8618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19191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6040" y="3862440"/>
            <a:ext cx="413280" cy="344880"/>
          </a:xfrm>
          <a:custGeom>
            <a:avLst/>
            <a:gdLst/>
            <a:ahLst/>
            <a:rect l="0" t="0" r="r" b="b"/>
            <a:pathLst>
              <a:path w="1148" h="958">
                <a:moveTo>
                  <a:pt x="0" y="0"/>
                </a:moveTo>
                <a:lnTo>
                  <a:pt x="167" y="954"/>
                </a:lnTo>
                <a:lnTo>
                  <a:pt x="367" y="764"/>
                </a:lnTo>
                <a:lnTo>
                  <a:pt x="499" y="720"/>
                </a:lnTo>
                <a:lnTo>
                  <a:pt x="662" y="720"/>
                </a:lnTo>
                <a:lnTo>
                  <a:pt x="834" y="791"/>
                </a:lnTo>
                <a:lnTo>
                  <a:pt x="1025" y="958"/>
                </a:lnTo>
                <a:lnTo>
                  <a:pt x="114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14520" y="3317760"/>
            <a:ext cx="614520" cy="1666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19191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urdue University Cytometry Laboratories</dc:creator>
  <dc:description/>
  <dc:language>en-US</dc:language>
  <cp:lastModifiedBy>Cytometry Laboratories</cp:lastModifiedBy>
  <cp:revision>0</cp:revision>
  <dc:subject/>
  <dc:title>flow technical</dc:title>
</cp:coreProperties>
</file>